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DE1-6B0A-444E-B6E7-F37F8145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917-2017-4810-9F60-49CD8E15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627-2716-4A2D-9067-A8939598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C24-56B4-448C-AF38-539B151E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F4C-9BD7-4B76-B72A-D912B5D3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50B-94D5-43A6-8036-715FCAA1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E49-D5B0-4043-A77E-02FD6511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C52-9E99-48B6-A68A-8C6AA477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3C0-BDC3-4194-A9B3-3B726863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5C1-8D7B-417E-ACD3-F24E7DB2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853-27CD-4FCB-85DD-F2FAEE37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730-6E09-41A4-90D1-DC36ED1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462C-5E6B-47AE-B08B-62F73B08E81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m</cp:lastModifiedBy>
  <dcterms:modified xsi:type="dcterms:W3CDTF">2005-10-28T15:40:35Z</dcterms:modified>
  <cp:revision>16</cp:revision>
  <dc:subject/>
  <dc:title>Sin título de diapositiva</dc:title>
</cp:coreProperties>
</file>