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C501-B562-429D-B137-FAF9E997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E85-D277-43D7-8871-7D9765A5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314-D18D-459E-AD94-BF150558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448-A380-4578-9C9B-A7DBD841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9212-602D-4C5A-9C73-9FCCAEA2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371-F5D0-4A50-A112-093E3548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AEA-B82B-454B-9A7D-D093718B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25E-08A0-48D6-A810-93A1937E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046E-9E0B-4ADA-B725-652A6A67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7FD7-B4FB-4729-8F92-D66AB442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569-7D21-4B41-9A68-38EE4684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07E-6564-4637-A5F2-FF699772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1544-E0EF-42E1-B628-E218106F61F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m</cp:lastModifiedBy>
  <dcterms:modified xsi:type="dcterms:W3CDTF">2005-10-28T15:40:35Z</dcterms:modified>
  <cp:revision>16</cp:revision>
  <dc:subject/>
  <dc:title>Sin título de diapositiva</dc:title>
</cp:coreProperties>
</file>