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BEBD-F08A-4502-A083-F726CA709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815-7586-41D1-8C34-8499BDCB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6F6-F8C8-42A3-BEA6-F029ED7E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07BF-ADAF-4FF0-AFE7-0D0527B51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37C-A36D-4C62-83B9-5F06FE5A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A65B-00A0-45EF-9331-A7147666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54C4-C70D-44AD-B2C6-4113B85B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B4A2-217B-44CC-851C-2417214D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B916-4AEB-41CD-88B7-32D70551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2C55-5AD1-4F83-B8DC-EDA5C915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4D4-B3AC-4221-8380-C9E7DE52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092-B76D-433A-B24A-D6147EB2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3A94-40D9-448B-A924-82B3D1C1C31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70920" y="985320"/>
            <a:ext cx="3373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2430360"/>
            <a:ext cx="4572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l a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sto de 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4267080" y="236196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67080" y="5181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54520" y="251352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164000" y="525672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7080" y="228600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76160" y="5836680"/>
            <a:ext cx="364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2800" y="3382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83000" y="7290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¿Costo transporte públic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74636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 de los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o operación de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746360"/>
            <a:ext cx="4343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reciente con número de  usuarios (si la oferta es fi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Costo medio decreciente           (Allport, 19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4108680"/>
            <a:ext cx="2971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generalizado de transporte público C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arifa+tesp+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352680" y="38095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6477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572000"/>
            <a:ext cx="3048120" cy="5335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029200" y="3886200"/>
                <a:ext cx="550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5487480" y="4037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3200" y="41518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g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391520" y="3962520"/>
                <a:ext cx="11570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886080" y="4989960"/>
            <a:ext cx="7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C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7588080" y="4800600"/>
                <a:ext cx="551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121600" y="4952880"/>
                <a:ext cx="533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 rot="16250400">
            <a:off x="7772400" y="5181120"/>
            <a:ext cx="228600" cy="1295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0200" y="609480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170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Demanda fija 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quilibrio entre bus y au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transporte público - transporte priv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514600" y="28954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57913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8862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89480" y="32850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29718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886200" y="28954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950160" y="34070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4191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6172200"/>
            <a:ext cx="1752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82320" y="57693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6172200"/>
            <a:ext cx="24386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373000" y="57693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65530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92520" y="62092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50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se realiza un proyecto que mejora la infraestructura par el a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7339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36576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886200" y="54864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5146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14600" y="3733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1720" y="5942880"/>
            <a:ext cx="415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Pasa esto en Santiag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8625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quilibrio Multi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de TP son cautiv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14600" y="2438280"/>
            <a:ext cx="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533412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429000"/>
            <a:ext cx="419112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9480" y="2827800"/>
            <a:ext cx="73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705720" y="251460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24382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950160" y="2949840"/>
            <a:ext cx="81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/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580560" y="2743200"/>
            <a:ext cx="312444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14600" y="5715000"/>
            <a:ext cx="26668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2320" y="5312160"/>
            <a:ext cx="53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81480" y="5715000"/>
            <a:ext cx="152424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73000" y="5312160"/>
            <a:ext cx="621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a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4191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92520" y="575208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8862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91160" y="5325480"/>
            <a:ext cx="400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15200" y="4966920"/>
            <a:ext cx="152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Y en el largo plaz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783360"/>
            <a:ext cx="792468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dicen los da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Encuesta de Transporte Público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71% de los usuarios de bus no tiene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24% tiene un auto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4% tiene do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1% tiene 3 o más autos en 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los usuarios perciben el costo margin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8120" y="2666880"/>
            <a:ext cx="3581280" cy="229896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26668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733920"/>
            <a:ext cx="41148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3733920"/>
            <a:ext cx="4114800" cy="1143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51320" y="353448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87960" y="3653640"/>
            <a:ext cx="3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1080" y="41058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4191120"/>
            <a:ext cx="15228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114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0384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1972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09480" y="453240"/>
            <a:ext cx="79250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hay congestión en el sistema de Transporte Públ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514600" y="22093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56386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629400" y="21337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3048120"/>
            <a:ext cx="4114800" cy="1549440"/>
          </a:xfrm>
          <a:custGeom>
            <a:avLst/>
            <a:gdLst/>
            <a:ahLst/>
            <a:rect l="l" t="t" r="r" b="b"/>
            <a:pathLst>
              <a:path w="2592" h="976">
                <a:moveTo>
                  <a:pt x="0" y="0"/>
                </a:moveTo>
                <a:cubicBezTo>
                  <a:pt x="504" y="376"/>
                  <a:pt x="1008" y="752"/>
                  <a:pt x="1440" y="864"/>
                </a:cubicBezTo>
                <a:cubicBezTo>
                  <a:pt x="1872" y="976"/>
                  <a:pt x="2232" y="824"/>
                  <a:pt x="2592" y="67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7120" y="2416680"/>
            <a:ext cx="522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52160" y="2492640"/>
            <a:ext cx="456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09880" y="1981080"/>
            <a:ext cx="281952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505320" y="2286000"/>
            <a:ext cx="3124080" cy="2286000"/>
          </a:xfrm>
          <a:custGeom>
            <a:avLst/>
            <a:gdLst/>
            <a:ahLst/>
            <a:rect l="l" t="t" r="r" b="b"/>
            <a:pathLst>
              <a:path w="1248" h="920">
                <a:moveTo>
                  <a:pt x="0" y="912"/>
                </a:moveTo>
                <a:cubicBezTo>
                  <a:pt x="328" y="916"/>
                  <a:pt x="656" y="920"/>
                  <a:pt x="864" y="768"/>
                </a:cubicBezTo>
                <a:cubicBezTo>
                  <a:pt x="1072" y="616"/>
                  <a:pt x="1160" y="308"/>
                  <a:pt x="1248" y="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2670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5520" y="44956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743040"/>
            <a:ext cx="79250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aradoja de Mogri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Vías rever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Restricción veh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m</cp:lastModifiedBy>
  <dcterms:modified xsi:type="dcterms:W3CDTF">2005-10-28T15:40:35Z</dcterms:modified>
  <cp:revision>16</cp:revision>
  <dc:subject/>
  <dc:title>Sin título de diapositiva</dc:title>
</cp:coreProperties>
</file>