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542-67DE-426F-A739-D9872255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A95-2FF9-4804-BE05-4B0A8BF5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DE8-5E06-4128-AEB4-8A5F1515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C23-23FB-44BB-BEFD-72D6E369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E59-C237-407C-A2D4-EF15A634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33B-4AA2-4BC0-BBC8-E9680370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697-59E8-4329-AAC7-E562F338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257-D7FB-460C-B9AF-82FD875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1E7-60E7-4DD7-B6AC-0C17EC30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51C-B369-4D84-8578-424E345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D55-E28C-437B-BAA5-131CC8D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E54-873E-47AD-85C0-145F4E7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D5C-F3B6-4425-BF8C-EC1C9F42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8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6" dur="indefinite" restart="never" nodeType="tmRoot">
          <p:childTnLst>
            <p:seq>
              <p:cTn id="4197" dur="indefinite" nodeType="mainSeq">
                <p:childTnLst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6" fill="hold">
                      <p:stCondLst>
                        <p:cond delay="indefinite"/>
                      </p:stCondLst>
                      <p:childTnLst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2" fill="hold">
                      <p:stCondLst>
                        <p:cond delay="indefinite"/>
                      </p:stCondLst>
                      <p:childTnLst>
                        <p:par>
                          <p:cTn id="4223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fill="hold">
                      <p:stCondLst>
                        <p:cond delay="indefinite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10-16T09:43:50Z</dcterms:modified>
  <cp:revision>104</cp:revision>
  <dc:subject/>
  <dc:title>Sin título de diapositiva</dc:title>
</cp:coreProperties>
</file>