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CF8-214B-4EF7-9C54-AE64CE9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A9D-3BB8-4789-9273-2EF060D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070-B852-4772-AADE-B8694845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AF8-4BD2-4CCD-ADD6-EE78FCDD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2C22-CE83-4573-A09F-5598E2E6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29D7-3EB4-481C-9434-E0ECC0E7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FDF9-0554-47AD-AF6C-C0FCF8C3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F882-EB93-4D78-B1F7-A1A12C2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88B-E439-4BD3-9DF3-B09D56F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3A7-9D31-4593-A4A2-99967DF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80B2-ECED-41BB-A9A0-B0BD0C5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AFE-3D5A-4DAF-9016-B757F23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1741-B69B-4618-A559-6079607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E08B-E597-405C-89AC-154BBA1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3CE4-CE70-41ED-ACBF-4E0EC6B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FA07-B307-4D0B-861F-F34C54F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35A0-F57A-4F63-9342-A9678B14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09F-5076-48E6-A66F-FF99990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4FA-F11B-4912-A7B3-57327C2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653-7970-4988-BDA7-ADAF7901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EEB-4A23-4E6E-BBDC-769956D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032-45E5-427A-9DED-A683577C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8DC-F431-4C25-8EA1-21DE378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4F5-8C41-4E12-9F71-4D8E7DA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9904-ED07-4A0F-BC31-A742400E6FF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8DEA-671B-497F-A2CE-47649F41F6F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oría de Circu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 de Octu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76640"/>
            <a:ext cx="7920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Realizar mediciones en terreno de variables de tráf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ugar de medición: Av. Blanco Encalada – Club H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mediciones que deben realizar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la inters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erde y ciclo del semáf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ora media (s/v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asa de llegada o flujo (veh/h-p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deben ubicar un punto en el gráfico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78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el tr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 Densidad (veh/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y el flujo deben dibujar u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nto en el gráfico flujo – densidad visto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y comentar las diferencias con la curva del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n ambos casos debe coment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 metodología utilizada para tomar las medicion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s fuentes de error que detect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os problemas que se presenten y propuestas par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mejorar la metod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0-05T01:18:21Z</dcterms:modified>
  <cp:revision>73</cp:revision>
  <dc:subject/>
  <dc:title>Taller  I</dc:title>
</cp:coreProperties>
</file>