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8CEF-C51E-4239-86AA-42866A11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FF0-C8C7-4DBC-BE18-990AB542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D4B-C00D-4ACF-9FFC-4C717709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FDD-7687-45FB-80D2-F2A33021F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B518-CEF4-447A-BE30-7BE258D6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EDE0-9537-422F-AFBF-85D74EB4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8822-93F7-4D5F-A13E-4058A259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AF1A-4E33-4C6F-B052-AE2A4B9E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8BAB-AB8E-4BB0-8AD1-88E4E5568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0CFC-B127-46DB-8C57-916096E5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EE72-C459-410B-A419-59557A35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6175-E5AA-47C7-9ACF-76A1D029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FDD7-30E2-4FF8-983A-44201F6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E6A-BE7C-43E2-984F-AEBD66E6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8D3F-1F0E-4F63-8AF5-073830FC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6C22-FDA4-4F8C-9B50-690F2781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1E67-D65D-4C1F-8837-31ACBBC1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9DEF-DACB-4ED7-B989-0D1A3995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A85A-DD24-40CE-B33C-C1609C27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92F-3356-4491-9E99-6A2A84C6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4F4-1C2C-4979-B878-07A6F9DC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714-554A-41A7-AC48-4C3E31F5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232-00EB-4263-B305-1351C826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67D9-B4C0-4400-9264-99C5533E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5F9E-B261-4A66-AFFD-B6DA15193327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F4FB-255F-4BC5-8E54-3FFC139F3959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I43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aller  VII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8000" y="256536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ahoma"/>
              </a:rPr>
              <a:t>Asignación de Viajes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oría de Circu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360" y="5950080"/>
            <a:ext cx="4616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 de Octubre de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5229360"/>
            <a:ext cx="43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OBJE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2276640"/>
            <a:ext cx="7920000" cy="14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ahoma"/>
              </a:rPr>
              <a:t>Realizar mediciones en terreno de variables de tráfic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989000"/>
            <a:ext cx="784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ugar de medición: Av. Blanco Encalada – Club Híp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s mediciones que deben realizar son las sigui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la interse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iempo de verde y ciclo del semáf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mora media (s/ve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asa de llegada o flujo (veh/h-pist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 esta información deben ubicar un punto en el gráfico correspond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1916280"/>
            <a:ext cx="77724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404640"/>
            <a:ext cx="338472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1773360"/>
            <a:ext cx="78138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n el tra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 Densidad (veh/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 esta información y el flujo deben dibujar u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nto en el gráfico flujo – densidad visto e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ases y comentar las diferencias con la curva del mod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En ambos casos debe comenta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a metodología utilizada para tomar las medicione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as fuentes de error que detecte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612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Los problemas que se presenten y propuestas para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mejorar la metodologí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10-05T01:18:21Z</dcterms:modified>
  <cp:revision>73</cp:revision>
  <dc:subject/>
  <dc:title>Taller  I</dc:title>
</cp:coreProperties>
</file>