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DDF3-96BE-41F3-9A58-348692DC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6B17-613B-4B37-BAF3-77D7A31C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5698-842A-4B39-8BDE-2F4B323F9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6F3D-74EF-423B-8B83-375734D6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FECD-8A63-42BA-A802-DCD7CFC4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F312-2C4D-4973-8910-7E315B80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C2ED-7B70-425D-BF36-697F25D2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8201-5F2A-4E66-ACCC-4BA70C7D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1DFB-DAA0-4FE1-B923-CF349CBF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9F1B-479C-47FC-A60D-368A6C3D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887B-3360-42B4-A934-3F5CE95D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E641-B915-4645-B801-BCD930D9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3DA8-505A-4892-B4AE-632AE270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D499-C9A8-4BE6-83C3-CC4E1D8C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612A-667C-4C33-8E16-60CDC3CD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7896-3EA9-4E54-9650-3F19F9E07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1945-0158-44F2-975A-E7B9D0AE2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0B26-9293-4EED-B5EF-52552115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7D30-9C9F-4693-A7E0-C559D178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7DB7-EA25-47C9-8123-0B8A7A32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E727-8576-4A51-B38C-336C0F85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B6BE-5C1C-4FCB-9706-A8B5DA6E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7E90-AF25-4576-AECE-8D730BED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F42C-05FD-4BA9-A204-522C05D5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5650-3471-4A7C-B140-CA22081E291A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7F68-A8E8-4F44-AA74-37A366056F55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I43A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aller  VII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68000" y="2565360"/>
            <a:ext cx="828036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Asignación de Viajes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oría de Circul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51055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68360" y="5950080"/>
            <a:ext cx="4616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6 de Octubre de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5229360"/>
            <a:ext cx="43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tallerci43a@gmail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00000" y="1916280"/>
            <a:ext cx="77724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404640"/>
            <a:ext cx="338472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OBJE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2276640"/>
            <a:ext cx="792000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ahoma"/>
              </a:rPr>
              <a:t>Realizar mediciones en terreno de variables de tráfic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00000" y="1916280"/>
            <a:ext cx="77724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404640"/>
            <a:ext cx="338472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PROBLE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989000"/>
            <a:ext cx="784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ugar de medición: Av. Blanco Encalada – Club Híp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s mediciones que deben realizar son las sigui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n la intersec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iempo de verde y ciclo del semáf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mora media (s/ve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asa de llegada o flujo (veh/h-pist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 esta información deben ubicar un punto en el gráfico correspond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00000" y="1916280"/>
            <a:ext cx="77724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404640"/>
            <a:ext cx="338472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PROBLE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1773360"/>
            <a:ext cx="78138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16040" indent="612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n el tra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6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 Densidad (veh/k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6120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 esta información y el flujo deben dibujar un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unto en el gráfico flujo – densidad visto en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lases y comentar las diferencias con la curva del mode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6120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6120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En ambos casos debe comenta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6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La metodología utilizada para tomar las medicione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6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Las fuentes de error que detect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6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Los problemas que se presenten y propuestas para 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mejorar la metodologí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21:18:51Z</dcterms:created>
  <dc:creator>F M</dc:creator>
  <dc:description/>
  <dc:language>en-US</dc:language>
  <cp:lastModifiedBy>Vargas Quezada</cp:lastModifiedBy>
  <dcterms:modified xsi:type="dcterms:W3CDTF">2006-10-05T01:18:21Z</dcterms:modified>
  <cp:revision>73</cp:revision>
  <dc:subject/>
  <dc:title>Taller  I</dc:title>
</cp:coreProperties>
</file>