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217-A93D-4447-AF13-2AA9ED96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B38-04FD-4518-98BF-8AAD64A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91F-3C31-4C0B-A2BC-14DDBFD2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577-F896-4249-888F-DCC1D71B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A50D-9765-4B83-8AAD-35DAD801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1B09-63E5-4B6C-9868-CADE3361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437-58A0-4B17-8FBB-6695EC6D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61A0-B797-4356-8E86-61D7372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1166-5684-425C-8E2A-F2406EFE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DC4F-D95E-477A-98D2-DBCF91E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C7AB-2B43-4EF8-A8A6-7FBAC62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FBE-E208-475B-AFAB-A8F5597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31DA-9A1D-4BEC-9990-4B6CABF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71CC-8D76-4467-8A16-85A49CF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98E4-386F-4AAB-A295-17BA7B82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82B-6199-49C3-9EF9-03ED6115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9C48-27C3-4D38-B0AB-C78A4C28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DFF-DAE0-41C2-B022-08B00B8B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93F-C86E-43BC-BB33-7C72739D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823-97B3-40CF-A700-0B51D37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3EF-72A4-4297-BC30-E9A2A7D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FAB-1ACA-46EE-AA1F-8F8A851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35A-41DF-4E9E-B609-2DA8D92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9B8-2C64-4F07-A1CF-623E1FE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E0A0-7AC5-4D56-BFE3-08CA408850E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93D7-2E3F-4FCB-9BD9-1BFAA494FBF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oría de Circu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 de Octu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276640"/>
            <a:ext cx="7920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Realizar mediciones en terreno de variables de tráf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ugar de medición: Av. Blanco Encalada – Club H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mediciones que deben realizar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la inters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erde y ciclo del semáf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ora media (s/v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asa de llegada o flujo (veh/h-p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deben ubicar un punto en el gráfico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781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el tr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 Densidad (veh/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y el flujo deben dibujar u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nto en el gráfico flujo – densidad visto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y comentar las diferencias con la curva del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n ambos casos debe coment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 metodología utilizada para tomar las medicione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s fuentes de error que detect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os problemas que se presenten y propuestas par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mejorar la metodolo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0-05T01:18:21Z</dcterms:modified>
  <cp:revision>73</cp:revision>
  <dc:subject/>
  <dc:title>Taller  I</dc:title>
</cp:coreProperties>
</file>