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869-2A5E-44E3-9645-F6E62669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534-5100-47B2-8FCA-D9FA9574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B97-93A6-4E43-95C0-B2465D3E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C64-E294-49A5-90C6-08DBC533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E8B5-B3C3-4445-AC72-E5997FA0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A9B1-12EA-40D9-AEA7-484D8394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BF95-23A7-4AF3-AA35-D049136D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9F8F-9554-41F4-AD19-43ACA418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4233-C904-44C6-A0F1-A8173AB5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B75B-C0FB-47B4-A1FD-6011A9F8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F91B-59D0-4197-9586-CE22CC96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6D6-FC91-4D14-AA49-56D38473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0B12-A790-4254-B004-A0C990B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FD8F-D2DB-4BF1-9CA7-7A0BF3F3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8A9E-5E32-49CE-BB7B-D9EB3571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56FC-1AFF-4EAE-B062-AAEB874A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FB98-C0EB-4742-9A99-DD8F6427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895-4306-439D-B539-C1D168FD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38A-A49A-4BED-824E-40AFB481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5BC-5F81-4D4E-82EA-47DE0808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55D-6D23-452B-A68A-7A503F7B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564-1569-4822-A37D-72430F41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659-69D1-4FBD-9911-FBC97533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F86-566B-4619-B20C-DD4EAD21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8B0-444B-41D7-A321-A62445F5AD7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7E92-73C1-465C-B1DE-A87523D17C9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I43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aller  V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80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Distribución de Viaj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5950080"/>
            <a:ext cx="461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de septiem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229360"/>
            <a:ext cx="43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erminar problema 2 del taller anter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r método de maximización de entropía con información de una matriz antigu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r maximización de entropía con información de una matriz anterior y sin restricción de cos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ta: (todos los objetivos se desarrollan con los mismos datos que se hizo el taller anteri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09-12T04:04:39Z</dcterms:modified>
  <cp:revision>61</cp:revision>
  <dc:subject/>
  <dc:title>Taller  I</dc:title>
</cp:coreProperties>
</file>