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94596-4E8E-4647-9F19-EAADCEDAA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38E0D-4763-4502-88FD-D5DFD4F45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43C26-75E0-47FB-8219-B0BDC92E5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08FC7-BE74-4BE4-9170-9FF2A2D29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C48A2-3EC6-4F89-A339-C5AB1580D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50217-F598-47EB-BDE8-C592B6903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3F3F1-BB3D-4570-98C2-D8E6197C1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C0F9D-4111-4DB8-A3CC-7FBF9BBA7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EF56E-4BA0-4C2D-805F-861D2C775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5D914-58A7-4744-9E7B-96EA05B56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870EB-78BC-4438-8EBB-94AFFAAEC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91026-28BE-4BCA-BDA1-846AFBF32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42E54-0D8D-4EB3-92CC-2437D0235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61005-FAC3-4C26-99EA-82F92876E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5B1C1-D931-4159-854D-0C7E64424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37DE8-FA71-4C88-948F-37BBD1A20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125D9-481E-4733-87E9-CDC4A00F1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B9992-3F68-4D28-91A4-748C4E6C1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85219-6FC0-40F5-AD5F-47E18A714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C7F61-E1AE-451D-962E-C30F338E6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6122B-95DA-49C8-A96B-9D0B96969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8DF38-40FB-4756-8248-7361D6391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7891E-05A4-4D91-BAC8-B9A463543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494C4-6B82-42FF-803C-376DA6D97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F77E1-2395-4F86-B0BE-4BFDE367D6EF}" type="slidenum">
              <a:rPr b="0" lang="es-E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3699F-9EF2-4F7F-BC8C-B419E0211CB4}" type="slidenum">
              <a:rPr b="0" lang="es-E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CI43A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Taller  VI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39280" y="3645000"/>
            <a:ext cx="82803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ahoma"/>
              </a:rPr>
              <a:t>Distribución de Viajes</a:t>
            </a: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510552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268360" y="5950080"/>
            <a:ext cx="46166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 de septiembre de 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411280" y="5229360"/>
            <a:ext cx="432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tallerci43a@gmail.co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187280" y="404640"/>
            <a:ext cx="3384720" cy="11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395280" y="2349000"/>
            <a:ext cx="842472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Terminar problema 2 del taller anterio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Aplicar método de maximización de entropía con información de una matriz antigu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Aplicar maximización de entropía con información de una matriz anterior y sin restricción de cost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Nota: (todos los objetivos se desarrollan con los mismos datos que se hizo el taller anteri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8T21:18:51Z</dcterms:created>
  <dc:creator>F M</dc:creator>
  <dc:description/>
  <dc:language>en-US</dc:language>
  <cp:lastModifiedBy>Vargas Quezada</cp:lastModifiedBy>
  <dcterms:modified xsi:type="dcterms:W3CDTF">2006-09-12T04:04:39Z</dcterms:modified>
  <cp:revision>61</cp:revision>
  <dc:subject/>
  <dc:title>Taller  I</dc:title>
</cp:coreProperties>
</file>