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A950-DE2F-479B-B7E9-62E6D730A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43D-AE2C-4A0E-9796-B0563412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E09-72C2-49DA-81BC-D676D041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AF9-6401-4365-B258-4D30A897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4584-1E82-486F-946E-7721662B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F348-E00E-4A53-B0B5-733AC88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1573-E90F-4B00-A82A-06ADE536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45B4-272A-44D2-9273-688E20F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5361-1177-4615-BA70-ACCB520E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F231-EDF3-467E-8868-DC1DB342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CBA5-E576-4A6D-AEA3-11C17A3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8DD-636A-4398-BD83-91D664E7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158-8B9D-4AD1-8E36-AFD33864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BA06-A27B-4928-9A44-79B7263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0DA4-529C-4B33-90AA-AD7A6BB5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E5FB-67B3-4342-82A3-8D8B0C16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D0E3-95E9-4A88-A7DC-0B439CC63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587-7F9F-4EA3-A8DA-DED52C0B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BE7-63EA-4D8D-9173-ED9ED1DF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FF8-01C1-4CBB-AD20-1CECD6CB9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779-FC7F-4F0C-9145-5A474BD2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BFE-7D8E-45B0-ABB7-4BA79EBA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891B-748D-4EF2-B2CD-996AA4F6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B3CE-4B60-47D2-8AE6-49AD0BD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9602-140D-43E0-A7B7-B5EDD4A191E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E63D-8FDC-451F-A5FC-7A3423F633F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3645000"/>
            <a:ext cx="8280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Distribu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de sept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2349000"/>
            <a:ext cx="8424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minar problema 2 del taller anter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étodo de maximización de entropía con información de una matriz antigu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plicar maximización de entropía con información de una matriz anterior y sin restricción de co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ta: (todos los objetivos se desarrollan con los mismos datos que se hizo el taller anteri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9-12T04:04:39Z</dcterms:modified>
  <cp:revision>61</cp:revision>
  <dc:subject/>
  <dc:title>Taller  I</dc:title>
</cp:coreProperties>
</file>