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216-3BD0-4F64-ACC2-A8C90987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D7E-9F67-4BE6-AD56-86EB340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A45-D96F-4B3F-9099-60E32BFD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36F-BF42-44F5-B1F3-3A0BF98A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8D7-B51E-4A72-94CB-2533451C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F8D-304D-4AE7-84F2-611BA97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17C-F886-48C1-A521-AC35BD43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F44-8A73-4D2A-AAB0-C3EEFCC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899-32C7-4C1E-86E4-BF3A9B4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A15-30E5-4EA1-920A-2DDD2B7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94C-430E-4F6F-8AAF-7746AE3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F07-79B4-44BF-8835-E840436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E6B-5689-4CC8-96FF-D0957309B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9-06T12:01:50Z</dcterms:modified>
  <cp:revision>56</cp:revision>
  <dc:subject/>
  <dc:title>Sin título de diapositiva</dc:title>
</cp:coreProperties>
</file>