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04D-A093-4037-9D19-BE8086A0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D59-5E1B-423D-A4E3-565C608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9E5-5F89-410F-A5F1-E720C838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650-38BB-471F-B0A7-12578DFD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033-77F3-43C8-8FE9-6667A888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56A-8D0E-409E-8257-BCA4E6C0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9DC-B993-433F-8D88-E45422ED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D25-A264-48AA-9D5F-F350BD8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413-FB23-4135-876D-A475A75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2F2-FE4D-4206-B01A-87E6088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999-2365-462C-9BBA-7551C6F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642-DCE8-4DD0-A92E-C8467011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306-6BC1-4051-ACCE-E7642E3B6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9-06T12:01:50Z</dcterms:modified>
  <cp:revision>56</cp:revision>
  <dc:subject/>
  <dc:title>Sin título de diapositiva</dc:title>
</cp:coreProperties>
</file>