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12D6-19C4-4680-8CD2-CCD68F84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3131-DA9E-4AB2-B1DA-EE212164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3141-C530-4EBC-8536-C64EACEA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D163-CB4E-4E75-A224-F838D273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FCCC-7E9F-424D-A3C6-2EDF5477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A6CC-F1FA-4504-8E3A-06EC9E19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676D-19FB-42E1-98DC-8F339C4E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62A9-B7EF-411B-B799-D4ACE415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EC5B-6B60-4B09-A73B-BA8EE77B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EA4B-2402-4D56-B046-C2EE2B64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04E3-E48C-491C-8F7E-927B19A4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2633-3F90-4010-8733-CCB1E69A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52E5-1E7F-42C1-B9A7-D21960A2D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olviendo a la 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514600"/>
            <a:ext cx="4343400" cy="3225960"/>
          </a:xfrm>
          <a:custGeom>
            <a:avLst/>
            <a:gdLst/>
            <a:ahLst/>
            <a:rect l="l" t="t" r="r" b="b"/>
            <a:pathLst>
              <a:path w="1824" h="1504">
                <a:moveTo>
                  <a:pt x="0" y="1496"/>
                </a:moveTo>
                <a:cubicBezTo>
                  <a:pt x="72" y="1500"/>
                  <a:pt x="144" y="1504"/>
                  <a:pt x="240" y="1496"/>
                </a:cubicBezTo>
                <a:cubicBezTo>
                  <a:pt x="336" y="1488"/>
                  <a:pt x="480" y="1496"/>
                  <a:pt x="576" y="1448"/>
                </a:cubicBezTo>
                <a:cubicBezTo>
                  <a:pt x="672" y="1400"/>
                  <a:pt x="752" y="1312"/>
                  <a:pt x="816" y="1208"/>
                </a:cubicBezTo>
                <a:cubicBezTo>
                  <a:pt x="880" y="1104"/>
                  <a:pt x="920" y="944"/>
                  <a:pt x="960" y="824"/>
                </a:cubicBezTo>
                <a:cubicBezTo>
                  <a:pt x="1000" y="704"/>
                  <a:pt x="1024" y="584"/>
                  <a:pt x="1056" y="488"/>
                </a:cubicBezTo>
                <a:cubicBezTo>
                  <a:pt x="1088" y="392"/>
                  <a:pt x="1104" y="320"/>
                  <a:pt x="1152" y="248"/>
                </a:cubicBezTo>
                <a:cubicBezTo>
                  <a:pt x="1200" y="176"/>
                  <a:pt x="1272" y="96"/>
                  <a:pt x="1344" y="56"/>
                </a:cubicBezTo>
                <a:cubicBezTo>
                  <a:pt x="1416" y="16"/>
                  <a:pt x="1504" y="16"/>
                  <a:pt x="1584" y="8"/>
                </a:cubicBezTo>
                <a:cubicBezTo>
                  <a:pt x="1664" y="0"/>
                  <a:pt x="1744" y="4"/>
                  <a:pt x="1824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920" y="1143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 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143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43200" y="1981080"/>
                <a:ext cx="121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72200" y="990720"/>
                <a:ext cx="259092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5228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doja de los buses de co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1828800"/>
            <a:ext cx="4496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)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auto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decide: pintar la mitad de los buses de color azul y la otra mitad de color ro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990720" y="18288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1828800"/>
            <a:ext cx="7617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3200400"/>
            <a:ext cx="7621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200400"/>
            <a:ext cx="914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066680" y="4267080"/>
            <a:ext cx="1447920" cy="1219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14600" y="4267080"/>
            <a:ext cx="1295280" cy="1295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5638680"/>
            <a:ext cx="7621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us az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5715000"/>
            <a:ext cx="914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81080" y="5638680"/>
            <a:ext cx="9144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us roj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438280" y="4267080"/>
            <a:ext cx="76320" cy="1295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39680" y="4572000"/>
            <a:ext cx="203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 azul)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 rojo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 auto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9144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Williams (1977) --&gt;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grupar alternativas “parecidas” en 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18288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ivel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990720" y="18288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1828800"/>
            <a:ext cx="7617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2590920"/>
            <a:ext cx="7621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3200400"/>
            <a:ext cx="914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80880" y="3048120"/>
            <a:ext cx="6098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4419720"/>
            <a:ext cx="7621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 az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4419720"/>
            <a:ext cx="9144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 roj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3048120"/>
            <a:ext cx="685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9718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factor de escala asociado al error del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nivel sup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2590920"/>
            <a:ext cx="2666880" cy="99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553080" y="1600200"/>
                <a:ext cx="198144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β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β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152280" y="3962520"/>
            <a:ext cx="1905120" cy="609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3962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943600" y="3657600"/>
                <a:ext cx="21337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2666880" y="5105520"/>
            <a:ext cx="6096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utilidad representativa del n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5943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3048120" y="5715000"/>
                <a:ext cx="24382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7924680" y="1676520"/>
            <a:ext cx="228600" cy="3045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500"/>
                            </p:stCondLst>
                            <p:childTnLst>
                              <p:par>
                                <p:cTn id="10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57600" y="1828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2438280"/>
            <a:ext cx="2133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p: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: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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396252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inferior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429000" y="3352680"/>
                <a:ext cx="213372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304920" y="55627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ivel superior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8120" y="6172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ni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292560" y="5054760"/>
                <a:ext cx="2440080" cy="19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φ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p>
                                </m:sSup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33520" y="914400"/>
                <a:ext cx="3047760" cy="22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sup>
                                </m:sSup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β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715000" y="1752480"/>
                <a:ext cx="205740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1143000"/>
            <a:ext cx="807696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términos de los erro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(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    (alternativas element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/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81280" y="2514600"/>
            <a:ext cx="449604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+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914040" y="32767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0968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3809880"/>
            <a:ext cx="129564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ociado al nido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3880" y="3809880"/>
            <a:ext cx="190512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ociado a la alternativa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510552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Anal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Correlación perf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Correlación n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¿ </a:t>
            </a:r>
            <a:r>
              <a:rPr b="0" lang="en-US" sz="2400" spc="-1" strike="noStrike">
                <a:solidFill>
                  <a:srgbClr val="336600"/>
                </a:solidFill>
                <a:latin typeface="Symbol"/>
                <a:ea typeface="Symbol"/>
              </a:rPr>
              <a:t></a:t>
            </a: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= 1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648320" y="4572000"/>
                <a:ext cx="14475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858000" y="4648320"/>
                <a:ext cx="14479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3886200" y="3352680"/>
            <a:ext cx="121932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/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52880" y="34290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4120" y="3505320"/>
            <a:ext cx="144756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~ G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58672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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500"/>
                            </p:stCondLst>
                            <p:childTnLst>
                              <p:par>
                                <p:cTn id="1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9144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 examen recuperativo 99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33520" y="182880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828800"/>
            <a:ext cx="7617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2280" y="32767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2057040" y="3048120"/>
            <a:ext cx="6094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76520" y="441972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o ruta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4419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o rut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3048120"/>
            <a:ext cx="685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447920" y="1828800"/>
            <a:ext cx="4572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66680" y="34290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66880" y="2666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4648320" y="4038480"/>
          <a:ext cx="9899640" cy="252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4038480"/>
                    <a:ext cx="9899640" cy="25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4419720" y="2057400"/>
          <a:ext cx="10051920" cy="186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057400"/>
                    <a:ext cx="100519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55627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91440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Williams (1977) --&gt; agrupar alternativas “parecidas” en n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191120" y="1600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ivel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90720" y="18288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1447920" y="1828800"/>
            <a:ext cx="4572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80880" y="3048120"/>
            <a:ext cx="6098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838080" y="3048120"/>
            <a:ext cx="1526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6705720" y="1295280"/>
                <a:ext cx="181584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038480" y="39625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19520" y="60199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tensión a más niv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0060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324480" y="2743200"/>
                <a:ext cx="22719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 flipH="1">
            <a:off x="1828800" y="1828800"/>
            <a:ext cx="763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43000" y="3962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28195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6477120" y="3429000"/>
                <a:ext cx="213336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6629400" y="5334120"/>
                <a:ext cx="20574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 flipH="1">
            <a:off x="2057400" y="32004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2514600" y="3200400"/>
            <a:ext cx="4572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2895480" y="3200400"/>
            <a:ext cx="763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48120" y="4191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5120" y="182880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143000" y="4419720"/>
            <a:ext cx="914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600200" y="4419720"/>
            <a:ext cx="4572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981080" y="4419720"/>
            <a:ext cx="763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133720" y="5410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500"/>
                            </p:stCondLst>
                            <p:childTnLst>
                              <p:par>
                                <p:cTn id="1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500"/>
                            </p:stCondLst>
                            <p:childTnLst>
                              <p:par>
                                <p:cTn id="13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32004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657600" y="3200400"/>
                <a:ext cx="19242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19320" y="3886200"/>
            <a:ext cx="7391160" cy="21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1447920"/>
            <a:ext cx="480060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ólo importan las diferencias.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8001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05120" y="419112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6-09-06T12:01:50Z</dcterms:modified>
  <cp:revision>56</cp:revision>
  <dc:subject/>
  <dc:title>Sin título de diapositiva</dc:title>
</cp:coreProperties>
</file>