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42C-7005-4F57-B2FE-A37BA97D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4FF-1B7B-4AF5-BC1B-56B921D2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287-17A1-4BE9-8884-F9E870CA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9A2-84D3-465D-A1E9-BB4F9CEF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6AF-3021-4DC9-9CB9-B86B00E4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6B2-58D5-43C1-9B98-A7F55FBD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FC2-D743-4067-B4B2-B085B8F3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098-4D51-4972-944E-CC86C09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8F3-32BC-41CF-83CD-756880AD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C63-8BE8-4B5B-A77F-E8CD332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979-3C5C-422B-A5F9-D94C1E44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AB5-25F8-4076-8A13-D39380B9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FBA8-5FAD-43C8-AD7E-7A234F9CE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9144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Williams (1977) --&gt; agrupar alternativas “parecidas” en 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47920" y="18288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38080" y="30481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705720" y="1295280"/>
                <a:ext cx="18158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0384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6019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sión a más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24480" y="2743200"/>
                <a:ext cx="2271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H="1">
            <a:off x="1828800" y="18288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77120" y="3429000"/>
                <a:ext cx="213336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629400" y="5334120"/>
                <a:ext cx="205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flipH="1">
            <a:off x="2057400" y="3200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514600" y="32004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95480" y="32004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828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3000" y="4419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600200" y="44197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81080" y="44197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09-06T12:01:50Z</dcterms:modified>
  <cp:revision>56</cp:revision>
  <dc:subject/>
  <dc:title>Sin título de diapositiva</dc:title>
</cp:coreProperties>
</file>