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ADB-554C-4688-9964-DC304DEB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CC4-F8BC-4179-87FD-26EC51C4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049-B96F-44BA-92AB-12BC2E8B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564-09D1-451A-9344-C10664D8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AF7-BD83-42E8-BD9A-F510EC93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586-33C3-4BB1-B921-F6142375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F28-B3DA-4CA9-8D61-29BC38CC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2E0-E4AD-4FE8-9597-3C57CB1A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9CE-8540-4DA1-8637-F3139243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14D-815D-4385-AE9F-3CBAECFD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CAB-0E0F-4759-82D4-F1FE7D21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C62-1786-481E-ACF4-F362430B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B62D-EFF2-483B-B35E-93862641D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500"/>
                            </p:stCondLst>
                            <p:childTnLst>
                              <p:par>
                                <p:cTn id="18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500"/>
                            </p:stCondLst>
                            <p:childTnLst>
                              <p:par>
                                <p:cTn id="1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4" dur="indefinite" restart="never" nodeType="tmRoot">
          <p:childTnLst>
            <p:seq>
              <p:cTn id="1895" dur="indefinite" nodeType="mainSeq">
                <p:childTnLst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2" dur="indefinite" restart="never" nodeType="tmRoot">
          <p:childTnLst>
            <p:seq>
              <p:cTn id="1963" dur="indefinite" nodeType="mainSeq">
                <p:childTnLst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"/>
          <p:cNvCxnSpPr>
            <a:stCxn id="627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0" idx="3"/>
            <a:endCxn id="622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31" idx="3"/>
            <a:endCxn id="620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33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29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endCxn id="624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6-08-28T08:56:57Z</dcterms:modified>
  <cp:revision>26</cp:revision>
  <dc:subject/>
  <dc:title>Sin título de diapositiva</dc:title>
</cp:coreProperties>
</file>