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22C-F27A-4015-A40B-E14780C7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6CF-A3AC-4D9C-96F2-36B73F4C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A4C-D370-4096-BC1A-54EB1F0C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23B-02FE-46E9-B9A7-9D58DC5E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378-0B78-4E93-8494-FF36B0DB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0C2-C383-48A3-9946-8A378344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FD9-DFE5-456C-A044-53D6D630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1DD-8E7B-4204-BEA1-35550EF2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FAA-DB34-4F10-86E5-6872FD70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14D-A28A-4BB7-BC9A-F4F03552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B87-F054-4EFE-AAA0-B98546E8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41E-C915-48A5-A23B-D6F59D2A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9DF3-D39F-4695-9CEE-6875E658A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0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5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762120"/>
            <a:ext cx="91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ización de la Entrop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19810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30481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627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95480" y="42670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5400000">
            <a:off x="1790640" y="15616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2324160" y="27810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198108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09680" y="3048120"/>
            <a:ext cx="76212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95480" y="4267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500"/>
                            </p:stCondLst>
                            <p:childTnLst>
                              <p:par>
                                <p:cTn id="18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500"/>
                            </p:stCondLst>
                            <p:childTnLst>
                              <p:par>
                                <p:cTn id="1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4" dur="indefinite" restart="never" nodeType="tmRoot">
          <p:childTnLst>
            <p:seq>
              <p:cTn id="1895" dur="indefinite" nodeType="mainSeq">
                <p:childTnLst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2" dur="indefinite" restart="never" nodeType="tmRoot">
          <p:childTnLst>
            <p:seq>
              <p:cTn id="1963" dur="indefinite" nodeType="mainSeq">
                <p:childTnLst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"/>
          <p:cNvCxnSpPr>
            <a:stCxn id="627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0" idx="3"/>
            <a:endCxn id="622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31" idx="3"/>
            <a:endCxn id="620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33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29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endCxn id="624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651640" y="1341360"/>
          <a:ext cx="3314520" cy="20955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1341360"/>
                    <a:ext cx="331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43680" y="3936960"/>
          <a:ext cx="3377880" cy="2095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3936960"/>
                    <a:ext cx="3377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6-08-28T08:56:57Z</dcterms:modified>
  <cp:revision>26</cp:revision>
  <dc:subject/>
  <dc:title>Sin título de diapositiva</dc:title>
</cp:coreProperties>
</file>