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7.xlsx" ContentType="application/vnd.openxmlformats-officedocument.spreadsheetml.sheet"/>
  <Override PartName="/ppt/embeddings/oleObject2.xlsx" ContentType="application/vnd.openxmlformats-officedocument.spreadsheetml.sheet"/>
  <Override PartName="/ppt/embeddings/oleObject8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embeddings/oleObject9.xlsx" ContentType="application/vnd.openxmlformats-officedocument.spreadsheetml.sheet"/>
  <Override PartName="/ppt/embeddings/oleObject10.xlsx" ContentType="application/vnd.openxmlformats-officedocument.spreadsheetml.sheet"/>
  <Override PartName="/ppt/embeddings/oleObject11.xlsx" ContentType="application/vnd.openxmlformats-officedocument.spreadsheetml.sheet"/>
  <Override PartName="/ppt/embeddings/oleObject12.xlsx" ContentType="application/vnd.openxmlformats-officedocument.spreadsheetml.shee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52.jpeg" ContentType="image/jpeg"/>
  <Override PartName="/ppt/media/image27.wmf" ContentType="image/x-wmf"/>
  <Override PartName="/ppt/media/image4.wmf" ContentType="image/x-wmf"/>
  <Override PartName="/ppt/media/image34.wmf" ContentType="image/x-wmf"/>
  <Override PartName="/ppt/media/image13.wmf" ContentType="image/x-wmf"/>
  <Override PartName="/ppt/media/image50.wmf" ContentType="image/x-wmf"/>
  <Override PartName="/ppt/media/image40.wmf" ContentType="image/x-wmf"/>
  <Override PartName="/ppt/media/image41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48.wmf" ContentType="image/x-wmf"/>
  <Override PartName="/ppt/media/image11.wmf" ContentType="image/x-wmf"/>
  <Override PartName="/ppt/media/image51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C813-2851-42AC-8E9B-F5F03902E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CACF-3FB9-4FD4-AA94-9E5FB1EA0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1DA8-3AE9-4BA9-8C85-8D2D4DBFD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3D47-9BA5-4472-8CCC-5EF232565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DC23-5C6D-440C-910E-680DA3785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479E-189E-44B6-83C1-484F2A1F3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5A68-B2C5-4949-80C4-AF114D6DE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836E-159B-4225-8EC8-3D31D6857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49F7-E39C-4FF3-8F5C-C7D0F8D22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027A-80FE-45E2-B0D0-D15FE4382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B9F5-9875-465B-B614-3B374644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4319-AD6A-40A6-94F4-E459AB65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F8470-918C-4791-83DB-2318333D8B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2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33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34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35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36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37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38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39.wmf"/><Relationship Id="rId21" Type="http://schemas.openxmlformats.org/officeDocument/2006/relationships/package" Target="../embeddings/oleObject11.xlsx"/><Relationship Id="rId22" Type="http://schemas.openxmlformats.org/officeDocument/2006/relationships/image" Target="../media/image40.wmf"/><Relationship Id="rId23" Type="http://schemas.openxmlformats.org/officeDocument/2006/relationships/package" Target="../embeddings/oleObject12.xlsx"/><Relationship Id="rId24" Type="http://schemas.openxmlformats.org/officeDocument/2006/relationships/image" Target="../media/image41.wmf"/><Relationship Id="rId2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3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44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5.wmf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7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48.wmf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7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48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9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0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51.wmf"/><Relationship Id="rId1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7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8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9.wmf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2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3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4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15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16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17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18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9.wmf"/><Relationship Id="rId21" Type="http://schemas.openxmlformats.org/officeDocument/2006/relationships/package" Target="../embeddings/oleObject11.xlsx"/><Relationship Id="rId22" Type="http://schemas.openxmlformats.org/officeDocument/2006/relationships/image" Target="../media/image20.wmf"/><Relationship Id="rId23" Type="http://schemas.openxmlformats.org/officeDocument/2006/relationships/package" Target="../embeddings/oleObject12.xlsx"/><Relationship Id="rId24" Type="http://schemas.openxmlformats.org/officeDocument/2006/relationships/image" Target="../media/image21.wmf"/><Relationship Id="rId2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3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4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25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26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27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28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29.wmf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9907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2057400"/>
            <a:ext cx="7543800" cy="12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nemos: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4572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rigen - Destino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7672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7672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03848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800600" y="41148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00600" y="472428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7672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03848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7672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1460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1460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1460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7672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3848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1460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1460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00600" y="6019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0600" y="34290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0199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03848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00600" y="5334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00600" y="4114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24080" y="411480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0600" y="53341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6019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1460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00600" y="34290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590920"/>
            <a:ext cx="2819520" cy="31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ementos a considerar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tric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bserv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500"/>
                            </p:stCondLst>
                            <p:childTnLst>
                              <p:par>
                                <p:cTn id="1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450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0"/>
                            </p:stCondLst>
                            <p:childTnLst>
                              <p:par>
                                <p:cTn id="1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50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447920" y="9907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85800" y="2057400"/>
            <a:ext cx="7543800" cy="12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nemos: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295280" y="4572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rigen - Destino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10552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10552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6728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86728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629400" y="41148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629400" y="472428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86728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10552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86728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10552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34340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34340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34340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10552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6728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34340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629400" y="6019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629400" y="5334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629400" y="34290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105520" y="60199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86728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629400" y="5334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629400" y="4114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952880" y="411480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629400" y="53341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629400" y="6019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34340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629400" y="34290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500"/>
                            </p:stCondLst>
                            <p:childTnLst>
                              <p:par>
                                <p:cTn id="6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2500"/>
                            </p:stCondLst>
                            <p:childTnLst>
                              <p:par>
                                <p:cTn id="6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3000"/>
                            </p:stCondLst>
                            <p:childTnLst>
                              <p:par>
                                <p:cTn id="6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3500"/>
                            </p:stCondLst>
                            <p:childTnLst>
                              <p:par>
                                <p:cTn id="6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4000"/>
                            </p:stCondLst>
                            <p:childTnLst>
                              <p:par>
                                <p:cTn id="6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4500"/>
                            </p:stCondLst>
                            <p:childTnLst>
                              <p:par>
                                <p:cTn id="6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5000"/>
                            </p:stCondLst>
                            <p:childTnLst>
                              <p:par>
                                <p:cTn id="6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5500"/>
                            </p:stCondLst>
                            <p:childTnLst>
                              <p:par>
                                <p:cTn id="7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60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65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7000"/>
                            </p:stCondLst>
                            <p:childTnLst>
                              <p:par>
                                <p:cTn id="7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7500"/>
                            </p:stCondLst>
                            <p:childTnLst>
                              <p:par>
                                <p:cTn id="7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8000"/>
                            </p:stCondLst>
                            <p:childTnLst>
                              <p:par>
                                <p:cTn id="7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8500"/>
                            </p:stCondLst>
                            <p:childTnLst>
                              <p:par>
                                <p:cTn id="7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9000"/>
                            </p:stCondLst>
                            <p:childTnLst>
                              <p:par>
                                <p:cTn id="7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9500"/>
                            </p:stCondLst>
                            <p:childTnLst>
                              <p:par>
                                <p:cTn id="7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10500"/>
                            </p:stCondLst>
                            <p:childTnLst>
                              <p:par>
                                <p:cTn id="7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11000"/>
                            </p:stCondLst>
                            <p:childTnLst>
                              <p:par>
                                <p:cTn id="7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11500"/>
                            </p:stCondLst>
                            <p:childTnLst>
                              <p:par>
                                <p:cTn id="7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2000"/>
                            </p:stCondLst>
                            <p:childTnLst>
                              <p:par>
                                <p:cTn id="7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12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3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13500"/>
                            </p:stCondLst>
                            <p:childTnLst>
                              <p:par>
                                <p:cTn id="7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7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685800" y="304920"/>
            <a:ext cx="739152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09480" y="1523880"/>
            <a:ext cx="81536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a vimos: Método de Factor de Crecimiento =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ervar estructura de matriz observ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tra familia de model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ísica de Newton --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o Gravit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371600" y="4724280"/>
            <a:ext cx="45720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86200" y="55627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371600" y="4343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886200" y="5181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828800" y="5029200"/>
            <a:ext cx="2057400" cy="609480"/>
          </a:xfrm>
          <a:custGeom>
            <a:avLst/>
            <a:gdLst/>
            <a:ahLst/>
            <a:rect l="l" t="t" r="r" b="b"/>
            <a:pathLst>
              <a:path w="1296" h="384">
                <a:moveTo>
                  <a:pt x="0" y="0"/>
                </a:moveTo>
                <a:cubicBezTo>
                  <a:pt x="140" y="124"/>
                  <a:pt x="280" y="248"/>
                  <a:pt x="432" y="288"/>
                </a:cubicBezTo>
                <a:cubicBezTo>
                  <a:pt x="584" y="328"/>
                  <a:pt x="768" y="224"/>
                  <a:pt x="912" y="240"/>
                </a:cubicBezTo>
                <a:cubicBezTo>
                  <a:pt x="1056" y="256"/>
                  <a:pt x="1232" y="360"/>
                  <a:pt x="1296" y="3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029200" y="4419720"/>
            <a:ext cx="3124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iajes f(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tract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ficultad de viaj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229600" y="4419720"/>
            <a:ext cx="6094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&gt;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&gt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1066680" y="4572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7200" y="1371600"/>
            <a:ext cx="82296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población en la zona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distancia entre la zona i y la zona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09480" y="342900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486400" y="1600200"/>
            <a:ext cx="45720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001000" y="24382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562720" y="121932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8001000" y="20574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943600" y="1905120"/>
            <a:ext cx="2057400" cy="609480"/>
          </a:xfrm>
          <a:custGeom>
            <a:avLst/>
            <a:gdLst/>
            <a:ahLst/>
            <a:rect l="l" t="t" r="r" b="b"/>
            <a:pathLst>
              <a:path w="1296" h="384">
                <a:moveTo>
                  <a:pt x="0" y="0"/>
                </a:moveTo>
                <a:cubicBezTo>
                  <a:pt x="140" y="124"/>
                  <a:pt x="280" y="248"/>
                  <a:pt x="432" y="288"/>
                </a:cubicBezTo>
                <a:cubicBezTo>
                  <a:pt x="584" y="328"/>
                  <a:pt x="768" y="224"/>
                  <a:pt x="912" y="240"/>
                </a:cubicBezTo>
                <a:cubicBezTo>
                  <a:pt x="1056" y="256"/>
                  <a:pt x="1232" y="360"/>
                  <a:pt x="1296" y="3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858000" y="1905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1600200" y="3048120"/>
                <a:ext cx="2793960" cy="10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1676520" y="4114800"/>
                <a:ext cx="266688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1752480" y="5181480"/>
                <a:ext cx="259092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2" name=""/>
          <p:cNvSpPr/>
          <p:nvPr/>
        </p:nvSpPr>
        <p:spPr>
          <a:xfrm>
            <a:off x="609480" y="44956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85800" y="56386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29200" y="54864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 Restriccion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500"/>
                            </p:stCondLst>
                            <p:childTnLst>
                              <p:par>
                                <p:cTn id="9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1000"/>
                            </p:stCondLst>
                            <p:childTnLst>
                              <p:par>
                                <p:cTn id="9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1500"/>
                            </p:stCondLst>
                            <p:childTnLst>
                              <p:par>
                                <p:cTn id="9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2000"/>
                            </p:stCondLst>
                            <p:childTnLst>
                              <p:par>
                                <p:cTn id="9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500"/>
                            </p:stCondLst>
                            <p:childTnLst>
                              <p:par>
                                <p:cTn id="9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500"/>
                            </p:stCondLst>
                            <p:childTnLst>
                              <p:par>
                                <p:cTn id="9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500"/>
                            </p:stCondLst>
                            <p:childTnLst>
                              <p:par>
                                <p:cTn id="9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0880" y="1219320"/>
            <a:ext cx="822960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--&gt; K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--&gt; K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¿cuál usam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62120" y="2743200"/>
            <a:ext cx="50292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800" spc="-1" strike="noStrike" baseline="50000">
                <a:solidFill>
                  <a:srgbClr val="000000"/>
                </a:solidFill>
                <a:latin typeface="Comic Sans MS"/>
              </a:rPr>
              <a:t>-n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57200" y="35053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restricciones?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838080" y="4191120"/>
                <a:ext cx="146232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914400" y="5486400"/>
                <a:ext cx="144792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3505320" y="3962520"/>
                <a:ext cx="251460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3581280" y="5334120"/>
                <a:ext cx="243864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3" name=""/>
          <p:cNvSpPr/>
          <p:nvPr/>
        </p:nvSpPr>
        <p:spPr>
          <a:xfrm>
            <a:off x="2514600" y="4419720"/>
            <a:ext cx="838080" cy="75960"/>
          </a:xfrm>
          <a:prstGeom prst="rightArrow">
            <a:avLst>
              <a:gd name="adj1" fmla="val 50000"/>
              <a:gd name="adj2" fmla="val 27582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590920" y="5791320"/>
            <a:ext cx="838080" cy="75960"/>
          </a:xfrm>
          <a:prstGeom prst="rightArrow">
            <a:avLst>
              <a:gd name="adj1" fmla="val 50000"/>
              <a:gd name="adj2" fmla="val 27582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500"/>
                            </p:stCondLst>
                            <p:childTnLst>
                              <p:par>
                                <p:cTn id="10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04920" y="914400"/>
            <a:ext cx="8229600" cy="72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--&gt; costo generalizado de via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(costo monetario, tiempo, comodidad, segur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unción --&gt; exponencial o cualquier ot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f(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=e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 baseline="30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j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j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n ·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 baseline="30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, B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: factores de balance se calculan iter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aso 1: darse A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=1, calcular B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aso 2: con esos B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, calcular A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aso 3: con esos A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, calcular B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57200" y="41148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562720" y="5791320"/>
            <a:ext cx="304560" cy="914400"/>
          </a:xfrm>
          <a:custGeom>
            <a:avLst/>
            <a:gdLst>
              <a:gd name="textAreaLeft" fmla="*/ 0 w 304560"/>
              <a:gd name="textAreaRight" fmla="*/ 109800 w 3045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095880" y="579132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erar hasta conver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2" dur="indefinite" restart="never" nodeType="tmRoot">
          <p:childTnLst>
            <p:seq>
              <p:cTn id="1033" dur="indefinite" nodeType="mainSeq">
                <p:childTnLst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4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4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4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4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4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4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odelo Gravit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80880" y="1219320"/>
            <a:ext cx="8229600" cy="44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f(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=e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 baseline="30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 0,009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iscusión: ¿qué representa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de qué depen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cómo se calibr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6095880" y="914400"/>
          <a:ext cx="876600" cy="2581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914400"/>
                    <a:ext cx="876600" cy="25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4" name=""/>
          <p:cNvGraphicFramePr/>
          <p:nvPr/>
        </p:nvGraphicFramePr>
        <p:xfrm>
          <a:off x="2819520" y="2971800"/>
          <a:ext cx="3295440" cy="523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2971800"/>
                    <a:ext cx="329544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0" dur="indefinite" restart="never" nodeType="tmRoot">
          <p:childTnLst>
            <p:seq>
              <p:cTn id="1101" dur="indefinite" nodeType="mainSeq">
                <p:childTnLst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762120" y="9144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5334120" y="228600"/>
          <a:ext cx="3352680" cy="1638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228600"/>
                    <a:ext cx="335268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9" name=""/>
          <p:cNvGraphicFramePr/>
          <p:nvPr/>
        </p:nvGraphicFramePr>
        <p:xfrm>
          <a:off x="5257800" y="2209680"/>
          <a:ext cx="771480" cy="25815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2209680"/>
                    <a:ext cx="77148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1" name=""/>
          <p:cNvGraphicFramePr/>
          <p:nvPr/>
        </p:nvGraphicFramePr>
        <p:xfrm>
          <a:off x="152280" y="4267080"/>
          <a:ext cx="5106960" cy="5241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4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4267080"/>
                    <a:ext cx="510696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3" name=""/>
          <p:cNvGraphicFramePr/>
          <p:nvPr/>
        </p:nvGraphicFramePr>
        <p:xfrm>
          <a:off x="152280" y="4800600"/>
          <a:ext cx="5106960" cy="52380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280" y="4800600"/>
                    <a:ext cx="51069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5" name=""/>
          <p:cNvGraphicFramePr/>
          <p:nvPr/>
        </p:nvGraphicFramePr>
        <p:xfrm>
          <a:off x="609480" y="1523880"/>
          <a:ext cx="4354560" cy="25815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45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9480" y="1523880"/>
                    <a:ext cx="435456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7" name=""/>
          <p:cNvGraphicFramePr/>
          <p:nvPr/>
        </p:nvGraphicFramePr>
        <p:xfrm>
          <a:off x="6705720" y="2209680"/>
          <a:ext cx="1133280" cy="206712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705720" y="2209680"/>
                    <a:ext cx="11332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9" name=""/>
          <p:cNvGraphicFramePr/>
          <p:nvPr/>
        </p:nvGraphicFramePr>
        <p:xfrm>
          <a:off x="6019920" y="2209680"/>
          <a:ext cx="676080" cy="206712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46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019920" y="2209680"/>
                    <a:ext cx="6760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1" name=""/>
          <p:cNvGraphicFramePr/>
          <p:nvPr/>
        </p:nvGraphicFramePr>
        <p:xfrm>
          <a:off x="609480" y="1523880"/>
          <a:ext cx="4392720" cy="258156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46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09480" y="1523880"/>
                    <a:ext cx="439272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3" name=""/>
          <p:cNvGraphicFramePr/>
          <p:nvPr/>
        </p:nvGraphicFramePr>
        <p:xfrm>
          <a:off x="152280" y="5334120"/>
          <a:ext cx="5106960" cy="52380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52280" y="5334120"/>
                    <a:ext cx="51069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5" name=""/>
          <p:cNvGraphicFramePr/>
          <p:nvPr/>
        </p:nvGraphicFramePr>
        <p:xfrm>
          <a:off x="609480" y="1523880"/>
          <a:ext cx="4354560" cy="258156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466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09480" y="1523880"/>
                    <a:ext cx="435456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7" name=""/>
          <p:cNvGraphicFramePr/>
          <p:nvPr/>
        </p:nvGraphicFramePr>
        <p:xfrm>
          <a:off x="7848720" y="2209680"/>
          <a:ext cx="1095120" cy="2067120"/>
        </p:xfrm>
        <a:graphic>
          <a:graphicData uri="http://schemas.openxmlformats.org/presentationml/2006/ole">
            <p:oleObj progId="Excel.Sheet.12" r:id="rId21" spid="">
              <p:embed/>
              <p:pic>
                <p:nvPicPr>
                  <p:cNvPr id="468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848720" y="2209680"/>
                    <a:ext cx="109512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9" name=""/>
          <p:cNvGraphicFramePr/>
          <p:nvPr/>
        </p:nvGraphicFramePr>
        <p:xfrm>
          <a:off x="609480" y="1523880"/>
          <a:ext cx="4354560" cy="2581560"/>
        </p:xfrm>
        <a:graphic>
          <a:graphicData uri="http://schemas.openxmlformats.org/presentationml/2006/ole">
            <p:oleObj progId="Excel.Sheet.12" r:id="rId23" spid="">
              <p:embed/>
              <p:pic>
                <p:nvPicPr>
                  <p:cNvPr id="470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09480" y="1523880"/>
                    <a:ext cx="435456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6" dur="indefinite" restart="never" nodeType="tmRoot">
          <p:childTnLst>
            <p:seq>
              <p:cTn id="1157" dur="indefinite" nodeType="mainSeq">
                <p:childTnLst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85800" y="11430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 crecimiento unifor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29200" y="12193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dicción 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523880" y="41148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ur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562720" y="41148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vit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6" name=""/>
          <p:cNvGraphicFramePr/>
          <p:nvPr/>
        </p:nvGraphicFramePr>
        <p:xfrm>
          <a:off x="152280" y="1600200"/>
          <a:ext cx="4183200" cy="2066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600200"/>
                    <a:ext cx="418320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8" name=""/>
          <p:cNvGraphicFramePr/>
          <p:nvPr/>
        </p:nvGraphicFramePr>
        <p:xfrm>
          <a:off x="4876920" y="1600200"/>
          <a:ext cx="3963960" cy="2066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1600200"/>
                    <a:ext cx="396396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0" name=""/>
          <p:cNvGraphicFramePr/>
          <p:nvPr/>
        </p:nvGraphicFramePr>
        <p:xfrm>
          <a:off x="228600" y="4572000"/>
          <a:ext cx="4105440" cy="20667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4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4572000"/>
                    <a:ext cx="410544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2" name=""/>
          <p:cNvGraphicFramePr/>
          <p:nvPr/>
        </p:nvGraphicFramePr>
        <p:xfrm>
          <a:off x="4572000" y="4572000"/>
          <a:ext cx="4354560" cy="20667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48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4572000"/>
                    <a:ext cx="435456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3" dur="indefinite" restart="never" nodeType="tmRoot">
          <p:childTnLst>
            <p:seq>
              <p:cTn id="1234" dur="indefinite" nodeType="mainSeq">
                <p:childTnLst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914400" y="838080"/>
            <a:ext cx="769608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gravitaciona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exp(-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 generalizado de transporte entre i y j. Valor único para el par ij, debe tomar en cuenta todos los modos disponibles.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838080" y="5486400"/>
                <a:ext cx="304812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762120" y="3809880"/>
                <a:ext cx="304776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8" name=""/>
          <p:cNvSpPr/>
          <p:nvPr/>
        </p:nvSpPr>
        <p:spPr>
          <a:xfrm>
            <a:off x="4191120" y="342900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pende de todos los destinos tiene que ver con el beneficio de visitar y con los costos ponderados por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114800" y="510552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pende de todos los orígenes tiene que ver con la posibilidad de ser visitado y los costos ponderados por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114800" y="3581280"/>
            <a:ext cx="76320" cy="1371600"/>
          </a:xfrm>
          <a:custGeom>
            <a:avLst/>
            <a:gdLst>
              <a:gd name="textAreaLeft" fmla="*/ 48960 w 76320"/>
              <a:gd name="textAreaRight" fmla="*/ 76320 w 763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962520" y="5257800"/>
            <a:ext cx="152280" cy="1219320"/>
          </a:xfrm>
          <a:custGeom>
            <a:avLst/>
            <a:gdLst>
              <a:gd name="textAreaLeft" fmla="*/ 97200 w 152280"/>
              <a:gd name="textAreaRight" fmla="*/ 15264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3" dur="indefinite" restart="never" nodeType="tmRoot">
          <p:childTnLst>
            <p:seq>
              <p:cTn id="1284" dur="indefinite" nodeType="mainSeq">
                <p:childTnLst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914400" y="1143000"/>
            <a:ext cx="7696080" cy="19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Cómo calculamos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conocemos tanto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o 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--&gt; buscamos un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que haga que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 reproduzca lo más cercanamente posibl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76320" y="1447920"/>
            <a:ext cx="8729280" cy="2314440"/>
            <a:chOff x="76320" y="1447920"/>
            <a:chExt cx="8729280" cy="2314440"/>
          </a:xfrm>
        </p:grpSpPr>
        <p:sp>
          <p:nvSpPr>
            <p:cNvPr id="75" name=""/>
            <p:cNvSpPr/>
            <p:nvPr/>
          </p:nvSpPr>
          <p:spPr>
            <a:xfrm>
              <a:off x="92160" y="1463400"/>
              <a:ext cx="86932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92160" y="1463400"/>
              <a:ext cx="869328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2160" y="1463400"/>
              <a:ext cx="1800" cy="22986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92160" y="1463400"/>
              <a:ext cx="15840" cy="2298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2160" y="1463400"/>
              <a:ext cx="8693280" cy="299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2160" y="1746000"/>
              <a:ext cx="1216080" cy="20160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557360" y="1479240"/>
              <a:ext cx="52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Nor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74000" y="1479240"/>
              <a:ext cx="57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623040" y="1479240"/>
              <a:ext cx="43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38880" y="1479240"/>
              <a:ext cx="64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entr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87920" y="1479240"/>
              <a:ext cx="33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u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437160" y="1479240"/>
              <a:ext cx="84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ur-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820640" y="1479240"/>
              <a:ext cx="98496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TOTAL O</a:t>
              </a:r>
              <a:r>
                <a:rPr b="1" lang="es-ES_tradnl" sz="17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41120" y="1763640"/>
              <a:ext cx="52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Nor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442520" y="176364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24 90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0832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74360" y="17636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0 20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24600" y="17636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55780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90280" y="17636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32 00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40880" y="17636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7192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606200" y="17636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5 88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455000" y="17636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8820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737680" y="176364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6 20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72360" y="176364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3732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937920" y="176364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 02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489000" y="1763640"/>
              <a:ext cx="357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88680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903440" y="176364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223 24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687800" y="176364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88688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41840" y="2046240"/>
              <a:ext cx="57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558440" y="20462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7 91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408680" y="20462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4152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58440" y="204624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55 78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42424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90280" y="20462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3 47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440880" y="20462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57192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606200" y="20462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94 35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455000" y="20462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8820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622120" y="20462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1 89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71280" y="20462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60412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937920" y="204624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6 19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489000" y="2046240"/>
              <a:ext cx="357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88680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903440" y="204624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329 62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687800" y="204624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88688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41480" y="2330280"/>
              <a:ext cx="43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75440" y="23302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9 73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409760" y="233028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67508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691360" y="23302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8 15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425680" y="233028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69100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74360" y="233028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27 97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44016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06200" y="23302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75 13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455000" y="23302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8820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37680" y="23302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8 84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472360" y="233028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73732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820920" y="23302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6 05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88640" y="2330280"/>
              <a:ext cx="298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82020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903440" y="233028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345 90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687800" y="233028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88688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41480" y="2612880"/>
              <a:ext cx="64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entr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675440" y="26128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5 09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09760" y="261288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7508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91360" y="26128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5 99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425680" y="261288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69100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590280" y="26128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5 95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440880" y="26128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57192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06200" y="26128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0 75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55000" y="26128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58820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737680" y="26128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6 30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72360" y="261288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3732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937920" y="26128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3 59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489000" y="2612880"/>
              <a:ext cx="357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8680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019360" y="26128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77 68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88520" y="2612880"/>
              <a:ext cx="298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864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41120" y="2895480"/>
              <a:ext cx="33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u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58440" y="28954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5 76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408680" y="28954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54152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574360" y="28954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6 43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424600" y="28954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55780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90280" y="28954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53 33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440880" y="28954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7192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606200" y="28954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99 27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455000" y="28954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58820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04760" y="289548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29 45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47092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820920" y="28954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0 88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488640" y="2895480"/>
              <a:ext cx="298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82020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903440" y="289548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435 14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687800" y="289548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88688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41120" y="3179520"/>
              <a:ext cx="84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ur-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558440" y="317952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1 19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408680" y="317952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54152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691360" y="317952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8 40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425680" y="317952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69100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590280" y="317952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81 82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440880" y="317952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7192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606200" y="317952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60 97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455000" y="317952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58820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622120" y="317952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6 15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471280" y="317952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60412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705000" y="31795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43 222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87560" y="317952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68664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903440" y="31795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331 77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87800" y="317952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88688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40760" y="3462120"/>
              <a:ext cx="97452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TOTAL D</a:t>
              </a:r>
              <a:r>
                <a:rPr b="1" lang="es-ES_tradnl" sz="1700" spc="-1" strike="noStrike" baseline="-25000">
                  <a:solidFill>
                    <a:srgbClr val="000000"/>
                  </a:solidFill>
                  <a:latin typeface="Arial"/>
                </a:rPr>
                <a:t>j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442520" y="34621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84 60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40832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458440" y="34621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204 98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42424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474360" y="34621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454 57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44016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488840" y="34621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416 38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45464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504760" y="34621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288 86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47092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05000" y="34621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93 97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487560" y="346212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8664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721640" y="3462120"/>
              <a:ext cx="962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 743 38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68672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92160" y="146340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2160" y="1447920"/>
              <a:ext cx="158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1290960" y="146340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290960" y="1447920"/>
              <a:ext cx="1728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2306880" y="146340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306880" y="1447920"/>
              <a:ext cx="1728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3322800" y="146340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322800" y="1447920"/>
              <a:ext cx="176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4338720" y="146340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38720" y="1447920"/>
              <a:ext cx="176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5355000" y="146340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355000" y="1447920"/>
              <a:ext cx="158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6370920" y="146340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370920" y="1447920"/>
              <a:ext cx="158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7569360" y="146340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569360" y="1447920"/>
              <a:ext cx="176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08000" y="1447920"/>
              <a:ext cx="8677440" cy="31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8769600" y="146340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769600" y="1447920"/>
              <a:ext cx="158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08000" y="1746000"/>
              <a:ext cx="8643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8000" y="1746000"/>
              <a:ext cx="864396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08000" y="2030400"/>
              <a:ext cx="86439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08000" y="2030400"/>
              <a:ext cx="8643960" cy="1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08000" y="2313000"/>
              <a:ext cx="86439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08000" y="2313000"/>
              <a:ext cx="8643960" cy="16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08000" y="2597040"/>
              <a:ext cx="86439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08000" y="2597040"/>
              <a:ext cx="8643960" cy="1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08000" y="2879640"/>
              <a:ext cx="86439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08000" y="2879640"/>
              <a:ext cx="8643960" cy="1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08000" y="3162240"/>
              <a:ext cx="86439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08000" y="3162240"/>
              <a:ext cx="8643960" cy="16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08000" y="3446280"/>
              <a:ext cx="8643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08000" y="3446280"/>
              <a:ext cx="8643960" cy="1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6320" y="1447920"/>
              <a:ext cx="31680" cy="2314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290960" y="1479240"/>
              <a:ext cx="1440" cy="224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290960" y="1479240"/>
              <a:ext cx="17280" cy="224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06880" y="1479240"/>
              <a:ext cx="1440" cy="224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306880" y="1479240"/>
              <a:ext cx="17280" cy="224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322800" y="1479240"/>
              <a:ext cx="1800" cy="224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322800" y="1479240"/>
              <a:ext cx="17640" cy="224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338720" y="1479240"/>
              <a:ext cx="1800" cy="224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338720" y="1479240"/>
              <a:ext cx="17640" cy="224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355000" y="1479240"/>
              <a:ext cx="1440" cy="224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1498680" y="101520"/>
            <a:ext cx="622296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D Santiag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Punta Mañana, pax/h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410080" y="2819520"/>
            <a:ext cx="990720" cy="45720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343400" y="2819520"/>
            <a:ext cx="990720" cy="45720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09480" y="411480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Par origen-destino donde se observa más viaj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5800" y="495288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Par origen-destino donde se observa más viajes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interzona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6320" y="2895480"/>
            <a:ext cx="8686800" cy="2286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34120" y="1447920"/>
            <a:ext cx="1066680" cy="23619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352680" y="1447920"/>
            <a:ext cx="990720" cy="23619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>
            <a:hlinkClick r:id="" action="ppaction://hlinkshowjump?jump=lastslide"/>
          </p:cNvPr>
          <p:cNvSpPr/>
          <p:nvPr/>
        </p:nvSpPr>
        <p:spPr>
          <a:xfrm>
            <a:off x="8153280" y="39625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447920" y="9907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85800" y="2057400"/>
            <a:ext cx="7543800" cy="12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nemos: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295280" y="4572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rigen - Destino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10552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10552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86728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86728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629400" y="41148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629400" y="472428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86728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10552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86728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10552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34340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34340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34340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10552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86728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34340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629400" y="6019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629400" y="5334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629400" y="34290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105520" y="60199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86728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629400" y="5334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629400" y="4114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952880" y="411480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629400" y="53341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629400" y="6019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34340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629400" y="34290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914400" y="838080"/>
            <a:ext cx="769608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gravitaciona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exp(-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 generalizado de transporte entre i y j. Valor único para el par ij, debe tomar en cuenta todos los modos disponibles.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838080" y="5486400"/>
                <a:ext cx="304812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762120" y="3809880"/>
                <a:ext cx="304776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1" name=""/>
          <p:cNvSpPr/>
          <p:nvPr/>
        </p:nvSpPr>
        <p:spPr>
          <a:xfrm>
            <a:off x="4191120" y="342900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pende de todos los destinos tiene que ver con el beneficio de visitar y con los costos ponderados por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114800" y="510552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pende de todos los orígenes tiene que ver con la posibilidad de ser visitado y los costos ponderados por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114800" y="3581280"/>
            <a:ext cx="76320" cy="1371600"/>
          </a:xfrm>
          <a:custGeom>
            <a:avLst/>
            <a:gdLst>
              <a:gd name="textAreaLeft" fmla="*/ 48960 w 76320"/>
              <a:gd name="textAreaRight" fmla="*/ 76320 w 763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962520" y="5257800"/>
            <a:ext cx="152280" cy="1219320"/>
          </a:xfrm>
          <a:custGeom>
            <a:avLst/>
            <a:gdLst>
              <a:gd name="textAreaLeft" fmla="*/ 97200 w 152280"/>
              <a:gd name="textAreaRight" fmla="*/ 15264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3" dur="indefinite" restart="never" nodeType="tmRoot">
          <p:childTnLst>
            <p:seq>
              <p:cTn id="1354" dur="indefinite" nodeType="mainSeq">
                <p:childTnLst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7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1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914400" y="1143000"/>
            <a:ext cx="7696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tro modelo que proviene de la fís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incipio de Maximización de la Entropí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600200" y="2743200"/>
            <a:ext cx="2209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, D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410080" y="2743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stado ma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209680" y="3809880"/>
            <a:ext cx="221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{V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486400" y="3809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Estado m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562720" y="56386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tado mi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971800" y="510552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isiones individuales de vi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rot="5400000">
            <a:off x="1790640" y="2323800"/>
            <a:ext cx="457200" cy="2362320"/>
          </a:xfrm>
          <a:custGeom>
            <a:avLst/>
            <a:gdLst>
              <a:gd name="textAreaLeft" fmla="*/ 292320 w 457200"/>
              <a:gd name="textAreaRight" fmla="*/ 457560 w 4572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rot="5400000">
            <a:off x="2324160" y="3543120"/>
            <a:ext cx="457200" cy="2362320"/>
          </a:xfrm>
          <a:custGeom>
            <a:avLst/>
            <a:gdLst>
              <a:gd name="textAreaLeft" fmla="*/ 292320 w 457200"/>
              <a:gd name="textAreaRight" fmla="*/ 457560 w 4572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523880" y="2743200"/>
            <a:ext cx="1067040" cy="5335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209680" y="3809880"/>
            <a:ext cx="762120" cy="5335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895480" y="5029200"/>
            <a:ext cx="190512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9" dur="indefinite" restart="never" nodeType="tmRoot">
          <p:childTnLst>
            <p:seq>
              <p:cTn id="1410" dur="indefinite" nodeType="mainSeq">
                <p:childTnLst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5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6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1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9" fill="hold">
                            <p:stCondLst>
                              <p:cond delay="500"/>
                            </p:stCondLst>
                            <p:childTnLst>
                              <p:par>
                                <p:cTn id="14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fill="hold">
                      <p:stCondLst>
                        <p:cond delay="indefinite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0" fill="hold">
                      <p:stCondLst>
                        <p:cond delay="indefinite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5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7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8" fill="hold">
                            <p:stCondLst>
                              <p:cond delay="500"/>
                            </p:stCondLst>
                            <p:childTnLst>
                              <p:par>
                                <p:cTn id="14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1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1" fill="hold">
                            <p:stCondLst>
                              <p:cond delay="500"/>
                            </p:stCondLst>
                            <p:childTnLst>
                              <p:par>
                                <p:cTn id="14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914400" y="1143000"/>
            <a:ext cx="7696080" cy="52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Hipótes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 falta de mayor información, todos los microestados son equiprob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Restric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ado un estado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MACR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(restriccion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encontrar el estado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ES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ás prob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será aquel que tenga un mayor número de 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microestados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asoci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rincipio de Maximización de la Entropí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6" dur="indefinite" restart="never" nodeType="tmRoot">
          <p:childTnLst>
            <p:seq>
              <p:cTn id="1487" dur="indefinite" nodeType="mainSeq">
                <p:childTnLst>
                  <p:par>
                    <p:cTn id="1488" fill="hold">
                      <p:stCondLst>
                        <p:cond delay="indefinite"/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2" dur="5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3" dur="5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4" fill="hold">
                      <p:stCondLst>
                        <p:cond delay="indefinite"/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9" dur="500" fill="hold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4" dur="500" fill="hold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5" dur="500" fill="hold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0" dur="500" fill="hold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7" dur="500" fill="hold"/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fill="hold">
                      <p:stCondLst>
                        <p:cond delay="indefinite"/>
                      </p:stCondLst>
                      <p:childTnLst>
                        <p:par>
                          <p:cTn id="1519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5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9" dur="500" fill="hold"/>
                                        <p:tgtEl>
                                          <p:spTgt spid="5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914400" y="914400"/>
            <a:ext cx="769608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4 zonas, 2 habit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stado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MACR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(restricciones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O1=O2=2        D1=D2=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ncontrar el estado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ES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ás prob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esoestados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compatibles con ese macroes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914400" y="5181480"/>
          <a:ext cx="2505240" cy="15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181480"/>
                    <a:ext cx="25052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4" name=""/>
          <p:cNvGraphicFramePr/>
          <p:nvPr/>
        </p:nvGraphicFramePr>
        <p:xfrm>
          <a:off x="3886200" y="5105520"/>
          <a:ext cx="2295360" cy="1552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5105520"/>
                    <a:ext cx="2295360" cy="15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6" name=""/>
          <p:cNvGraphicFramePr/>
          <p:nvPr/>
        </p:nvGraphicFramePr>
        <p:xfrm>
          <a:off x="6705720" y="5029200"/>
          <a:ext cx="2295360" cy="15526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5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05720" y="5029200"/>
                    <a:ext cx="229536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0" dur="indefinite" restart="never" nodeType="tmRoot">
          <p:childTnLst>
            <p:seq>
              <p:cTn id="1531" dur="indefinite" nodeType="mainSeq">
                <p:childTnLst>
                  <p:par>
                    <p:cTn id="1532" fill="hold">
                      <p:stCondLst>
                        <p:cond delay="indefinite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6" dur="5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7" dur="5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8" fill="hold">
                      <p:stCondLst>
                        <p:cond delay="indefinite"/>
                      </p:stCondLst>
                      <p:childTnLst>
                        <p:par>
                          <p:cTn id="1539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2" dur="500" fill="hold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8" dur="500" fill="hold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fill="hold">
                      <p:stCondLst>
                        <p:cond delay="indefinite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4" dur="500" fill="hold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5" dur="500" fill="hold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0" dur="500" fill="hold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fill="hold">
                      <p:stCondLst>
                        <p:cond delay="indefinite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6" dur="500" fill="hold"/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2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3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fill="hold">
                      <p:stCondLst>
                        <p:cond delay="indefinite"/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fill="hold">
                      <p:stCondLst>
                        <p:cond delay="indefinite"/>
                      </p:stCondLst>
                      <p:childTnLst>
                        <p:par>
                          <p:cTn id="1581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4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0" y="152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33520" y="5335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microestados asociados a cada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esoes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304920" y="1676520"/>
          <a:ext cx="1752480" cy="108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76520"/>
                    <a:ext cx="1752480" cy="10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2" name=""/>
          <p:cNvGraphicFramePr/>
          <p:nvPr/>
        </p:nvGraphicFramePr>
        <p:xfrm>
          <a:off x="228600" y="4191120"/>
          <a:ext cx="1676520" cy="1133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191120"/>
                    <a:ext cx="1676520" cy="11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4" name=""/>
          <p:cNvGraphicFramePr/>
          <p:nvPr/>
        </p:nvGraphicFramePr>
        <p:xfrm>
          <a:off x="5791320" y="4038480"/>
          <a:ext cx="1676160" cy="11336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5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91320" y="4038480"/>
                    <a:ext cx="1676160" cy="11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6" name=""/>
          <p:cNvGraphicFramePr/>
          <p:nvPr/>
        </p:nvGraphicFramePr>
        <p:xfrm>
          <a:off x="2057400" y="1143000"/>
          <a:ext cx="5943600" cy="26193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56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57400" y="1143000"/>
                    <a:ext cx="5943600" cy="26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8" name=""/>
          <p:cNvGraphicFramePr/>
          <p:nvPr/>
        </p:nvGraphicFramePr>
        <p:xfrm>
          <a:off x="1905120" y="4114800"/>
          <a:ext cx="2825640" cy="12747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05120" y="4114800"/>
                    <a:ext cx="2825640" cy="12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0" name=""/>
          <p:cNvGraphicFramePr/>
          <p:nvPr/>
        </p:nvGraphicFramePr>
        <p:xfrm>
          <a:off x="5334120" y="5181480"/>
          <a:ext cx="3047760" cy="13748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7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334120" y="5181480"/>
                    <a:ext cx="3047760" cy="13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6" dur="indefinite" restart="never" nodeType="tmRoot">
          <p:childTnLst>
            <p:seq>
              <p:cTn id="1587" dur="indefinite" nodeType="mainSeq">
                <p:childTnLst>
                  <p:par>
                    <p:cTn id="1588" fill="hold">
                      <p:stCondLst>
                        <p:cond delay="indefinite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2" dur="5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3" dur="5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4" fill="hold">
                      <p:stCondLst>
                        <p:cond delay="indefinite"/>
                      </p:stCondLst>
                      <p:childTnLst>
                        <p:par>
                          <p:cTn id="1595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8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9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0" fill="hold">
                      <p:stCondLst>
                        <p:cond delay="indefinite"/>
                      </p:stCondLst>
                      <p:childTnLst>
                        <p:par>
                          <p:cTn id="1601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5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6" fill="hold">
                      <p:stCondLst>
                        <p:cond delay="indefinite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0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fill="hold">
                      <p:stCondLst>
                        <p:cond delay="indefinite"/>
                      </p:stCondLst>
                      <p:childTnLst>
                        <p:par>
                          <p:cTn id="1613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6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7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8" fill="hold">
                      <p:stCondLst>
                        <p:cond delay="indefinite"/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2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4" fill="hold">
                      <p:stCondLst>
                        <p:cond delay="indefinite"/>
                      </p:stCondLst>
                      <p:childTnLst>
                        <p:par>
                          <p:cTn id="1625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914400" y="11430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lson (1971) demostró qu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2971800" y="1752480"/>
                <a:ext cx="220968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!</m:t>
                        </m:r>
                      </m:num>
                      <m:den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5" name=""/>
          <p:cNvSpPr/>
          <p:nvPr/>
        </p:nvSpPr>
        <p:spPr>
          <a:xfrm>
            <a:off x="1066680" y="3200400"/>
            <a:ext cx="76964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W: entropía = número de microestados asociados al mesoestado {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6" name=""/>
              <p:cNvSpPr txBox="1"/>
              <p:nvPr/>
            </p:nvSpPr>
            <p:spPr>
              <a:xfrm>
                <a:off x="380880" y="4572000"/>
                <a:ext cx="838224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!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!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!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!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0" dur="indefinite" restart="never" nodeType="tmRoot">
          <p:childTnLst>
            <p:seq>
              <p:cTn id="1631" dur="indefinite" nodeType="mainSeq">
                <p:childTnLst>
                  <p:par>
                    <p:cTn id="1632" fill="hold">
                      <p:stCondLst>
                        <p:cond delay="indefinite"/>
                      </p:stCondLst>
                      <p:childTnLst>
                        <p:par>
                          <p:cTn id="1633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6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7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8" fill="hold">
                      <p:stCondLst>
                        <p:cond delay="indefinite"/>
                      </p:stCondLst>
                      <p:childTnLst>
                        <p:par>
                          <p:cTn id="1639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2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3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4" fill="hold">
                      <p:stCondLst>
                        <p:cond delay="indefinite"/>
                      </p:stCondLst>
                      <p:childTnLst>
                        <p:par>
                          <p:cTn id="1645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8" dur="5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9" dur="5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0" fill="hold">
                      <p:stCondLst>
                        <p:cond delay="indefinite"/>
                      </p:stCondLst>
                      <p:childTnLst>
                        <p:par>
                          <p:cTn id="1651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914400" y="114300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tado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ESO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ás probable ==&gt; maximizar W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9" name=""/>
              <p:cNvSpPr txBox="1"/>
              <p:nvPr/>
            </p:nvSpPr>
            <p:spPr>
              <a:xfrm>
                <a:off x="2971800" y="1752480"/>
                <a:ext cx="220968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!</m:t>
                        </m:r>
                      </m:num>
                      <m:den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0" name=""/>
          <p:cNvSpPr/>
          <p:nvPr/>
        </p:nvSpPr>
        <p:spPr>
          <a:xfrm>
            <a:off x="1066680" y="3200400"/>
            <a:ext cx="76964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unción difícil de optimiz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aproximación de Stirl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ln (N!) ~ N ln N - N     (para N grande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209680" y="1905120"/>
            <a:ext cx="76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685800" y="5334120"/>
                <a:ext cx="243828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 </m:t>
                    </m:r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!</m:t>
                        </m:r>
                      </m:num>
                      <m:den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</m:e>
                        </m:nary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3809880" y="5410080"/>
                <a:ext cx="5486400" cy="8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!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</m:e>
                            </m:nary>
                          </m:e>
                        </m:nary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!</m:t>
                        </m:r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4" name=""/>
          <p:cNvSpPr/>
          <p:nvPr/>
        </p:nvSpPr>
        <p:spPr>
          <a:xfrm rot="5350800">
            <a:off x="3161880" y="5524200"/>
            <a:ext cx="304560" cy="381240"/>
          </a:xfrm>
          <a:prstGeom prst="upDownArrow">
            <a:avLst>
              <a:gd name="adj1" fmla="val 50000"/>
              <a:gd name="adj2" fmla="val 2491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657600" y="61722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6" dur="indefinite" restart="never" nodeType="tmRoot">
          <p:childTnLst>
            <p:seq>
              <p:cTn id="1657" dur="indefinite" nodeType="mainSeq">
                <p:childTnLst>
                  <p:par>
                    <p:cTn id="1658" fill="hold">
                      <p:stCondLst>
                        <p:cond delay="indefinite"/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2" dur="5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3" dur="5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4" fill="hold">
                      <p:stCondLst>
                        <p:cond delay="indefinite"/>
                      </p:stCondLst>
                      <p:childTnLst>
                        <p:par>
                          <p:cTn id="1665" fill="hold">
                            <p:stCondLst>
                              <p:cond delay="0"/>
                            </p:stCondLst>
                            <p:childTnLst>
                              <p:par>
                                <p:cTn id="1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8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9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0" fill="hold">
                            <p:stCondLst>
                              <p:cond delay="500"/>
                            </p:stCondLst>
                            <p:childTnLst>
                              <p:par>
                                <p:cTn id="16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3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4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9" dur="5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0" dur="5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1" fill="hold">
                      <p:stCondLst>
                        <p:cond delay="indefinite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5" dur="5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6" dur="5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1" dur="500" fill="hold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2" dur="500" fill="hold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7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8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3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4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9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0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1" fill="hold">
                      <p:stCondLst>
                        <p:cond delay="indefinite"/>
                      </p:stCondLst>
                      <p:childTnLst>
                        <p:par>
                          <p:cTn id="1712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5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6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914400" y="1143000"/>
            <a:ext cx="7696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. . .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exp(-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8" name=""/>
              <p:cNvSpPr txBox="1"/>
              <p:nvPr/>
            </p:nvSpPr>
            <p:spPr>
              <a:xfrm>
                <a:off x="533520" y="2819520"/>
                <a:ext cx="304776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9" name=""/>
              <p:cNvSpPr txBox="1"/>
              <p:nvPr/>
            </p:nvSpPr>
            <p:spPr>
              <a:xfrm>
                <a:off x="533520" y="1752480"/>
                <a:ext cx="304776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0" name=""/>
          <p:cNvSpPr/>
          <p:nvPr/>
        </p:nvSpPr>
        <p:spPr>
          <a:xfrm>
            <a:off x="3962520" y="2133720"/>
            <a:ext cx="4952880" cy="25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o de maximización de la entropía doblemente acotado con restricción de cos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33520" y="4114800"/>
            <a:ext cx="84582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gual a gravitacio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quiere calibra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dado que no conocemos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7" dur="indefinite" restart="never" nodeType="tmRoot">
          <p:childTnLst>
            <p:seq>
              <p:cTn id="1718" dur="indefinite" nodeType="mainSeq">
                <p:childTnLst>
                  <p:par>
                    <p:cTn id="1719" fill="hold">
                      <p:stCondLst>
                        <p:cond delay="indefinite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3" dur="5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4" dur="5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5" fill="hold">
                      <p:stCondLst>
                        <p:cond delay="indefinite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9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0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1" fill="hold">
                      <p:stCondLst>
                        <p:cond delay="indefinite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1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2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3" fill="hold">
                      <p:stCondLst>
                        <p:cond delay="indefinite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7" dur="5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8" dur="5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fill="hold">
                      <p:stCondLst>
                        <p:cond delay="indefinite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3" dur="5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4" dur="5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5" fill="hold">
                      <p:stCondLst>
                        <p:cond delay="indefinite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9" dur="500" fill="hold"/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0" dur="500" fill="hold"/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5" dur="500" fill="hold"/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6" dur="500" fill="hold"/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914400" y="1143000"/>
            <a:ext cx="7696080" cy="61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rco de mode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modificaciones: agregar o quitar restric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emente acotado a oríg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emente acotado a desti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 aco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tricciones adi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po de pers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638680" y="6172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7" dur="indefinite" restart="never" nodeType="tmRoot">
          <p:childTnLst>
            <p:seq>
              <p:cTn id="1768" dur="indefinite" nodeType="mainSeq">
                <p:childTnLst>
                  <p:par>
                    <p:cTn id="1769" fill="hold">
                      <p:stCondLst>
                        <p:cond delay="indefinite"/>
                      </p:stCondLst>
                      <p:childTnLst>
                        <p:par>
                          <p:cTn id="1770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3" dur="5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4" dur="5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5" fill="hold">
                      <p:stCondLst>
                        <p:cond delay="indefinite"/>
                      </p:stCondLst>
                      <p:childTnLst>
                        <p:par>
                          <p:cTn id="1776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9" dur="5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0" dur="5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1" fill="hold">
                      <p:stCondLst>
                        <p:cond delay="indefinite"/>
                      </p:stCondLst>
                      <p:childTnLst>
                        <p:par>
                          <p:cTn id="1782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5" dur="500" fill="hold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6" dur="500" fill="hold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7" fill="hold">
                      <p:stCondLst>
                        <p:cond delay="indefinite"/>
                      </p:stCondLst>
                      <p:childTnLst>
                        <p:par>
                          <p:cTn id="1788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1" dur="500" fill="hold"/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2" dur="500" fill="hold"/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fill="hold">
                      <p:stCondLst>
                        <p:cond delay="indefinite"/>
                      </p:stCondLst>
                      <p:childTnLst>
                        <p:par>
                          <p:cTn id="1794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7" dur="500" fill="hold"/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8" dur="500" fill="hold"/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9" fill="hold">
                      <p:stCondLst>
                        <p:cond delay="indefinite"/>
                      </p:stCondLst>
                      <p:childTnLst>
                        <p:par>
                          <p:cTn id="1800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3" dur="500" fill="hold"/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4" dur="500" fill="hold"/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fill="hold">
                      <p:stCondLst>
                        <p:cond delay="indefinite"/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9" dur="500" fill="hold"/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0" dur="500" fill="hold"/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1" fill="hold">
                      <p:stCondLst>
                        <p:cond delay="indefinite"/>
                      </p:stCondLst>
                      <p:childTnLst>
                        <p:par>
                          <p:cTn id="1812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5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6" dur="500" fill="hold"/>
                                        <p:tgtEl>
                                          <p:spTgt spid="5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7" fill="hold">
                      <p:stCondLst>
                        <p:cond delay="indefinite"/>
                      </p:stCondLst>
                      <p:childTnLst>
                        <p:par>
                          <p:cTn id="1818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1" dur="500" fill="hold"/>
                                        <p:tgtEl>
                                          <p:spTgt spid="5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2" dur="500" fill="hold"/>
                                        <p:tgtEl>
                                          <p:spTgt spid="5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3" fill="hold">
                      <p:stCondLst>
                        <p:cond delay="indefinite"/>
                      </p:stCondLst>
                      <p:childTnLst>
                        <p:par>
                          <p:cTn id="1824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7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8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1066680" y="4572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0880" y="1371600"/>
            <a:ext cx="8229600" cy="57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Información disponib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{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...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, {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...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, 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atriz anterior (actual) {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sto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Métodos de Factor de Crec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actor de crecimiento UNIFOR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F·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ólo utiliza información de variación en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762120"/>
            <a:ext cx="914400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ximización de la Entrop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600200" y="1981080"/>
            <a:ext cx="2209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, D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410080" y="19810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stado ma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209680" y="3048120"/>
            <a:ext cx="221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{V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486400" y="30481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Estado m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562720" y="48769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tado mi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895480" y="426708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isiones individuales de vi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rot="5400000">
            <a:off x="1790640" y="1561680"/>
            <a:ext cx="457200" cy="2362320"/>
          </a:xfrm>
          <a:custGeom>
            <a:avLst/>
            <a:gdLst>
              <a:gd name="textAreaLeft" fmla="*/ 292320 w 457200"/>
              <a:gd name="textAreaRight" fmla="*/ 457560 w 4572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rot="5400000">
            <a:off x="2324160" y="2781000"/>
            <a:ext cx="457200" cy="2362320"/>
          </a:xfrm>
          <a:custGeom>
            <a:avLst/>
            <a:gdLst>
              <a:gd name="textAreaLeft" fmla="*/ 292320 w 457200"/>
              <a:gd name="textAreaRight" fmla="*/ 457560 w 4572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523880" y="1981080"/>
            <a:ext cx="1067040" cy="5335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209680" y="3048120"/>
            <a:ext cx="762120" cy="5331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895480" y="4267080"/>
            <a:ext cx="190512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9" dur="indefinite" restart="never" nodeType="tmRoot">
          <p:childTnLst>
            <p:seq>
              <p:cTn id="1830" dur="indefinite" nodeType="mainSeq">
                <p:childTnLst>
                  <p:par>
                    <p:cTn id="1831" fill="hold">
                      <p:stCondLst>
                        <p:cond delay="indefinite"/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5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6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7" fill="hold">
                            <p:stCondLst>
                              <p:cond delay="500"/>
                            </p:stCondLst>
                            <p:childTnLst>
                              <p:par>
                                <p:cTn id="18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0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1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2" fill="hold">
                      <p:stCondLst>
                        <p:cond delay="indefinite"/>
                      </p:stCondLst>
                      <p:childTnLst>
                        <p:par>
                          <p:cTn id="1843" fill="hold">
                            <p:stCondLst>
                              <p:cond delay="0"/>
                            </p:stCondLst>
                            <p:childTnLst>
                              <p:par>
                                <p:cTn id="1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6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7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8" fill="hold">
                      <p:stCondLst>
                        <p:cond delay="indefinite"/>
                      </p:stCondLst>
                      <p:childTnLst>
                        <p:par>
                          <p:cTn id="1849" fill="hold">
                            <p:stCondLst>
                              <p:cond delay="0"/>
                            </p:stCondLst>
                            <p:childTnLst>
                              <p:par>
                                <p:cTn id="1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2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3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4" fill="hold">
                      <p:stCondLst>
                        <p:cond delay="indefinite"/>
                      </p:stCondLst>
                      <p:childTnLst>
                        <p:par>
                          <p:cTn id="1855" fill="hold">
                            <p:stCondLst>
                              <p:cond delay="0"/>
                            </p:stCondLst>
                            <p:childTnLst>
                              <p:par>
                                <p:cTn id="1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8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9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0" fill="hold">
                      <p:stCondLst>
                        <p:cond delay="indefinite"/>
                      </p:stCondLst>
                      <p:childTnLst>
                        <p:par>
                          <p:cTn id="1861" fill="hold">
                            <p:stCondLst>
                              <p:cond delay="0"/>
                            </p:stCondLst>
                            <p:childTnLst>
                              <p:par>
                                <p:cTn id="1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4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5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6" fill="hold">
                            <p:stCondLst>
                              <p:cond delay="500"/>
                            </p:stCondLst>
                            <p:childTnLst>
                              <p:par>
                                <p:cTn id="18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9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0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1" fill="hold">
                      <p:stCondLst>
                        <p:cond delay="indefinite"/>
                      </p:stCondLst>
                      <p:childTnLst>
                        <p:par>
                          <p:cTn id="1872" fill="hold">
                            <p:stCondLst>
                              <p:cond delay="0"/>
                            </p:stCondLst>
                            <p:childTnLst>
                              <p:par>
                                <p:cTn id="1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5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6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7" fill="hold">
                      <p:stCondLst>
                        <p:cond delay="indefinite"/>
                      </p:stCondLst>
                      <p:childTnLst>
                        <p:par>
                          <p:cTn id="1878" fill="hold">
                            <p:stCondLst>
                              <p:cond delay="0"/>
                            </p:stCondLst>
                            <p:childTnLst>
                              <p:par>
                                <p:cTn id="1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1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2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3" fill="hold">
                      <p:stCondLst>
                        <p:cond delay="indefinite"/>
                      </p:stCondLst>
                      <p:childTnLst>
                        <p:par>
                          <p:cTn id="1884" fill="hold">
                            <p:stCondLst>
                              <p:cond delay="0"/>
                            </p:stCondLst>
                            <p:childTnLst>
                              <p:par>
                                <p:cTn id="18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7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8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9" fill="hold">
                            <p:stCondLst>
                              <p:cond delay="500"/>
                            </p:stCondLst>
                            <p:childTnLst>
                              <p:par>
                                <p:cTn id="18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2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3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914400" y="11430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0" name=""/>
              <p:cNvSpPr txBox="1"/>
              <p:nvPr/>
            </p:nvSpPr>
            <p:spPr>
              <a:xfrm>
                <a:off x="4267080" y="2438280"/>
                <a:ext cx="308628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β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1" name=""/>
          <p:cNvSpPr/>
          <p:nvPr/>
        </p:nvSpPr>
        <p:spPr>
          <a:xfrm>
            <a:off x="380880" y="3352680"/>
            <a:ext cx="853452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1) n=0 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1/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o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2) n=n+1 calcular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, calcular c(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, comparar con 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o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son parecidos parar, si no, ir a paso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3) cal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2" name=""/>
              <p:cNvSpPr txBox="1"/>
              <p:nvPr/>
            </p:nvSpPr>
            <p:spPr>
              <a:xfrm>
                <a:off x="2133720" y="5105520"/>
                <a:ext cx="670536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obs</m:t>
                            </m:r>
                          </m:sup>
                        </m:s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obs</m:t>
                            </m:r>
                          </m:sup>
                        </m:s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i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obs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3" name=""/>
          <p:cNvSpPr/>
          <p:nvPr/>
        </p:nvSpPr>
        <p:spPr>
          <a:xfrm>
            <a:off x="690840" y="1066680"/>
            <a:ext cx="465516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 S(~W) s.a. O, D,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A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exp(-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libración d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 método               de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80880" y="601992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4) repetir 2 y 3 hasta converg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4" dur="indefinite" restart="never" nodeType="tmRoot">
          <p:childTnLst>
            <p:seq>
              <p:cTn id="1895" dur="indefinite" nodeType="mainSeq">
                <p:childTnLst>
                  <p:par>
                    <p:cTn id="1896" fill="hold">
                      <p:stCondLst>
                        <p:cond delay="indefinite"/>
                      </p:stCondLst>
                      <p:childTnLst>
                        <p:par>
                          <p:cTn id="1897" fill="hold">
                            <p:stCondLst>
                              <p:cond delay="0"/>
                            </p:stCondLst>
                            <p:childTnLst>
                              <p:par>
                                <p:cTn id="1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0" dur="500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1" dur="500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2" fill="hold">
                      <p:stCondLst>
                        <p:cond delay="indefinite"/>
                      </p:stCondLst>
                      <p:childTnLst>
                        <p:par>
                          <p:cTn id="1903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6" dur="500" fill="hold"/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7" dur="500" fill="hold"/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8" fill="hold">
                      <p:stCondLst>
                        <p:cond delay="indefinite"/>
                      </p:stCondLst>
                      <p:childTnLst>
                        <p:par>
                          <p:cTn id="1909" fill="hold">
                            <p:stCondLst>
                              <p:cond delay="0"/>
                            </p:stCondLst>
                            <p:childTnLst>
                              <p:par>
                                <p:cTn id="1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2" dur="500" fill="hold"/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3" dur="500" fill="hold"/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4" fill="hold">
                      <p:stCondLst>
                        <p:cond delay="indefinite"/>
                      </p:stCondLst>
                      <p:childTnLst>
                        <p:par>
                          <p:cTn id="1915" fill="hold">
                            <p:stCondLst>
                              <p:cond delay="0"/>
                            </p:stCondLst>
                            <p:childTnLst>
                              <p:par>
                                <p:cTn id="1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8" dur="500" fill="hold"/>
                                        <p:tgtEl>
                                          <p:spTgt spid="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9" dur="500" fill="hold"/>
                                        <p:tgtEl>
                                          <p:spTgt spid="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0" fill="hold">
                      <p:stCondLst>
                        <p:cond delay="indefinite"/>
                      </p:stCondLst>
                      <p:childTnLst>
                        <p:par>
                          <p:cTn id="1921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4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5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6" fill="hold">
                      <p:stCondLst>
                        <p:cond delay="indefinite"/>
                      </p:stCondLst>
                      <p:childTnLst>
                        <p:par>
                          <p:cTn id="1927" fill="hold">
                            <p:stCondLst>
                              <p:cond delay="0"/>
                            </p:stCondLst>
                            <p:childTnLst>
                              <p:par>
                                <p:cTn id="1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0" dur="5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1" dur="5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2" fill="hold">
                      <p:stCondLst>
                        <p:cond delay="indefinite"/>
                      </p:stCondLst>
                      <p:childTnLst>
                        <p:par>
                          <p:cTn id="1933" fill="hold">
                            <p:stCondLst>
                              <p:cond delay="0"/>
                            </p:stCondLst>
                            <p:childTnLst>
                              <p:par>
                                <p:cTn id="1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6" dur="500" fill="hold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7" dur="500" fill="hold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8" fill="hold">
                      <p:stCondLst>
                        <p:cond delay="indefinite"/>
                      </p:stCondLst>
                      <p:childTnLst>
                        <p:par>
                          <p:cTn id="1939" fill="hold">
                            <p:stCondLst>
                              <p:cond delay="0"/>
                            </p:stCondLst>
                            <p:childTnLst>
                              <p:par>
                                <p:cTn id="1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2" dur="500" fill="hold"/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3" dur="500" fill="hold"/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4" fill="hold">
                      <p:stCondLst>
                        <p:cond delay="indefinite"/>
                      </p:stCondLst>
                      <p:childTnLst>
                        <p:par>
                          <p:cTn id="1945" fill="hold">
                            <p:stCondLst>
                              <p:cond delay="0"/>
                            </p:stCondLst>
                            <p:childTnLst>
                              <p:par>
                                <p:cTn id="19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8" dur="500" fill="hold"/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9" dur="500" fill="hold"/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0" fill="hold">
                      <p:stCondLst>
                        <p:cond delay="indefinite"/>
                      </p:stCondLst>
                      <p:childTnLst>
                        <p:par>
                          <p:cTn id="1951" fill="hold">
                            <p:stCondLst>
                              <p:cond delay="0"/>
                            </p:stCondLst>
                            <p:childTnLst>
                              <p:par>
                                <p:cTn id="1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4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5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6" fill="hold">
                      <p:stCondLst>
                        <p:cond delay="indefinite"/>
                      </p:stCondLst>
                      <p:childTnLst>
                        <p:par>
                          <p:cTn id="1957" fill="hold">
                            <p:stCondLst>
                              <p:cond delay="0"/>
                            </p:stCondLst>
                            <p:childTnLst>
                              <p:par>
                                <p:cTn id="1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0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1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914400" y="1143000"/>
            <a:ext cx="7696080" cy="61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rco de mode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modificaciones: agregar o quitar restric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emente acotado a oríg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emente acotado a desti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 aco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tricciones adi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po de pers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638680" y="6172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 deriv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2" dur="indefinite" restart="never" nodeType="tmRoot">
          <p:childTnLst>
            <p:seq>
              <p:cTn id="1963" dur="indefinite" nodeType="mainSeq">
                <p:childTnLst>
                  <p:par>
                    <p:cTn id="1964" fill="hold">
                      <p:stCondLst>
                        <p:cond delay="indefinite"/>
                      </p:stCondLst>
                      <p:childTnLst>
                        <p:par>
                          <p:cTn id="1965" fill="hold">
                            <p:stCondLst>
                              <p:cond delay="0"/>
                            </p:stCondLst>
                            <p:childTnLst>
                              <p:par>
                                <p:cTn id="1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8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9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0" fill="hold">
                      <p:stCondLst>
                        <p:cond delay="indefinite"/>
                      </p:stCondLst>
                      <p:childTnLst>
                        <p:par>
                          <p:cTn id="1971" fill="hold">
                            <p:stCondLst>
                              <p:cond delay="0"/>
                            </p:stCondLst>
                            <p:childTnLst>
                              <p:par>
                                <p:cTn id="1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4" dur="500" fill="hold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5" dur="500" fill="hold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6" fill="hold">
                      <p:stCondLst>
                        <p:cond delay="indefinite"/>
                      </p:stCondLst>
                      <p:childTnLst>
                        <p:par>
                          <p:cTn id="1977" fill="hold">
                            <p:stCondLst>
                              <p:cond delay="0"/>
                            </p:stCondLst>
                            <p:childTnLst>
                              <p:par>
                                <p:cTn id="1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0" dur="5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1" dur="5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2" fill="hold">
                      <p:stCondLst>
                        <p:cond delay="indefinite"/>
                      </p:stCondLst>
                      <p:childTnLst>
                        <p:par>
                          <p:cTn id="1983" fill="hold">
                            <p:stCondLst>
                              <p:cond delay="0"/>
                            </p:stCondLst>
                            <p:childTnLst>
                              <p:par>
                                <p:cTn id="1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6" dur="500" fill="hold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7" dur="500" fill="hold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8" fill="hold">
                      <p:stCondLst>
                        <p:cond delay="indefinite"/>
                      </p:stCondLst>
                      <p:childTnLst>
                        <p:par>
                          <p:cTn id="1989" fill="hold">
                            <p:stCondLst>
                              <p:cond delay="0"/>
                            </p:stCondLst>
                            <p:childTnLst>
                              <p:par>
                                <p:cTn id="1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2" dur="500" fill="hold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3" dur="500" fill="hold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4" fill="hold">
                      <p:stCondLst>
                        <p:cond delay="indefinite"/>
                      </p:stCondLst>
                      <p:childTnLst>
                        <p:par>
                          <p:cTn id="1995" fill="hold">
                            <p:stCondLst>
                              <p:cond delay="0"/>
                            </p:stCondLst>
                            <p:childTnLst>
                              <p:par>
                                <p:cTn id="1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8" dur="500" fill="hold"/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9" dur="500" fill="hold"/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0" fill="hold">
                      <p:stCondLst>
                        <p:cond delay="indefinite"/>
                      </p:stCondLst>
                      <p:childTnLst>
                        <p:par>
                          <p:cTn id="2001" fill="hold">
                            <p:stCondLst>
                              <p:cond delay="0"/>
                            </p:stCondLst>
                            <p:childTnLst>
                              <p:par>
                                <p:cTn id="2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4" dur="500" fill="hold"/>
                                        <p:tgtEl>
                                          <p:spTgt spid="6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5" dur="500" fill="hold"/>
                                        <p:tgtEl>
                                          <p:spTgt spid="6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6" fill="hold">
                      <p:stCondLst>
                        <p:cond delay="indefinite"/>
                      </p:stCondLst>
                      <p:childTnLst>
                        <p:par>
                          <p:cTn id="2007" fill="hold">
                            <p:stCondLst>
                              <p:cond delay="0"/>
                            </p:stCondLst>
                            <p:childTnLst>
                              <p:par>
                                <p:cTn id="2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0" dur="500" fill="hold"/>
                                        <p:tgtEl>
                                          <p:spTgt spid="6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1" dur="500" fill="hold"/>
                                        <p:tgtEl>
                                          <p:spTgt spid="6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2" fill="hold">
                      <p:stCondLst>
                        <p:cond delay="indefinite"/>
                      </p:stCondLst>
                      <p:childTnLst>
                        <p:par>
                          <p:cTn id="2013" fill="hold">
                            <p:stCondLst>
                              <p:cond delay="0"/>
                            </p:stCondLst>
                            <p:childTnLst>
                              <p:par>
                                <p:cTn id="2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6" dur="500" fill="hold"/>
                                        <p:tgtEl>
                                          <p:spTgt spid="6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7" dur="500" fill="hold"/>
                                        <p:tgtEl>
                                          <p:spTgt spid="6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8" fill="hold">
                      <p:stCondLst>
                        <p:cond delay="indefinite"/>
                      </p:stCondLst>
                      <p:childTnLst>
                        <p:par>
                          <p:cTn id="2019" fill="hold">
                            <p:stCondLst>
                              <p:cond delay="0"/>
                            </p:stCondLst>
                            <p:childTnLst>
                              <p:par>
                                <p:cTn id="2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2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3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1701720" y="1255680"/>
            <a:ext cx="5251680" cy="560232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3576600" y="2259000"/>
            <a:ext cx="7905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N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652920" y="5530680"/>
            <a:ext cx="7779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S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261040" y="5211720"/>
            <a:ext cx="13921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SUR-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562120" y="4483080"/>
            <a:ext cx="10335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O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213520" y="3017880"/>
            <a:ext cx="9363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3962520"/>
            <a:ext cx="8650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CEN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535040" y="88920"/>
            <a:ext cx="675324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ff"/>
                </a:solidFill>
                <a:latin typeface="Times New Roman"/>
              </a:rPr>
              <a:t>Santiago en Seis Grandes Are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>
            <a:hlinkClick r:id="" action="ppaction://hlinkshowjump?jump=previousslide"/>
          </p:cNvPr>
          <p:cNvSpPr/>
          <p:nvPr/>
        </p:nvSpPr>
        <p:spPr>
          <a:xfrm>
            <a:off x="8381880" y="685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96920" y="1989000"/>
            <a:ext cx="170172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: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01.46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</a:t>
            </a: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789.4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: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.360.09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e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4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8" name=""/>
          <p:cNvCxnSpPr>
            <a:stCxn id="627" idx="3"/>
          </p:cNvCxnSpPr>
          <p:nvPr/>
        </p:nvCxnSpPr>
        <p:spPr>
          <a:xfrm flipV="1">
            <a:off x="1898640" y="2350440"/>
            <a:ext cx="184392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9" name=""/>
          <p:cNvSpPr/>
          <p:nvPr/>
        </p:nvSpPr>
        <p:spPr>
          <a:xfrm>
            <a:off x="7315200" y="1523880"/>
            <a:ext cx="182880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58.805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775.208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      2.444.4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   </a:t>
            </a:r>
            <a:r>
              <a:rPr b="0" lang="es-ES_tradnl" sz="1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6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60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28600" y="3657600"/>
            <a:ext cx="183528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14.26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1.218.15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.664.88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5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8360" y="5191200"/>
            <a:ext cx="172080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34.58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1.345.34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.730.23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4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6711840" y="3355920"/>
            <a:ext cx="190512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78.936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06.044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    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684.368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  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9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7162920" y="5257800"/>
            <a:ext cx="182880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25.88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1.210.86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.596.99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 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4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7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4" name=""/>
          <p:cNvCxnSpPr>
            <a:stCxn id="630" idx="3"/>
            <a:endCxn id="622" idx="1"/>
          </p:cNvCxnSpPr>
          <p:nvPr/>
        </p:nvCxnSpPr>
        <p:spPr>
          <a:xfrm>
            <a:off x="2063880" y="4356000"/>
            <a:ext cx="498960" cy="270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5" name=""/>
          <p:cNvCxnSpPr>
            <a:stCxn id="631" idx="3"/>
            <a:endCxn id="620" idx="1"/>
          </p:cNvCxnSpPr>
          <p:nvPr/>
        </p:nvCxnSpPr>
        <p:spPr>
          <a:xfrm flipV="1">
            <a:off x="1919160" y="5673240"/>
            <a:ext cx="17344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6" name=""/>
          <p:cNvCxnSpPr>
            <a:stCxn id="633" idx="1"/>
          </p:cNvCxnSpPr>
          <p:nvPr/>
        </p:nvCxnSpPr>
        <p:spPr>
          <a:xfrm flipH="1" flipV="1">
            <a:off x="6322320" y="5484240"/>
            <a:ext cx="840600" cy="47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7" name=""/>
          <p:cNvCxnSpPr>
            <a:stCxn id="629" idx="1"/>
          </p:cNvCxnSpPr>
          <p:nvPr/>
        </p:nvCxnSpPr>
        <p:spPr>
          <a:xfrm flipH="1">
            <a:off x="5881320" y="2222280"/>
            <a:ext cx="1434240" cy="80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8" name=""/>
          <p:cNvCxnSpPr>
            <a:endCxn id="624" idx="3"/>
          </p:cNvCxnSpPr>
          <p:nvPr/>
        </p:nvCxnSpPr>
        <p:spPr>
          <a:xfrm flipH="1">
            <a:off x="4750920" y="4063680"/>
            <a:ext cx="1612080" cy="4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0880" y="1219320"/>
            <a:ext cx="8229600" cy="11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étodos simplemente aco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F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rígen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5029200" y="1676520"/>
                <a:ext cx="1403280" cy="11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9" name=""/>
          <p:cNvSpPr/>
          <p:nvPr/>
        </p:nvSpPr>
        <p:spPr>
          <a:xfrm>
            <a:off x="380880" y="3048120"/>
            <a:ext cx="822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F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stino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5105520" y="2919240"/>
                <a:ext cx="1415880" cy="11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1" name=""/>
          <p:cNvSpPr/>
          <p:nvPr/>
        </p:nvSpPr>
        <p:spPr>
          <a:xfrm>
            <a:off x="457200" y="41148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Se cumplen las restricciones?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976320" y="5029200"/>
                <a:ext cx="178272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4249800" y="5029200"/>
                <a:ext cx="194004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80880" y="1219320"/>
            <a:ext cx="822960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formación disponi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57200" y="41148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114800" y="1828800"/>
          <a:ext cx="2295360" cy="15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828800"/>
                    <a:ext cx="229536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380880" y="2133720"/>
            <a:ext cx="350532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 futuro = 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F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038480" y="1295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triz ac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6400800" y="1295280"/>
          <a:ext cx="771480" cy="2067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00800" y="1295280"/>
                    <a:ext cx="7714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6400800" y="3352680"/>
          <a:ext cx="771480" cy="5241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00800" y="3352680"/>
                    <a:ext cx="77148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5" name=""/>
          <p:cNvSpPr/>
          <p:nvPr/>
        </p:nvSpPr>
        <p:spPr>
          <a:xfrm>
            <a:off x="533520" y="3429000"/>
            <a:ext cx="3124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=(69/51)=1,35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dicción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304920" y="4572000"/>
          <a:ext cx="2409840" cy="155268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920" y="4572000"/>
                    <a:ext cx="24098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2743200" y="4038480"/>
          <a:ext cx="857160" cy="25815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43200" y="4038480"/>
                    <a:ext cx="85716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" name=""/>
          <p:cNvGraphicFramePr/>
          <p:nvPr/>
        </p:nvGraphicFramePr>
        <p:xfrm>
          <a:off x="4572000" y="4191120"/>
          <a:ext cx="771480" cy="20667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572000" y="4191120"/>
                    <a:ext cx="77148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"/>
          <p:cNvSpPr/>
          <p:nvPr/>
        </p:nvSpPr>
        <p:spPr>
          <a:xfrm>
            <a:off x="5638680" y="41911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dicción 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5638680" y="4724280"/>
          <a:ext cx="2295720" cy="155268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638680" y="4724280"/>
                    <a:ext cx="229572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"/>
          <p:cNvGraphicFramePr/>
          <p:nvPr/>
        </p:nvGraphicFramePr>
        <p:xfrm>
          <a:off x="7696080" y="1295280"/>
          <a:ext cx="876600" cy="258156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696080" y="1295280"/>
                    <a:ext cx="87660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8001000" y="4191120"/>
          <a:ext cx="771480" cy="258120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8001000" y="4191120"/>
                    <a:ext cx="771480" cy="25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0880" y="1219320"/>
            <a:ext cx="8229600" cy="25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étodos doblemente aco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si además tengo información de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F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actor promedi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57200" y="41148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 nuestro ejempl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4038480" y="2743200"/>
                <a:ext cx="2286000" cy="11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3" name=""/>
          <p:cNvGraphicFramePr/>
          <p:nvPr/>
        </p:nvGraphicFramePr>
        <p:xfrm>
          <a:off x="1295280" y="838080"/>
          <a:ext cx="2409840" cy="15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838080"/>
                    <a:ext cx="24098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5" name=""/>
          <p:cNvGraphicFramePr/>
          <p:nvPr/>
        </p:nvGraphicFramePr>
        <p:xfrm>
          <a:off x="3733920" y="304920"/>
          <a:ext cx="857160" cy="2066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304920"/>
                    <a:ext cx="85716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7" name=""/>
          <p:cNvGraphicFramePr/>
          <p:nvPr/>
        </p:nvGraphicFramePr>
        <p:xfrm>
          <a:off x="533520" y="2438280"/>
          <a:ext cx="3162240" cy="5241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2438280"/>
                    <a:ext cx="316224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9" name=""/>
          <p:cNvGraphicFramePr/>
          <p:nvPr/>
        </p:nvGraphicFramePr>
        <p:xfrm>
          <a:off x="4648320" y="304920"/>
          <a:ext cx="876240" cy="20667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48320" y="304920"/>
                    <a:ext cx="87624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1" name=""/>
          <p:cNvGraphicFramePr/>
          <p:nvPr/>
        </p:nvGraphicFramePr>
        <p:xfrm>
          <a:off x="380880" y="2971800"/>
          <a:ext cx="3295800" cy="52380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880" y="2971800"/>
                    <a:ext cx="329580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3" name=""/>
          <p:cNvGraphicFramePr/>
          <p:nvPr/>
        </p:nvGraphicFramePr>
        <p:xfrm>
          <a:off x="5562720" y="304920"/>
          <a:ext cx="771480" cy="20667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562720" y="304920"/>
                    <a:ext cx="77148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5" name=""/>
          <p:cNvGraphicFramePr/>
          <p:nvPr/>
        </p:nvGraphicFramePr>
        <p:xfrm>
          <a:off x="380880" y="3505320"/>
          <a:ext cx="3295800" cy="52380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80880" y="3505320"/>
                    <a:ext cx="329580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"/>
          <p:cNvSpPr/>
          <p:nvPr/>
        </p:nvSpPr>
        <p:spPr>
          <a:xfrm>
            <a:off x="380880" y="22860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1295280" y="4800600"/>
          <a:ext cx="2295720" cy="155268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95280" y="4800600"/>
                    <a:ext cx="229572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"/>
          <p:cNvGraphicFramePr/>
          <p:nvPr/>
        </p:nvGraphicFramePr>
        <p:xfrm>
          <a:off x="2057400" y="4267080"/>
          <a:ext cx="771480" cy="52416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057400" y="4267080"/>
                    <a:ext cx="77148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"/>
          <p:cNvGraphicFramePr/>
          <p:nvPr/>
        </p:nvGraphicFramePr>
        <p:xfrm>
          <a:off x="4876920" y="3124080"/>
          <a:ext cx="2295360" cy="206712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876920" y="3124080"/>
                    <a:ext cx="229536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"/>
          <p:cNvSpPr/>
          <p:nvPr/>
        </p:nvSpPr>
        <p:spPr>
          <a:xfrm flipV="1">
            <a:off x="3886200" y="4191120"/>
            <a:ext cx="6094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7238880" y="3124080"/>
          <a:ext cx="771480" cy="2067120"/>
        </p:xfrm>
        <a:graphic>
          <a:graphicData uri="http://schemas.openxmlformats.org/presentationml/2006/ole">
            <p:oleObj progId="Excel.Sheet.12" r:id="rId21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238880" y="3124080"/>
                    <a:ext cx="7714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" name=""/>
          <p:cNvGraphicFramePr/>
          <p:nvPr/>
        </p:nvGraphicFramePr>
        <p:xfrm>
          <a:off x="4114800" y="5257800"/>
          <a:ext cx="3819600" cy="523800"/>
        </p:xfrm>
        <a:graphic>
          <a:graphicData uri="http://schemas.openxmlformats.org/presentationml/2006/ole">
            <p:oleObj progId="Excel.Sheet.12" r:id="rId23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114800" y="5257800"/>
                    <a:ext cx="381960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80880" y="1219320"/>
            <a:ext cx="8763120" cy="57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--&gt; factor promedio: no se cumple ninguna de las dos familias de restric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=&gt; iterar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Hay distintos métodos que se puede us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Método de Furness :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1. 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1, encontrar 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tal que se cumpla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2. Usando esos 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encontrar 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tal que se cumpla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3. Usando esos 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encontrar 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tal que se cumpla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epetir hasta converg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1" name=""/>
          <p:cNvGraphicFramePr/>
          <p:nvPr/>
        </p:nvGraphicFramePr>
        <p:xfrm>
          <a:off x="914400" y="838080"/>
          <a:ext cx="2295360" cy="206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838080"/>
                    <a:ext cx="229536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3" name=""/>
          <p:cNvGraphicFramePr/>
          <p:nvPr/>
        </p:nvGraphicFramePr>
        <p:xfrm>
          <a:off x="3200400" y="838080"/>
          <a:ext cx="1533600" cy="2067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838080"/>
                    <a:ext cx="153360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5" name=""/>
          <p:cNvGraphicFramePr/>
          <p:nvPr/>
        </p:nvGraphicFramePr>
        <p:xfrm>
          <a:off x="152280" y="2895480"/>
          <a:ext cx="3819600" cy="10382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2895480"/>
                    <a:ext cx="381960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724280" y="838080"/>
          <a:ext cx="771480" cy="206712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24280" y="838080"/>
                    <a:ext cx="7714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152280" y="3962520"/>
          <a:ext cx="3059280" cy="52380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52280" y="3962520"/>
                    <a:ext cx="305928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152280" y="4495680"/>
          <a:ext cx="3059280" cy="5241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52280" y="4495680"/>
                    <a:ext cx="305928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3" name=""/>
          <p:cNvGraphicFramePr/>
          <p:nvPr/>
        </p:nvGraphicFramePr>
        <p:xfrm>
          <a:off x="5651640" y="1341360"/>
          <a:ext cx="3314520" cy="209556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651640" y="1341360"/>
                    <a:ext cx="3314520" cy="20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"/>
          <p:cNvGraphicFramePr/>
          <p:nvPr/>
        </p:nvGraphicFramePr>
        <p:xfrm>
          <a:off x="5143680" y="3936960"/>
          <a:ext cx="3377880" cy="209556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143680" y="3936960"/>
                    <a:ext cx="3377880" cy="20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"/>
          <p:cNvSpPr/>
          <p:nvPr/>
        </p:nvSpPr>
        <p:spPr>
          <a:xfrm>
            <a:off x="228600" y="5334120"/>
            <a:ext cx="487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requiere más iteraciones para converger a dos decimales. Aquí tenemos convergencia a 1 decim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Marcela Munizaga</cp:lastModifiedBy>
  <dcterms:modified xsi:type="dcterms:W3CDTF">2006-08-28T08:56:57Z</dcterms:modified>
  <cp:revision>26</cp:revision>
  <dc:subject/>
  <dc:title>Sin título de diapositiva</dc:title>
</cp:coreProperties>
</file>