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embeddings/oleObject11.xlsx" ContentType="application/vnd.openxmlformats-officedocument.spreadsheetml.sheet"/>
  <Override PartName="/ppt/embeddings/oleObject12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52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13.wmf" ContentType="image/x-wmf"/>
  <Override PartName="/ppt/media/image50.wmf" ContentType="image/x-wmf"/>
  <Override PartName="/ppt/media/image40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5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F972-D22E-4F68-A4F1-857AF1E9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7768-39E6-40AC-9866-43913437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F78F-43F9-4696-88A8-75B96DCB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95F4-561E-4E66-ACE3-0EE0702F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D8BE-189B-4BF2-A1E6-A094DE0A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36C3-8CC4-4014-86D6-CDABBA43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416E-0552-41FE-811B-90C64C29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A4EB-BCF6-4DD0-85C8-1DB352E4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8B04-1836-47F5-A967-8906E031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4D25-DA61-4BAB-A69D-D6C96E29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DC87-B397-42F1-8551-2B2B3B7B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2197-374C-4778-BA35-336ED090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5A74-FECE-439E-94DC-4838980DE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3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3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35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36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37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38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39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40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41.wmf"/><Relationship Id="rId2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8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9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0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51.wmf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5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6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7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8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9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20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21.wm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5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26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27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28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29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06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590920"/>
            <a:ext cx="28195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mentos a considerar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bserv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300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3500"/>
                            </p:stCondLst>
                            <p:childTnLst>
                              <p:par>
                                <p:cTn id="6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4000"/>
                            </p:stCondLst>
                            <p:childTnLst>
                              <p:par>
                                <p:cTn id="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4500"/>
                            </p:stCondLst>
                            <p:childTnLst>
                              <p:par>
                                <p:cTn id="6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0"/>
                            </p:stCondLst>
                            <p:childTnLst>
                              <p:par>
                                <p:cTn id="6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500"/>
                            </p:stCondLst>
                            <p:childTnLst>
                              <p:par>
                                <p:cTn id="7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60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6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7000"/>
                            </p:stCondLst>
                            <p:childTnLst>
                              <p:par>
                                <p:cTn id="7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7500"/>
                            </p:stCondLst>
                            <p:childTnLst>
                              <p:par>
                                <p:cTn id="7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8000"/>
                            </p:stCondLst>
                            <p:childTnLst>
                              <p:par>
                                <p:cTn id="7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8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9000"/>
                            </p:stCondLst>
                            <p:childTnLst>
                              <p:par>
                                <p:cTn id="7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950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15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2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685800" y="304920"/>
            <a:ext cx="73915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1523880"/>
            <a:ext cx="815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a vimos: Método de Factor de Crecimiento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rvar estructura de matriz observ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a familia de mode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ísica de Newton --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71600" y="472428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86200" y="55627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3716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620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28800" y="502920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029200" y="441972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f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tr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ficultad de via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229600" y="4419720"/>
            <a:ext cx="609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1371600"/>
            <a:ext cx="82296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población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distancia entre la zona i y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9480" y="34290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86400" y="16002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001000" y="24382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62720" y="12193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001000" y="20574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943600" y="190512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600200" y="3048120"/>
                <a:ext cx="279396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1676520" y="4114800"/>
                <a:ext cx="2666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1752480" y="5181480"/>
                <a:ext cx="259092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2" name=""/>
          <p:cNvSpPr/>
          <p:nvPr/>
        </p:nvSpPr>
        <p:spPr>
          <a:xfrm>
            <a:off x="609480" y="4495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5638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29200" y="5486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 Restricci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00"/>
                            </p:stCondLst>
                            <p:childTnLst>
                              <p:par>
                                <p:cTn id="9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500"/>
                            </p:stCondLst>
                            <p:childTnLst>
                              <p:par>
                                <p:cTn id="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000"/>
                            </p:stCondLst>
                            <p:childTnLst>
                              <p:par>
                                <p:cTn id="9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"/>
                            </p:stCondLst>
                            <p:childTnLst>
                              <p:par>
                                <p:cTn id="9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500"/>
                            </p:stCondLst>
                            <p:childTnLst>
                              <p:par>
                                <p:cTn id="9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500"/>
                            </p:stCondLst>
                            <p:childTnLst>
                              <p:par>
                                <p:cTn id="9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0880" y="1219320"/>
            <a:ext cx="82296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 usam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62120" y="2743200"/>
            <a:ext cx="5029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50000">
                <a:solidFill>
                  <a:srgbClr val="000000"/>
                </a:solidFill>
                <a:latin typeface="Comic Sans MS"/>
              </a:rPr>
              <a:t>-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57200" y="3505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838080" y="4191120"/>
                <a:ext cx="14623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914400" y="5486400"/>
                <a:ext cx="14479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3505320" y="3962520"/>
                <a:ext cx="251460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581280" y="5334120"/>
                <a:ext cx="24386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3" name=""/>
          <p:cNvSpPr/>
          <p:nvPr/>
        </p:nvSpPr>
        <p:spPr>
          <a:xfrm>
            <a:off x="2514600" y="44197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90920" y="57913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4920" y="914400"/>
            <a:ext cx="8229600" cy="72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costo generalizado de 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(costo monetario, tiempo, comodidad, segur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unción --&gt; exponencial o cualquier o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 ·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: factores de balance se calculan ite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1: darse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1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2: con esos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3: con esos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562720" y="5791320"/>
            <a:ext cx="304560" cy="914400"/>
          </a:xfrm>
          <a:custGeom>
            <a:avLst/>
            <a:gdLst>
              <a:gd name="textAreaLeft" fmla="*/ 0 w 304560"/>
              <a:gd name="textAreaRight" fmla="*/ 10980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5880" y="5791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erar hasta conv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0880" y="1219320"/>
            <a:ext cx="822960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 0,00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cusión: ¿qué representa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se calib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6095880" y="914400"/>
          <a:ext cx="876600" cy="258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914400"/>
                    <a:ext cx="87660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2819520" y="2971800"/>
          <a:ext cx="3295440" cy="523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971800"/>
                    <a:ext cx="329544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762120" y="914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5334120" y="228600"/>
          <a:ext cx="3352680" cy="163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28600"/>
                    <a:ext cx="33526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5257800" y="2209680"/>
          <a:ext cx="771480" cy="2581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2209680"/>
                    <a:ext cx="77148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152280" y="4267080"/>
          <a:ext cx="510696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267080"/>
                    <a:ext cx="51069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"/>
          <p:cNvGraphicFramePr/>
          <p:nvPr/>
        </p:nvGraphicFramePr>
        <p:xfrm>
          <a:off x="152280" y="4800600"/>
          <a:ext cx="5106960" cy="5238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480060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6705720" y="2209680"/>
          <a:ext cx="1133280" cy="206712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05720" y="2209680"/>
                    <a:ext cx="1133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6019920" y="2209680"/>
          <a:ext cx="676080" cy="206712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19920" y="2209680"/>
                    <a:ext cx="6760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609480" y="1523880"/>
          <a:ext cx="439272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480" y="1523880"/>
                    <a:ext cx="439272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152280" y="5334120"/>
          <a:ext cx="5106960" cy="5238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2280" y="533412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7848720" y="2209680"/>
          <a:ext cx="109512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848720" y="2209680"/>
                    <a:ext cx="109512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" y="1143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crecimiento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2920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3880" y="4114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ur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562720" y="4114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152280" y="1600200"/>
          <a:ext cx="4183200" cy="206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00200"/>
                    <a:ext cx="418320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4876920" y="1600200"/>
          <a:ext cx="39639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600200"/>
                    <a:ext cx="39639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228600" y="4572000"/>
          <a:ext cx="4105440" cy="2066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572000"/>
                    <a:ext cx="41054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4572000" y="4572000"/>
          <a:ext cx="435456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4572000"/>
                    <a:ext cx="43545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14400" y="838080"/>
            <a:ext cx="7696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14400" y="1143000"/>
            <a:ext cx="7696080" cy="19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conocemos tanto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--&gt; buscamos u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haga que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produzca lo más cercanamente posib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76320" y="1447920"/>
            <a:ext cx="8729280" cy="2314440"/>
            <a:chOff x="76320" y="1447920"/>
            <a:chExt cx="8729280" cy="2314440"/>
          </a:xfrm>
        </p:grpSpPr>
        <p:sp>
          <p:nvSpPr>
            <p:cNvPr id="75" name=""/>
            <p:cNvSpPr/>
            <p:nvPr/>
          </p:nvSpPr>
          <p:spPr>
            <a:xfrm>
              <a:off x="92160" y="1463400"/>
              <a:ext cx="8693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160" y="1463400"/>
              <a:ext cx="8693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160" y="1463400"/>
              <a:ext cx="1800" cy="22986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160" y="1463400"/>
              <a:ext cx="15840" cy="2298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160" y="1463400"/>
              <a:ext cx="8693280" cy="299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160" y="1746000"/>
              <a:ext cx="1216080" cy="2016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557360" y="147924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74000" y="147924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23040" y="14792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38880" y="147924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7920" y="147924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37160" y="147924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20640" y="1479240"/>
              <a:ext cx="9849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TOTAL O</a:t>
              </a:r>
              <a:r>
                <a:rPr b="1" lang="es-ES_tradnl" sz="17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1120" y="176364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42520" y="17636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24 9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083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7436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2460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578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9028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2 00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4088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719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0620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5 8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5500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882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37680" y="17636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72360" y="176364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373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37920" y="17636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 02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89000" y="176364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868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03440" y="17636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23 24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87800" y="17636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8688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1840" y="204624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5844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7 91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086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415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58440" y="20462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5 7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2424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9028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3 47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408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719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0620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4 3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5500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8820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2212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89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712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041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37920" y="20462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1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89000" y="204624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8680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03440" y="20462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29 6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87800" y="20462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8688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1480" y="233028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7544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 73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0976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7508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9136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1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2568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910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74360" y="23302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7 97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4016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06200" y="23302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5 13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55000" y="23302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882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3768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84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7236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3732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20920" y="23302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0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88640" y="23302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202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03440" y="23302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45 90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87800" y="233028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8688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1480" y="261288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7544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0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0976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508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9136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99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2568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910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9028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95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40880" y="26128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7192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0620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0 75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55000" y="26128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882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3768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3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7236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3732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3792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 5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89000" y="261288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868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1936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77 6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88520" y="26128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864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1120" y="289548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5844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76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0868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415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7436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43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2460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578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9028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3 33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4088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719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0620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9 2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5500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882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04760" y="28954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9 45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709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2092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0 88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88640" y="28954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202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03440" y="28954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35 14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87800" y="289548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8688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1120" y="317952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5844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1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086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415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91360" y="317952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4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25680" y="317952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9100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9028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1 8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408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9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0620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0 9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5500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8820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212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6 15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712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041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05000" y="31795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43 22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87560" y="31795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8664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903440" y="31795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31 7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87800" y="31795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8688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0760" y="3462120"/>
              <a:ext cx="974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TOTAL D</a:t>
              </a:r>
              <a:r>
                <a:rPr b="1" lang="es-ES_tradnl" sz="17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4252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84 6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083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5844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04 98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242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7436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54 57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4016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8884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16 38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546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0476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88 86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709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00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93 97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87560" y="34621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866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21640" y="3462120"/>
              <a:ext cx="962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 743 3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867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9216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216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129096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90960" y="1447920"/>
              <a:ext cx="17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30688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06880" y="1447920"/>
              <a:ext cx="17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32280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2280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433872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3872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35500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5500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37092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7092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56936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6936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8000" y="1447920"/>
              <a:ext cx="8677440" cy="3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876960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76960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8000" y="174600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8000" y="1746000"/>
              <a:ext cx="86439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8000" y="203040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8000" y="203040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8000" y="231300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8000" y="2313000"/>
              <a:ext cx="8643960" cy="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8000" y="25970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8000" y="259704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8000" y="28796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8000" y="287964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8000" y="31622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8000" y="3162240"/>
              <a:ext cx="8643960" cy="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8000" y="344628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8000" y="344628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320" y="1447920"/>
              <a:ext cx="31680" cy="231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096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0960" y="1479240"/>
              <a:ext cx="1728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0688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06880" y="1479240"/>
              <a:ext cx="1728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22800" y="1479240"/>
              <a:ext cx="180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22800" y="1479240"/>
              <a:ext cx="1764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38720" y="1479240"/>
              <a:ext cx="180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38720" y="1479240"/>
              <a:ext cx="1764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5500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498680" y="101520"/>
            <a:ext cx="6222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D Santia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Punta Mañana, pax/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10080" y="2819520"/>
            <a:ext cx="99072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2819520"/>
            <a:ext cx="99072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41148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49528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terz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320" y="2895480"/>
            <a:ext cx="8686800" cy="2286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1447920"/>
            <a:ext cx="1066680" cy="23619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52680" y="1447920"/>
            <a:ext cx="990720" cy="23619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>
            <a:hlinkClick r:id="" action="ppaction://hlinkshowjump?jump=lastslide"/>
          </p:cNvPr>
          <p:cNvSpPr/>
          <p:nvPr/>
        </p:nvSpPr>
        <p:spPr>
          <a:xfrm>
            <a:off x="8153280" y="3962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914400" y="838080"/>
            <a:ext cx="7696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914400" y="114300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 que proviene de la fí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ncipio de Maximización de la Entropí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00200" y="274320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4100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stado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09680" y="380988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8640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stado m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62720" y="5638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o 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971800" y="51055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es individuales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5400000">
            <a:off x="1790640" y="232380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2324160" y="354312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23880" y="2743200"/>
            <a:ext cx="106704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209680" y="3809880"/>
            <a:ext cx="76212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895480" y="502920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500"/>
                            </p:stCondLst>
                            <p:childTnLst>
                              <p:par>
                                <p:cTn id="14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fill="hold">
                            <p:stCondLst>
                              <p:cond delay="500"/>
                            </p:stCondLst>
                            <p:childTnLst>
                              <p:par>
                                <p:cTn id="1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500"/>
                            </p:stCondLst>
                            <p:childTnLst>
                              <p:par>
                                <p:cTn id="1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914400" y="1143000"/>
            <a:ext cx="769608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ipótes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falta de mayor información, todos los microestados son equiprob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ado un 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erá aquel que tenga un mayor número de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cr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asoci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incipio de Maximización de la Entropí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6" dur="indefinite" restart="never" nodeType="tmRoot">
          <p:childTnLst>
            <p:seq>
              <p:cTn id="1487" dur="indefinite" nodeType="mainSeq">
                <p:childTnLst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914400" y="914400"/>
            <a:ext cx="7696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4 zonas, 2 habit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O1=O2=2        D1=D2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compatibles con ese macro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914400" y="5181480"/>
          <a:ext cx="25052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81480"/>
                    <a:ext cx="25052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3886200" y="5105520"/>
          <a:ext cx="2295360" cy="1552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105520"/>
                    <a:ext cx="2295360" cy="15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6705720" y="5029200"/>
          <a:ext cx="2295360" cy="1552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50292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3520" y="5335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microestados asociados a cada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eso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304920" y="1676520"/>
          <a:ext cx="1752480" cy="10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175248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228600" y="4191120"/>
          <a:ext cx="1676520" cy="1133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191120"/>
                    <a:ext cx="167652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"/>
          <p:cNvGraphicFramePr/>
          <p:nvPr/>
        </p:nvGraphicFramePr>
        <p:xfrm>
          <a:off x="5791320" y="4038480"/>
          <a:ext cx="1676160" cy="1133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4038480"/>
                    <a:ext cx="167616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2057400" y="1143000"/>
          <a:ext cx="5943600" cy="26193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1143000"/>
                    <a:ext cx="594360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1905120" y="4114800"/>
          <a:ext cx="2825640" cy="1274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4114800"/>
                    <a:ext cx="282564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5334120" y="5181480"/>
          <a:ext cx="3047760" cy="13748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4120" y="5181480"/>
                    <a:ext cx="304776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14400" y="11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son (1971) demostró qu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1066680" y="3200400"/>
            <a:ext cx="7696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W: entropía = número de microestados asociados al mesoestado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380880" y="4572000"/>
                <a:ext cx="83822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0" dur="indefinite" restart="never" nodeType="tmRoot">
          <p:childTnLst>
            <p:seq>
              <p:cTn id="1631" dur="indefinite" nodeType="mainSeq">
                <p:childTnLst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914400" y="11430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E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ás probable ==&gt; maximizar 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1066680" y="3200400"/>
            <a:ext cx="7696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unción difícil de optimiz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aproximación de Stirl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n (N!) ~ N ln N - N     (para N grande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209680" y="190512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685800" y="5334120"/>
                <a:ext cx="24382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3809880" y="5410080"/>
                <a:ext cx="548640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!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!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4" name=""/>
          <p:cNvSpPr/>
          <p:nvPr/>
        </p:nvSpPr>
        <p:spPr>
          <a:xfrm rot="5350800">
            <a:off x="3161880" y="5524200"/>
            <a:ext cx="304560" cy="381240"/>
          </a:xfrm>
          <a:prstGeom prst="upDownArrow">
            <a:avLst>
              <a:gd name="adj1" fmla="val 50000"/>
              <a:gd name="adj2" fmla="val 249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657600" y="6172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6" dur="indefinite" restart="never" nodeType="tmRoot">
          <p:childTnLst>
            <p:seq>
              <p:cTn id="1657" dur="indefinite" nodeType="mainSeq">
                <p:childTnLst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500"/>
                            </p:stCondLst>
                            <p:childTnLst>
                              <p:par>
                                <p:cTn id="16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 . .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533520" y="2819520"/>
                <a:ext cx="30477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533520" y="17524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0" name=""/>
          <p:cNvSpPr/>
          <p:nvPr/>
        </p:nvSpPr>
        <p:spPr>
          <a:xfrm>
            <a:off x="3962520" y="2133720"/>
            <a:ext cx="495288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maximización de la entropía doblemente acotado con restricción de co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33520" y="4114800"/>
            <a:ext cx="8458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 a gravita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quiere calibra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dado que no conocemos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7" dur="indefinite" restart="never" nodeType="tmRoot">
          <p:childTnLst>
            <p:seq>
              <p:cTn id="1718" dur="indefinite" nodeType="mainSeq">
                <p:childTnLst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914400" y="1143000"/>
            <a:ext cx="7696080" cy="61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modificaciones: agregar o quitar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orí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dest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ac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 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1371600"/>
            <a:ext cx="822960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{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triz anterior (actual)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sto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Métodos de Factor de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actor de crecimiento UNIFO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utiliza información de variación e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762120"/>
            <a:ext cx="91440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ximización de la Entrop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600200" y="198108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10080" y="1981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stado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304812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48640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stado m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562720" y="4876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o 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895480" y="42670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es individuales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rot="5400000">
            <a:off x="1790640" y="156168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rot="5400000">
            <a:off x="2324160" y="278100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523880" y="1981080"/>
            <a:ext cx="106704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209680" y="3048120"/>
            <a:ext cx="762120" cy="533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895480" y="426708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9" dur="indefinite" restart="never" nodeType="tmRoot">
          <p:childTnLst>
            <p:seq>
              <p:cTn id="1830" dur="indefinite" nodeType="mainSeq">
                <p:childTnLst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7" fill="hold">
                            <p:stCondLst>
                              <p:cond delay="500"/>
                            </p:stCondLst>
                            <p:childTnLst>
                              <p:par>
                                <p:cTn id="18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6" fill="hold">
                            <p:stCondLst>
                              <p:cond delay="500"/>
                            </p:stCondLst>
                            <p:childTnLst>
                              <p:par>
                                <p:cTn id="18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9" fill="hold">
                            <p:stCondLst>
                              <p:cond delay="500"/>
                            </p:stCondLst>
                            <p:childTnLst>
                              <p:par>
                                <p:cTn id="18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4267080" y="2438280"/>
                <a:ext cx="308628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1" name=""/>
          <p:cNvSpPr/>
          <p:nvPr/>
        </p:nvSpPr>
        <p:spPr>
          <a:xfrm>
            <a:off x="380880" y="3352680"/>
            <a:ext cx="85345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1) n=0 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/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2) n=n+1 calcular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alcular c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omparar con 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on parecidos parar, si no, ir a pas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3) cal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2133720" y="5105520"/>
                <a:ext cx="6705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3" name=""/>
          <p:cNvSpPr/>
          <p:nvPr/>
        </p:nvSpPr>
        <p:spPr>
          <a:xfrm>
            <a:off x="690840" y="1066680"/>
            <a:ext cx="465516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S(~W) s.a. O, D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bración 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método               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80880" y="6019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) repetir 2 y 3 hasta conv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4" dur="indefinite" restart="never" nodeType="tmRoot">
          <p:childTnLst>
            <p:seq>
              <p:cTn id="1895" dur="indefinite" nodeType="mainSeq">
                <p:childTnLst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914400" y="1143000"/>
            <a:ext cx="7696080" cy="61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modificaciones: agregar o quitar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orí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dest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ac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 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deri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2" dur="indefinite" restart="never" nodeType="tmRoot">
          <p:childTnLst>
            <p:seq>
              <p:cTn id="1963" dur="indefinite" nodeType="mainSeq">
                <p:childTnLst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9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6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6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701720" y="1255680"/>
            <a:ext cx="5251680" cy="560232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3576600" y="2259000"/>
            <a:ext cx="790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N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652920" y="5530680"/>
            <a:ext cx="777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261040" y="5211720"/>
            <a:ext cx="139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-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562120" y="4483080"/>
            <a:ext cx="1033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O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213520" y="3017880"/>
            <a:ext cx="936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3962520"/>
            <a:ext cx="865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535040" y="88920"/>
            <a:ext cx="67532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Santiago en Seis Grandes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>
            <a:hlinkClick r:id="" action="ppaction://hlinkshowjump?jump=previousslide"/>
          </p:cNvPr>
          <p:cNvSpPr/>
          <p:nvPr/>
        </p:nvSpPr>
        <p:spPr>
          <a:xfrm>
            <a:off x="8381880" y="685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96920" y="1989000"/>
            <a:ext cx="17017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1.4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9.4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: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.360.0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8" name=""/>
          <p:cNvCxnSpPr>
            <a:stCxn id="627" idx="3"/>
          </p:cNvCxnSpPr>
          <p:nvPr/>
        </p:nvCxnSpPr>
        <p:spPr>
          <a:xfrm flipV="1">
            <a:off x="1898640" y="2350440"/>
            <a:ext cx="184392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7315200" y="152388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58.805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75.20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      2.444.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0" lang="es-ES_tradn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6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60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28600" y="3657600"/>
            <a:ext cx="183528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14.2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8.1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664.8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8360" y="5191200"/>
            <a:ext cx="1720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34.5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345.3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730.2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711840" y="3355920"/>
            <a:ext cx="19051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.936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6.044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684.36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162920" y="525780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25.8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0.8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596.9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4" name=""/>
          <p:cNvCxnSpPr>
            <a:stCxn id="630" idx="3"/>
            <a:endCxn id="622" idx="1"/>
          </p:cNvCxnSpPr>
          <p:nvPr/>
        </p:nvCxnSpPr>
        <p:spPr>
          <a:xfrm>
            <a:off x="2063880" y="4356000"/>
            <a:ext cx="498960" cy="27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5" name=""/>
          <p:cNvCxnSpPr>
            <a:stCxn id="631" idx="3"/>
            <a:endCxn id="620" idx="1"/>
          </p:cNvCxnSpPr>
          <p:nvPr/>
        </p:nvCxnSpPr>
        <p:spPr>
          <a:xfrm flipV="1">
            <a:off x="1919160" y="5673240"/>
            <a:ext cx="17344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6" name=""/>
          <p:cNvCxnSpPr>
            <a:stCxn id="633" idx="1"/>
          </p:cNvCxnSpPr>
          <p:nvPr/>
        </p:nvCxnSpPr>
        <p:spPr>
          <a:xfrm flipH="1" flipV="1">
            <a:off x="6322320" y="5484240"/>
            <a:ext cx="840600" cy="47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7" name=""/>
          <p:cNvCxnSpPr>
            <a:stCxn id="629" idx="1"/>
          </p:cNvCxnSpPr>
          <p:nvPr/>
        </p:nvCxnSpPr>
        <p:spPr>
          <a:xfrm flipH="1">
            <a:off x="5881320" y="2222280"/>
            <a:ext cx="1434240" cy="80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8" name=""/>
          <p:cNvCxnSpPr>
            <a:endCxn id="624" idx="3"/>
          </p:cNvCxnSpPr>
          <p:nvPr/>
        </p:nvCxnSpPr>
        <p:spPr>
          <a:xfrm flipH="1">
            <a:off x="4750920" y="4063680"/>
            <a:ext cx="1612080" cy="4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1219320"/>
            <a:ext cx="822960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simp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ígen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029200" y="1676520"/>
                <a:ext cx="140328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380880" y="304812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stin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105520" y="2919240"/>
                <a:ext cx="141588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Se cumplen las 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976320" y="5029200"/>
                <a:ext cx="1782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249800" y="5029200"/>
                <a:ext cx="19400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219320"/>
            <a:ext cx="82296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114800" y="1828800"/>
          <a:ext cx="229536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8288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380880" y="2133720"/>
            <a:ext cx="35053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futuro = 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38480" y="1295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400800" y="1295280"/>
          <a:ext cx="77148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2952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6400800" y="3352680"/>
          <a:ext cx="77148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33526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533520" y="342900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=(69/51)=1,35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04920" y="4572000"/>
          <a:ext cx="2409840" cy="1552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57200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2743200" y="4038480"/>
          <a:ext cx="8571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4038480"/>
                    <a:ext cx="8571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4572000" y="41911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41911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5638680" y="4191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5638680" y="4724280"/>
          <a:ext cx="2295720" cy="15526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472428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7696080" y="1295280"/>
          <a:ext cx="87660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96080" y="1295280"/>
                    <a:ext cx="87660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8001000" y="4191120"/>
          <a:ext cx="771480" cy="25812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001000" y="4191120"/>
                    <a:ext cx="77148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1219320"/>
            <a:ext cx="8229600" cy="25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dob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i además tengo información de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actor prome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nuestro ejempl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038480" y="2743200"/>
                <a:ext cx="228600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1295280" y="838080"/>
          <a:ext cx="24098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83808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3733920" y="304920"/>
          <a:ext cx="8571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04920"/>
                    <a:ext cx="8571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533520" y="2438280"/>
          <a:ext cx="316224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438280"/>
                    <a:ext cx="316224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4648320" y="304920"/>
          <a:ext cx="87624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304920"/>
                    <a:ext cx="8762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380880" y="2971800"/>
          <a:ext cx="329580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297180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5562720" y="3049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3049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380880" y="3505320"/>
          <a:ext cx="3295800" cy="52380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0880" y="350532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380880" y="228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295280" y="4800600"/>
          <a:ext cx="2295720" cy="155268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5280" y="480060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2057400" y="4267080"/>
          <a:ext cx="771480" cy="52416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57400" y="42670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4876920" y="3124080"/>
          <a:ext cx="2295360" cy="206712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76920" y="3124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 flipV="1">
            <a:off x="3886200" y="419112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7238880" y="3124080"/>
          <a:ext cx="77148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238880" y="3124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4114800" y="5257800"/>
          <a:ext cx="3819600" cy="52380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114800" y="5257800"/>
                    <a:ext cx="38196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1219320"/>
            <a:ext cx="876312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-&gt; factor promedio: no se cumple ninguna de las dos familias de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itera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ay distintos métodos que se puede us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étodo de Furness :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.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1,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2. Usando esos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3. Usando esos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petir hasta conver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914400" y="838080"/>
          <a:ext cx="229536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3200400" y="838080"/>
          <a:ext cx="153360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838080"/>
                    <a:ext cx="153360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152280" y="2895480"/>
          <a:ext cx="3819600" cy="1038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895480"/>
                    <a:ext cx="381960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724280" y="838080"/>
          <a:ext cx="771480" cy="20671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838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152280" y="3962520"/>
          <a:ext cx="305928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280" y="3962520"/>
                    <a:ext cx="3059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152280" y="4495680"/>
          <a:ext cx="3059280" cy="5241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280" y="4495680"/>
                    <a:ext cx="30592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5651640" y="1341360"/>
          <a:ext cx="3314520" cy="209556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51640" y="1341360"/>
                    <a:ext cx="331452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5143680" y="3936960"/>
          <a:ext cx="3377880" cy="2095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43680" y="3936960"/>
                    <a:ext cx="337788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228600" y="53341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quiere más iteraciones para converger a dos decimales. Aquí tenemos convergencia a 1 dec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6-08-28T08:56:57Z</dcterms:modified>
  <cp:revision>26</cp:revision>
  <dc:subject/>
  <dc:title>Sin título de diapositiva</dc:title>
</cp:coreProperties>
</file>