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F42-3386-4EE8-BD2F-36C47442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DEF-C6FD-4D86-A0AC-CEFB76C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4EB-8186-433E-A772-33CB9CB5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172-FD93-4F02-8E24-4FD1C893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459-E14F-47BC-BA1F-6A616ECD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67D-5504-43EB-869A-29F2DF5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5D4D-E1D0-465F-BAD5-7A9E974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C681-2323-4A2B-9F34-C2812B8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68A-32DB-4F89-9BA6-4FAC1D8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875D-A90D-460C-81BD-EEA7485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A281-1C01-4A1E-B746-83010ABA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3FE-712F-4F0C-B014-1BBA8242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4297-DE8C-479D-AC34-40E6925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B22-169A-4AC2-A60E-6C3755E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B6CF-469E-4CAA-A029-38B25C4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D708-56FD-4463-B098-F46FA969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B70-C179-4A2B-A72E-4985B447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6E0-5BE4-4C68-8B76-2D565CB5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FCE-E17F-49D7-B867-E60B527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E02-DC10-4323-BD04-CFBD9E5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C75-52D9-4F67-A901-E01C0AE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0D3-132D-4831-A529-BA31C25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8F6-C278-456C-AE24-654CE5F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5CD-83EA-4FD9-A24B-963B30B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B10-F1DE-43FA-9507-F9117AC93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B1B-C096-4EE5-A8B9-EE5432E0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</a:t>
            </a:r>
            <a:br>
              <a:rPr sz="3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ller  I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ernes 04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0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 dos mercados inicialmente aislados, conectados a través de un sistema de transp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rvas de oferta y demanda de un bien que se produce y consume en ambos mercados, son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100 -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0 –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gunta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r y graficar el equilibrio en ambos mer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ficar las curvas de exceso de demanda y exceso de oferta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ar la ecuación de demanda de transporte y graficar su cur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)  ¿Cuál es la máxima cantidad a transportar si el transporte fuera gratui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)  ¿Cuál es la máxima tarifa para que exista transpo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buje en el mismo gráfico anterior, la curva de oferta de transporte t=20+Q y encuentre el punto de equilibrio de est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ndo el resultado de la pregunta 4, indique cuáles serían los precios y las cantidades demandadas y consumidas en los mercados M1 y M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8-03T23:46:49Z</dcterms:modified>
  <cp:revision>22</cp:revision>
  <dc:subject/>
  <dc:title>Taller  I</dc:title>
</cp:coreProperties>
</file>