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15B-77BE-4B48-B83D-91EEB2AB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8F5-44FC-4508-84A9-7F259E06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D98-420C-4ACC-86BC-16745313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807-C556-4FF9-9728-F169E36E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F180-30DB-47ED-B018-3B941EDD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1175-DFCA-4A26-8D84-5B8D1FA7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4D5A-8491-4613-8548-D80AC032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8B6A-3CD4-4FD5-B704-9B715BE3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72E7-4781-4CFD-8D57-91478B57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545C-9DC9-4BA9-996C-84F83C8D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B625-3879-49CF-8809-A9391BD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278-B0F4-4FE9-8DAD-78AB98D5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DEC5-F428-495D-A61B-379F454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457F-E7F2-42E5-97FB-DF71F975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8D40-12E0-4F30-A0E5-F762DA3E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B272-6C7B-4238-AE7D-C8E66F9B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7AC8-DC23-447B-B41E-B14C046B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887-B11E-4064-8219-B7568625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32E4-B7F8-4E11-BA21-D8B4D68A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0C91-151C-4DC0-814F-6389FC08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0AD-99B4-4EC2-A172-53DCB6E0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853-F2BA-4C51-BDAD-E67E5563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544-28D2-47F1-8801-AD95E2E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A09-7CB2-41A6-82EA-5038A44C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0C58-C364-4756-B120-B1BBC43C6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B843-5967-4978-8929-1E4D5A966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</a:t>
            </a:r>
            <a:br>
              <a:rPr sz="3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ller  II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s Puntu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ernes 04 de agost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0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e dos mercados inicialmente aislados, conectados a través de un sistema de transpo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 curvas de oferta y demanda de un bien que se produce y consume en ambos mercados, son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100 -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50 –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gunta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02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r y graficar el equilibrio en ambos mer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ficar las curvas de exceso de demanda y exceso de oferta según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ontrar la ecuación de demanda de transporte y graficar su curv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)  ¿Cuál es la máxima cantidad a transportar si el transporte fuera gratui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)  ¿Cuál es la máxima tarifa para que exista transpor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buje en el mismo gráfico anterior, la curva de oferta de transporte t=20+Q y encuentre el punto de equilibrio de este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tilizando el resultado de la pregunta 4, indique cuáles serían los precios y las cantidades demandadas y consumidas en los mercados M1 y M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8-03T23:46:49Z</dcterms:modified>
  <cp:revision>22</cp:revision>
  <dc:subject/>
  <dc:title>Taller  I</dc:title>
</cp:coreProperties>
</file>