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671-34A7-478D-99C1-62878157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E01-7E3A-4D05-A4DF-E0A21263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C50-84FF-45E8-817F-350ED68F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AD3-4530-4F05-ABEC-DE441D47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3CF3-438E-4971-8837-1A88962C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AF34-C29D-408A-BA0D-66E8799E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645D-3003-44BD-95BF-53AC6242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E573-0A39-41DC-AFE2-01155F48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A814-6EB5-4BD2-AC00-FE2A1521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D41C-AC5F-4D65-8AFA-EA2ED25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6A5-AB65-47FD-8D1A-293A582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479-10EB-4D68-A60C-3EF808A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BFF7-BCF4-472D-9812-CF6A1C5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E36-8EE8-421B-B62A-CA8F302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5459-1C0B-4D1A-8E77-29F66C1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7178-AC08-49C6-A665-9D686716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CE07-3117-4A64-8C05-8027E6EA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DDF-F23F-4E3C-B58A-0A4DB230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A9F-EF21-4727-9E42-BDF7934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070-F453-4A1C-BBBB-18665AA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232-5415-4EA1-A1C8-C1FF70A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FCD-2C5F-4E57-A234-8BEC817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F13-C120-4138-8917-5E3CE72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7C4-9213-494F-A548-1B8749E5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E604-1319-4DB3-A43E-D436A72B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9F0-3C7C-431C-819B-091CEA8E6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</a:t>
            </a:r>
            <a:br>
              <a:rPr sz="3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ller  I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ernes 04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0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 dos mercados inicialmente aislados, conectados a través de un sistema de transp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rvas de oferta y demanda de un bien que se produce y consume en ambos mercados, son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100 -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0 –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gunta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r y graficar el equilibrio en ambos mer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ficar las curvas de exceso de demanda y exceso de oferta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ar la ecuación de demanda de transporte y graficar su cur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)  ¿Cuál es la máxima cantidad a transportar si el transporte fuera gratui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)  ¿Cuál es la máxima tarifa para que exista transpo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buje en el mismo gráfico anterior, la curva de oferta de transporte t=20+Q y encuentre el punto de equilibrio de est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ndo el resultado de la pregunta 4, indique cuáles serían los precios y las cantidades demandadas y consumidas en los mercados M1 y M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8-03T23:46:49Z</dcterms:modified>
  <cp:revision>22</cp:revision>
  <dc:subject/>
  <dc:title>Taller  I</dc:title>
</cp:coreProperties>
</file>