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E7D-349D-412D-906F-95553339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D337-2567-418D-B57E-D9563E73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EDFF-1305-4A12-B493-4036BDF3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1985-BD69-452A-B589-C317C252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2DA0-BC7E-4A7B-857A-4038E6FA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3952-9EB9-4C65-ACC2-121ED253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D358-723B-46CA-B2DA-A51C2B94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8C7B-E115-4699-B54C-E98B4079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CE6D-4A75-4369-ADFF-9B578CA7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26C8-208E-4691-8A04-C3BB449B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8C1E-CA79-48BF-AA04-16FE490B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74EB-459C-46E4-AF30-6BAE6971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82BA-AFD7-41D9-86C3-9D3E20B0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092D-56F8-477E-ABEC-35D65978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65DD-2FF3-4797-AE99-831B7226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0BC8-CDF3-45EC-A506-C8ACE06A9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6CF5-9F25-4471-AFD8-C11363E16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C250-993D-4A86-A0C5-BBC01DFA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D18A-5C5C-428B-96AA-C2137C97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196C-47A6-4327-9227-469BD6AC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9CE3-E9DF-4D66-9759-A781E1A3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291F-4BC4-45AA-A5C6-EA9A0054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3599-D766-4852-94F0-4BA42E0A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DF40-1ACB-455A-B04C-4A6DEEC0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3806-EF86-40C6-BC39-2863CDC7F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F33D-4F06-4FFF-8168-98DF36323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I43A</a:t>
            </a:r>
            <a:br>
              <a:rPr sz="30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aller  II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95280" y="39621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rcados Puntu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allerci43a@gmail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iernes 04 de agosto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bl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802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e dos mercados inicialmente aislados, conectados a través de un sistema de transpor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s curvas de oferta y demanda de un bien que se produce y consume en ambos mercados, son las sigu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ert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2P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mand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D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100 - 2P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fert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-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mand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250 – P</a:t>
            </a:r>
            <a:r>
              <a:rPr b="0" lang="es-MX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Preguntas: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802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olver y graficar el equilibrio en ambos merc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raficar las curvas de exceso de demanda y exceso de oferta según correspo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contrar la ecuación de demanda de transporte y graficar su curv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)  ¿Cuál es la máxima cantidad a transportar si el transporte fuera gratui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b)  ¿Cuál es la máxima tarifa para que exista transport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buje en el mismo gráfico anterior, la curva de oferta de transporte t=20+Q y encuentre el punto de equilibrio de este 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Arial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tilizando el resultado de la pregunta 4, indique cuáles serían los precios y las cantidades demandadas y consumidas en los mercados M1 y M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1:18:51Z</dcterms:created>
  <dc:creator>F M</dc:creator>
  <dc:description/>
  <dc:language>en-US</dc:language>
  <cp:lastModifiedBy>Vargas Quezada</cp:lastModifiedBy>
  <dcterms:modified xsi:type="dcterms:W3CDTF">2006-08-03T23:46:49Z</dcterms:modified>
  <cp:revision>22</cp:revision>
  <dc:subject/>
  <dc:title>Taller  I</dc:title>
</cp:coreProperties>
</file>