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13D-57AE-4736-B071-27109FA8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BCC-5530-48B3-95DA-BCF5E064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E53-752B-408B-837E-E87CA1D5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8E4-564A-4604-9F6B-68C84F74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343-1387-4B65-A24D-2165A79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BC0-448C-444D-8A0D-18D3B785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70C-DA2A-45C1-9E8D-E4A56A3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A34-B665-49F2-868E-EED976F4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737-1CB4-473F-BAE1-A12E459F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C9C-9F6A-456A-9CAB-0B071E4A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523-A5EB-4F45-AC2F-FC2AB724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4B5-63F6-4378-97C2-22AC79E3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F647-91A1-444A-A2E5-224D9A82518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m</cp:lastModifiedBy>
  <dcterms:modified xsi:type="dcterms:W3CDTF">2006-08-02T14:06:04Z</dcterms:modified>
  <cp:revision>60</cp:revision>
  <dc:subject/>
  <dc:title>Sin título de diapositiva</dc:title>
</cp:coreProperties>
</file>