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795-B10D-4CA7-9658-05D8A250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356-3E82-41A6-BFEC-421F989B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689-F620-488D-BEBA-5A70DD74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4A0-E6E5-4AA1-B282-F8BE2BF6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80E-908D-4415-A205-E352404C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E74-03C8-4738-A714-E9E4F5E9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55A-5876-447F-99E0-3AC96E36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911-C7F7-40FE-98B4-3161297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33E-38B2-4F8C-8F0C-0BA62EB7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4DE-6467-48B5-B6BE-125619D9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A8E-7087-4C9A-9ED1-11D2FC1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1E5-6E16-4247-B988-18D64B2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6EE6-1C0E-42F7-B57C-2984E867E06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6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523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81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4724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5238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51460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80060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5562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60958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335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97180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712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62120" y="4786200"/>
              <a:ext cx="3643200" cy="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495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5638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5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1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6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0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5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m</cp:lastModifiedBy>
  <dcterms:modified xsi:type="dcterms:W3CDTF">2006-08-02T14:06:04Z</dcterms:modified>
  <cp:revision>60</cp:revision>
  <dc:subject/>
  <dc:title>Sin título de diapositiva</dc:title>
</cp:coreProperties>
</file>