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6E66-182C-4B5D-A863-69F33A3C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B04-EB0C-42AD-A3C1-30C16B07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202-22F4-4DB1-B85F-50567138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72D4-0CFB-46FE-95B1-AE6A661FC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6ECE-194E-43C9-A978-1EBEB9AD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FE3-0DB4-4044-9745-56A3BC2C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4E0-D423-46B8-AD1E-417159F2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91AE-0D14-4557-9678-17AAEC9E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1A0-A662-4717-8159-09CD5809E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22DD-4D66-4B0E-A586-4F2CAFD3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4E2-92F5-4063-AFA2-B1604A7B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AB64-A686-41EA-B5AA-614DD9FD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84CE-FC8C-4F28-BD97-B110C311655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6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15238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2438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581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4724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15238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251460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480060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57400" y="5562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60958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5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15000" y="3352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95480" y="297180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77120" y="4800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62120" y="4786200"/>
              <a:ext cx="3643200" cy="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4495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2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38480" y="5638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2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5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1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6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0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5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m</cp:lastModifiedBy>
  <dcterms:modified xsi:type="dcterms:W3CDTF">2006-08-02T14:06:04Z</dcterms:modified>
  <cp:revision>60</cp:revision>
  <dc:subject/>
  <dc:title>Sin título de diapositiva</dc:title>
</cp:coreProperties>
</file>