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E2B-1127-47F7-98F8-60A758FE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F45-7DD4-428A-B4AD-BB3D69CA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EC2-EAA9-4115-A802-13FCB6F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20F-9FB5-4EEC-A394-DA1862E9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D4B-3AFE-4E0B-8B8F-0FD665E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C88-2E5E-4A86-BC5F-3DFE6B0A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7D9-25C3-412D-B5E9-7DE80A1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EA2-7D58-4F51-BD6A-62EAC89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FF-5F48-4B31-BB74-609E111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8B7-E49D-4CAF-A6A7-C501E3C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F97-8967-45C4-98AD-9A8C2F3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235-20EB-4C68-BC98-323045C8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9AF-0508-4379-83D1-99490440BE0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6-08-02T14:06:04Z</dcterms:modified>
  <cp:revision>60</cp:revision>
  <dc:subject/>
  <dc:title>Sin título de diapositiva</dc:title>
</cp:coreProperties>
</file>