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EA8-A221-430D-90E2-354C61CF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EDB-9C10-45F7-840B-B17F78AB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0F2-0131-451E-BAD8-8AD4E948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7F6-B981-4016-A167-38BC4412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F26E-1B6B-40BF-ACBB-71F9F75F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7487-6517-4FC7-B9CB-F0F6606B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03E9-3E2B-45D3-A939-2778A53C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DE5E-2D53-4AC7-9C84-638D9F3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5114-958B-4756-A2A1-898F02C0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11BA-D20D-4917-A224-AF434A85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CDED-625F-4864-ADCE-725EB14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1C2-4B75-48E1-ACE3-6B61DAA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D888-4128-4728-8D5C-608773A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E538-0A03-49F2-B39F-4F3E97CF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BAD5-678C-486F-933C-0ECA18BB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CE9D-5E47-486C-B95A-44E6D5B1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47E-3E5B-4319-9D3E-BB5D6983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F1C-A112-49E3-8F2B-E336ADC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116-018E-4F38-80DA-A797418E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B5C-A624-4DEA-9A31-78E14B1B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68D-E5A9-4539-B1B1-3B196EFD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6F9-A520-423A-AE6F-65517F5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32C-4838-4A69-8A4C-88741D33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E2A-C9AF-48B1-93BC-AC8E3CB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929-C44D-45BF-BD1A-A855268F8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84D-ABCE-4260-BA7B-F77E459C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Julio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l Coordinador del 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) Enviar taller a: tallerci43a@gmail.com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7-28T04:03:58Z</dcterms:modified>
  <cp:revision>18</cp:revision>
  <dc:subject/>
  <dc:title>Taller  I</dc:title>
</cp:coreProperties>
</file>