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19E-06AD-4200-B1DA-14E199B0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22A-8742-4B5C-8643-8C1923B6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AAA-31EF-45A9-A17A-F3A47E57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839-736B-4CC3-95C5-6BA01BB9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16D9-2493-48FC-9192-44043D66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6A2F-A561-44CC-8B7C-99F14B10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EAC5-A407-4E4B-B850-61D7899D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D225-B812-47D6-B1EC-C2E0F8D3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5D45-1D0C-44BB-A998-0FF4EA79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D852-E798-420F-868D-FC0CF666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777D-AE3C-4E3F-BE3A-4223B3F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956-2878-4E51-A426-10937AEB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6601-6474-4F2A-BFAD-62C93688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78A7-9B37-40B5-A298-9AC3216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7022-7F63-4E85-B3D1-7C54A996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01A4-D8CC-44B2-905D-E791E3E0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29D-E2BC-4E11-8F03-792FD2DF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78A-7727-4A85-8E24-19B75A92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A44-BA51-4DD6-BEEC-DD06A577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65F-E153-4E64-A05E-A74CAF37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873-6445-418A-98E8-8BC2B444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B4B-FC05-4DE1-A8C5-D4543E6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0A8-7CC9-4303-A50A-7260F1E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721-0371-4FB4-A158-5F1F923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FCBC-334B-4570-AD5F-06B6FEB93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1068-12BA-4692-9FB7-A4EF731CA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9436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Julio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l Coordinador del 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) Enviar taller a: tallerci43a@gmail.com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7-28T04:03:58Z</dcterms:modified>
  <cp:revision>18</cp:revision>
  <dc:subject/>
  <dc:title>Taller  I</dc:title>
</cp:coreProperties>
</file>