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A1E6-F907-40F9-A6F8-23F1CBEA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1FF2-9581-4507-A5D3-E849B640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275-4337-4292-B36C-382CDA38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946-37C8-4503-9CD9-433357F8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67FF-8D9A-4471-BAD2-18F2E0C4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B5D7-8B18-484C-AA86-791A8ABF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BA44-BBD9-46E6-A267-D8EC0072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BD7B-4526-435A-BEB3-C42A2F21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9858-BE9F-488A-AC1A-DA512B2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1931-CDD6-42A5-A85D-9ED57B67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7E61-DC17-4A41-85AE-818302C7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7939-5981-4F75-AD30-8FA32C94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5276-7C06-4741-B968-E816F31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A65E-8332-457D-BB0A-0AA0D846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CB79-F7E4-497B-93AD-00AC3BFB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B4BE-1640-4AC2-ADFD-3367B332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3CA8-BC4F-4255-AA80-F597DC2C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4493-612F-4F8C-B7EA-1690ACFF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D1E-601E-4177-A054-FA8720AD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2D2-46A3-4682-A553-139D971C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7784-75A0-4CE4-82BE-C6F6CE6B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ECF-2230-438B-A2E4-4D42D366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84C-3948-4D1C-842F-18CF93D4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74D-C6E6-4C0F-9D56-3C6D2484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3E84-E36B-4A44-8C4A-AF999A1DA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D8EC-56BC-4E9E-B59A-9E6D3D22C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943600"/>
            <a:ext cx="334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 Julio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557360"/>
            <a:ext cx="77724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l Coordinador del T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3) Enviar taller a: tallerci43a@gmail.com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7-28T04:03:58Z</dcterms:modified>
  <cp:revision>18</cp:revision>
  <dc:subject/>
  <dc:title>Taller  I</dc:title>
</cp:coreProperties>
</file>