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475-5398-43CF-B6D9-B57864EE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31A-4A76-46D8-9ADC-F7600040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976-AED9-4775-9BAE-2DD2759E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C30-89CB-4A30-B6AF-C4C6FEA5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0316-9F83-40F0-8D3F-4D683896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B1CE-95CE-4213-A543-A8A0F9E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E6C3-FF02-4C02-A4A6-2B649999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DBF9-E4CE-43EC-B7C2-59FA9EB5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64E-5B24-4C78-8EF6-99CF4FB2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78A6-E118-40D3-949F-562608FE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8CA6-8088-4F7F-BD2B-DB4D2BC0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2A7-8A5D-44F3-B78A-4A252BB9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4447-1C3C-490E-AF7C-1F4CC0F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0A5D-2F97-4B0E-9985-EC2C43AE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2718-47D4-4170-ABB6-333BE61E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F607-F1EF-4445-A692-10B724F2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926B-C107-47E0-AD49-346C90FB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DB9-77B2-4F37-AE86-F7ACBAAE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7CC-B43E-451B-93B0-7E128F0D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F1B-0A55-4170-B5EB-6B12FDDB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29F-91C0-436E-8D3E-26EFC673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0B4-C09A-4BBE-9887-873B4005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5AB-C102-4964-9806-6D1BCFE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C40-206D-4020-A7E6-B074B4C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5CBF-ED75-4068-86F2-379130898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3E0F-CA97-4891-835E-414BB187F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9436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Julio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l Coordinador del T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) Enviar taller a: tallerci43a@gmail.com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7-28T04:03:58Z</dcterms:modified>
  <cp:revision>18</cp:revision>
  <dc:subject/>
  <dc:title>Taller  I</dc:title>
</cp:coreProperties>
</file>