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C8B5-D1B0-4197-8BF3-C6582289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F17-9D27-4785-95D2-2E3F3DFD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7575-A09D-491A-AB92-8142C6AD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79E8-A77C-4875-9A2C-3AD76432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00FA-02C8-43B2-88A2-186D7491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F6F2-E848-4D0F-B21B-55B1D384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89B-A979-4A71-AFCA-D80AF5ED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26B-BE4F-4DDF-8BDC-FE70DDB9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8E9F-8394-4CCD-8A40-410BCE5C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8729-985D-4B5D-B0BC-0ED954A9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38D4-43E5-4C16-B778-F99D26F1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231-9C2E-487C-9CF8-16FE6062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3491-EB0A-4B82-BCEE-5BC3019A7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la Serie de Concentración Tecnológica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 Civil Industr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l paquete de electivos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 Matemáti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3124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46483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46483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dentificación del á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ecesidade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s de Ofer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odología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es de cáted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e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es aux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valuació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es de talleres (3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roles y examen (7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m</cp:lastModifiedBy>
  <dcterms:modified xsi:type="dcterms:W3CDTF">2006-07-26T16:56:59Z</dcterms:modified>
  <cp:revision>24</cp:revision>
  <dc:subject/>
  <dc:title>Definiciones y conceptos básicos</dc:title>
</cp:coreProperties>
</file>