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5E1-F481-4300-BF02-70AD5FBE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214-1DA8-4D56-BD15-0B7090F9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BE1-B271-4CCA-92A4-2BF0A66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F91-AA5D-4664-B0D5-7B69FA79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CF1-7733-4753-9132-7633585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5CF-F746-4895-9D03-9C22D74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983-8B67-4C55-AB35-34E39FC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2D8-65CC-4C1A-A087-FCF52744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345-0C50-4E04-80DF-6924E91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9CF-0893-41FE-A2BE-84F27E7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A8D-2C85-498D-8B16-146DAF5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704-EE37-40B2-AE18-E891F3A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C02-A620-4C08-834C-26C5F01E6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m</cp:lastModifiedBy>
  <dcterms:modified xsi:type="dcterms:W3CDTF">2006-07-26T16:56:59Z</dcterms:modified>
  <cp:revision>24</cp:revision>
  <dc:subject/>
  <dc:title>Definiciones y conceptos básicos</dc:title>
</cp:coreProperties>
</file>