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179-B8CF-4938-B985-537A5B14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A8A-E127-4FE6-AA7C-63985FCF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083-35E2-4855-AF39-17B7749B5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1093-28DE-4859-8824-3365F3BD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17BE-78E9-477E-872F-0CC0F3CB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22D-34D4-46D8-8F72-21081D17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BEE-2556-4C77-90A3-169EE1E6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4D48-50DC-4ABD-AB03-95DC6B72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F3E-FA92-4F65-AC04-4B55AF3B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50C-0AE8-47C0-AF4C-153D99C3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758F-4A02-4D71-9D65-C148806D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BC8-2206-4ABD-B1F6-A7C557D5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6FAA-EA5B-4D30-9063-128F1963E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obligatorio de la Licenciatura en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la Serie de Concentración Tecnológica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 Civil Industri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l paquete de electivos en Transporte para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Civil Matemátic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so de nivelación para 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agíster en Ciencias de la Ingeniería mención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   : Sistem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hícu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 : Sistema de Activ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blación, ingreso, empleo, producción, loc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  : Estructura de Flujos en 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 - destino - ruta - volumen de pasajeros y carga - 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9907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124080"/>
            <a:ext cx="76176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4648320"/>
            <a:ext cx="761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raslad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tre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origen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 u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esti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de un cierto tipo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ersona o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con un cierto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opósit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i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s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inici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ugar en qu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termin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l viaj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uencia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rc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tilizados para llegar desde un origen a u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Definiciones y concep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agreg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los viajes de personas o carga, agregados en base a algún criterio (multidimension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vel de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racterísticas del servicio experimentado por los usuarios de  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ac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iempo de 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od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fi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52578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s un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nfoque Manhe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182880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19051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3276720"/>
            <a:ext cx="6094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3352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2438280"/>
            <a:ext cx="60984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62520" y="2590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57400" y="2209680"/>
            <a:ext cx="1803240" cy="723960"/>
          </a:xfrm>
          <a:custGeom>
            <a:avLst/>
            <a:gdLst/>
            <a:ahLst/>
            <a:rect l="l" t="t" r="r" b="b"/>
            <a:pathLst>
              <a:path w="1136" h="456">
                <a:moveTo>
                  <a:pt x="0" y="0"/>
                </a:moveTo>
                <a:cubicBezTo>
                  <a:pt x="60" y="156"/>
                  <a:pt x="120" y="312"/>
                  <a:pt x="288" y="384"/>
                </a:cubicBezTo>
                <a:cubicBezTo>
                  <a:pt x="456" y="456"/>
                  <a:pt x="880" y="424"/>
                  <a:pt x="1008" y="432"/>
                </a:cubicBezTo>
                <a:cubicBezTo>
                  <a:pt x="1136" y="440"/>
                  <a:pt x="1096" y="436"/>
                  <a:pt x="1056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895480"/>
            <a:ext cx="1752480" cy="68580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432"/>
                </a:moveTo>
                <a:cubicBezTo>
                  <a:pt x="28" y="300"/>
                  <a:pt x="56" y="168"/>
                  <a:pt x="240" y="96"/>
                </a:cubicBezTo>
                <a:cubicBezTo>
                  <a:pt x="424" y="24"/>
                  <a:pt x="764" y="12"/>
                  <a:pt x="110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905120"/>
            <a:ext cx="190476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cubicBezTo>
                  <a:pt x="1060" y="216"/>
                  <a:pt x="920" y="96"/>
                  <a:pt x="720" y="48"/>
                </a:cubicBezTo>
                <a:cubicBezTo>
                  <a:pt x="520" y="0"/>
                  <a:pt x="120" y="48"/>
                  <a:pt x="0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7400" y="3048120"/>
            <a:ext cx="2057400" cy="723960"/>
          </a:xfrm>
          <a:custGeom>
            <a:avLst/>
            <a:gdLst/>
            <a:ahLst/>
            <a:rect l="l" t="t" r="r" b="b"/>
            <a:pathLst>
              <a:path w="1296" h="456">
                <a:moveTo>
                  <a:pt x="1296" y="0"/>
                </a:moveTo>
                <a:cubicBezTo>
                  <a:pt x="1140" y="156"/>
                  <a:pt x="984" y="312"/>
                  <a:pt x="768" y="384"/>
                </a:cubicBezTo>
                <a:cubicBezTo>
                  <a:pt x="552" y="456"/>
                  <a:pt x="276" y="444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7180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4320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5238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: El patrón de viajes está determinado por A y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31240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: La estructura de flujos provoca cambios en A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4572000"/>
            <a:ext cx="3429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: La estructura de flujos provoca cambios en T. Ejemp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se puede influir en el sistema?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Que consecuencias producirá un determinado camb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=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valu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¿Quienes toman decisio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b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58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3352680"/>
            <a:ext cx="28954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--&gt;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ax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B.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05480" y="911160"/>
            <a:ext cx="7354080" cy="61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O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ecnológicas, topológicas, de polític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bre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corto plazo: 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 largo plazo: localización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mpacto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oper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a sociedad en su conju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4880" y="198108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2096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286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17600" y="376200"/>
            <a:ext cx="83595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¿Qué pasa si no se interviene el sistema?: Círculo vicioso del transporte públ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4040" y="158760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1120" y="23605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560600"/>
            <a:ext cx="777240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2400" y="153684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08720" y="154944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5680" y="233028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6480" y="321948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400" y="391464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1800" y="482904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9280" y="559908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04480" y="321948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29320" y="395280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39320" y="480384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1840" y="640080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1040" y="21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1040" y="277164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1040" y="36082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1040" y="4651200"/>
            <a:ext cx="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1040" y="524340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25480" y="60404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45320" y="2101680"/>
            <a:ext cx="0" cy="33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57920" y="27464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226360" y="261792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37480" y="261792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7762680" y="413532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591240" y="444492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73560" y="665784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766000" y="430164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722720" y="432900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35440" y="507528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809880" y="427680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32440" y="414828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106880" y="3492360"/>
            <a:ext cx="147960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887640" y="269388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23960" y="2676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bjetivos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Generales:</a:t>
            </a:r>
            <a:r>
              <a:rPr b="0" lang="es-ES" sz="3200" spc="-1" strike="noStrike" u="sng">
                <a:solidFill>
                  <a:srgbClr val="cc0099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Entregar los fundamentos teóricos para el análisis de sistemas de transpo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cc33"/>
                </a:solidFill>
                <a:uFillTx/>
                <a:latin typeface="Comic Sans MS"/>
                <a:ea typeface="Times New Roman"/>
              </a:rPr>
              <a:t>Específicos:</a:t>
            </a:r>
            <a:r>
              <a:rPr b="0" lang="es-ES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Capacitar al alumno para empezar a entender los procesos de transporte y su modelación, desde la generación de la necesidad de movimiento hasta el funcionamiento de sistemas y redes.</a:t>
            </a:r>
            <a:r>
              <a:rPr b="0" lang="es-ES_tradnl" sz="1800" spc="-1" strike="noStrike">
                <a:solidFill>
                  <a:srgbClr val="33cc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Operacionale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Al finalizar el curso los alumnos deberán ser capaces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a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correctamente los efectos derivados de cambios en sistemas de transporte id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b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licar los supuestos fundamentales subyacentes a los modelos de transporte tratados en cl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c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poner con claridad argumentos técnicos que apoyen o rechacen proposiciones de modificación a sistemas de transporte re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d)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unciar y describir analíticamente los elementos y relaciones componentes de un sistema de transporte d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Contenido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:</a:t>
            </a: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dentificación del á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ecesidade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elos de Ofer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quilib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etodología de trabaj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es de cáted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le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es aux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valuació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ormes de talleres (3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troles y examen (70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ción de Sist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Hasta ahora han visto elementos individuales (Ej: hidráulica, estructuras) aquí verán el </a:t>
            </a:r>
            <a:r>
              <a:rPr b="0" lang="es-ES_tradnl" sz="3200" spc="-1" strike="noStrike">
                <a:solidFill>
                  <a:srgbClr val="3333cc"/>
                </a:solidFill>
                <a:latin typeface="Comic Sans MS"/>
              </a:rPr>
              <a:t>Sistema de Transporte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Glob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creen ustedes que son los elementos del Sistema de Transpor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-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Algunas definiciones “de diccionario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 en beneficio de la humani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ranspor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sladar de un lugar a o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geniería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encia mediante la cual las propiedades de la materia y las fuentes de energía son transformadas, para permitir el traslado de personas y mercancías de un lugar a otro de forma que le sea útil a la sociedad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tradicional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fraestruc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qui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isión modern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ociendo aspectos fundamentales de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e preocupa básicamente de las interrelaciones y del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análisi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iseñ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l Sistema de Transporte en su conju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rge como profesión reconocida en los 7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aracterísticas de la Ingeniería de Transport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 una especialidad de Ingeniería Civ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templa elementos 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conomía, física, probabilidades, comportamiento, optimiz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l campo ocupacional de la I de T 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mod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distintos medios de transp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sectorial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gobierno, industria, usuarios, operadore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facétic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líticas nacionales e internacionales, planificación, localización, operación, contr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ultidisciplinario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ingeniería, economía, urbanismo, aministración, sociolog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gran desafío de la Ingeniería de transporte es intervenir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cad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deliberadamen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n la sociedad y su entorno, con el objeto d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usar su sistema de transporte en forma efectiv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coordinadamente con otras acciones públicas y privadas, a fin de alcanzar las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met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de dicha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ocied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omic Sans MS"/>
              </a:rPr>
              <a:t>Alumnos: mencionar ejemplos de tales intervenciones y analizarlas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-360" y="4568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3300"/>
                </a:solidFill>
                <a:latin typeface="Comic Sans MS"/>
              </a:rPr>
              <a:t>El gran desafío</a:t>
            </a:r>
            <a:r>
              <a:rPr b="0" lang="es-ES_tradnl" sz="4400" spc="-1" strike="noStrike">
                <a:solidFill>
                  <a:srgbClr val="000000"/>
                </a:solidFill>
                <a:latin typeface="Comic Sans MS"/>
              </a:rPr>
              <a:t> (Manheim, 197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4:04:44Z</dcterms:created>
  <dc:creator>Marcela Munizaga</dc:creator>
  <dc:description/>
  <dc:language>en-US</dc:language>
  <cp:lastModifiedBy>mm</cp:lastModifiedBy>
  <dcterms:modified xsi:type="dcterms:W3CDTF">2006-07-26T16:56:59Z</dcterms:modified>
  <cp:revision>24</cp:revision>
  <dc:subject/>
  <dc:title>Definiciones y conceptos básicos</dc:title>
</cp:coreProperties>
</file>