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4274-DDE6-4954-8068-E490E03AB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642D-D096-4D11-9325-0C7ABEF29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D0B1-67C5-491B-80F2-51BB1D867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DF7D-99A5-4D60-965E-98FBE5CD7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9650D-157D-4E00-9946-64C189ABA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55A29-4699-487A-A098-C6880A94E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2EB56-895C-4B58-A7E0-D7838F23E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AE17C-ED4A-4076-90C6-32C8C6B01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FAF12-96B9-4D70-9EA9-C086C2365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B79AC-752D-447B-A5BE-6BFD98686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4DE3C-54A8-407A-ADBF-435CEC73D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B6D8-BC24-4483-82D2-77F9F44F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926BB-05D8-462E-8CF7-7E1E7971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750AE-1F21-4ED3-A656-2548C86C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58968-7A49-433D-BFE3-E35B5F12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8C691-6662-49C6-A4ED-C3C643C43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58AB5-9811-4D26-9BD3-3BAD54484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C2AF-15BC-4CA6-B52C-A520E493D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7FF7-3A54-4C8D-8000-51CE2C602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9C96-0369-45F2-AC78-D52D81B44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F57A-24E1-4E94-948D-FF34B52C2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E31A-1DEE-4C30-8D50-A9F96A7E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3346-F805-4C0B-9600-66F113F7A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8664D-2AF4-4A7E-BC82-C9909150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3AFB2-087E-4F2C-B1F7-678E8D15C91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1A31C-9E64-42F2-B740-1DD9B2C69AC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629400" y="251460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HUMEDAD ATMOSFÉR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2276640" y="3103560"/>
                <a:ext cx="374148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22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415880" y="457200"/>
                <a:ext cx="5975640" cy="15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1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1219320" y="525780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nsidad del aire húmedo  o humedad absoluta de la atmósf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2362320" y="4343040"/>
            <a:ext cx="1522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09480" y="38088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0948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Densidad de la mezcla de aire seco y vapor de agu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2057400"/>
            <a:ext cx="7848720" cy="3124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 =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(1-0,378e/P) P/R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: presión de aire seco-e=P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(mb)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:presión de vapor(mb)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s: ctte de gases para aire seco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T: temperatura en ºK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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l aire húmedo es menos denso que el aire seco a igual temperatura y pres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HUMEDAD ESPECÍFIC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Masa de vapor de agua que existe por unidad de masa total de aire húme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onde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 : Presión de vapor del aire en m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: Presión total del aire en m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1300320" y="2573280"/>
                <a:ext cx="6162480" cy="12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22</m:t>
                        </m:r>
                        <m:r>
                          <m:t xml:space="preserve">e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78</m:t>
                        </m:r>
                        <m:r>
                          <m:t xml:space="preserve">e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2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685440" y="6094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HUMEDAD ABSOLU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onde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: Humedad absoluta del aire en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    (gr/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 : Presión de vapor del aire en m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 : temperatura del aire en º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2496960" y="1579680"/>
                <a:ext cx="293220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7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HUMEDAD RELATI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elación entre la humedad existente con respecto a la humedad máxima que puede tener una cantidad de volumen de aire a la misma temperatur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onde: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 : presión de vapor actu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presión de satura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3124080" y="3548160"/>
                <a:ext cx="2514600" cy="12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66"/>
                </a:solidFill>
                <a:latin typeface="Times New Roman"/>
              </a:rPr>
              <a:t>PRESIÓN DE VAPO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onde: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 : Presión de vapor en milibares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: Presión de saturación del aire a           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        temperatura 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: presión total del aire en m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 : temperatura registrada con un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    termómetro de bulbo sec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: Temperatura registrada con un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ermómetro de bulbo húme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762120" y="1676520"/>
                <a:ext cx="71625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6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46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609480" y="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TEMPERATURA DE PUNTO DE  ROCÍ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emperatura a la cual debe enfriarse una masa de aire húmedo, para que ésta se sature a la misma presión y contenido de agua inicial que tení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838080" y="4343400"/>
            <a:ext cx="4114800" cy="2545920"/>
            <a:chOff x="838080" y="4343400"/>
            <a:chExt cx="4114800" cy="2545920"/>
          </a:xfrm>
        </p:grpSpPr>
        <p:sp>
          <p:nvSpPr>
            <p:cNvPr id="189" name=""/>
            <p:cNvSpPr/>
            <p:nvPr/>
          </p:nvSpPr>
          <p:spPr>
            <a:xfrm>
              <a:off x="1447560" y="4495680"/>
              <a:ext cx="0" cy="1981080"/>
            </a:xfrm>
            <a:prstGeom prst="line">
              <a:avLst/>
            </a:prstGeom>
            <a:ln w="936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447560" y="6476760"/>
              <a:ext cx="2895480" cy="0"/>
            </a:xfrm>
            <a:prstGeom prst="line">
              <a:avLst/>
            </a:prstGeom>
            <a:ln w="93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47560" y="4876560"/>
              <a:ext cx="2133720" cy="1638360"/>
            </a:xfrm>
            <a:custGeom>
              <a:avLst/>
              <a:gdLst/>
              <a:ahLst/>
              <a:rect l="l" t="t" r="r" b="b"/>
              <a:pathLst>
                <a:path w="1344" h="1032">
                  <a:moveTo>
                    <a:pt x="0" y="1008"/>
                  </a:moveTo>
                  <a:cubicBezTo>
                    <a:pt x="112" y="1020"/>
                    <a:pt x="224" y="1032"/>
                    <a:pt x="384" y="960"/>
                  </a:cubicBezTo>
                  <a:cubicBezTo>
                    <a:pt x="544" y="888"/>
                    <a:pt x="800" y="736"/>
                    <a:pt x="960" y="576"/>
                  </a:cubicBezTo>
                  <a:cubicBezTo>
                    <a:pt x="1120" y="416"/>
                    <a:pt x="1232" y="208"/>
                    <a:pt x="1344" y="0"/>
                  </a:cubicBezTo>
                </a:path>
              </a:pathLst>
            </a:custGeom>
            <a:noFill/>
            <a:ln w="381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038480" y="6553080"/>
              <a:ext cx="9144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ffff"/>
                  </a:solidFill>
                  <a:latin typeface="Times New Roman"/>
                </a:rPr>
                <a:t>T, T</a:t>
              </a:r>
              <a:r>
                <a:rPr b="0" lang="es-ES_tradnl" sz="1400" spc="-1" strike="noStrike" baseline="-25000">
                  <a:solidFill>
                    <a:srgbClr val="00ffff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38080" y="434340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ffff"/>
                  </a:solidFill>
                  <a:latin typeface="Times New Roman"/>
                </a:rPr>
                <a:t>e,e</a:t>
              </a:r>
              <a:r>
                <a:rPr b="0" lang="es-ES_tradnl" sz="1400" spc="-1" strike="noStrike" baseline="-25000">
                  <a:solidFill>
                    <a:srgbClr val="00ffff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1447560" y="5486400"/>
              <a:ext cx="1752480" cy="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24080" y="65530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990360" y="541008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r>
                <a:rPr b="0" lang="es-ES_tradnl" sz="1400" spc="-1" strike="noStrike" baseline="-25000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2742840" y="601956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200040" y="5486400"/>
              <a:ext cx="0" cy="53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2742840" y="601956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1447560" y="6019560"/>
              <a:ext cx="1295280" cy="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142640" y="59436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514240" y="65530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s-ES_tradnl" sz="1400" spc="-1" strike="noStrike" baseline="-25000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5638320" y="4419720"/>
            <a:ext cx="1905480" cy="2469600"/>
            <a:chOff x="5638320" y="4419720"/>
            <a:chExt cx="1905480" cy="2469600"/>
          </a:xfrm>
        </p:grpSpPr>
        <p:sp>
          <p:nvSpPr>
            <p:cNvPr id="204" name=""/>
            <p:cNvSpPr/>
            <p:nvPr/>
          </p:nvSpPr>
          <p:spPr>
            <a:xfrm rot="5400000">
              <a:off x="5638320" y="5104800"/>
              <a:ext cx="761760" cy="762120"/>
            </a:xfrm>
            <a:prstGeom prst="rightArrowCallout">
              <a:avLst>
                <a:gd name="adj1" fmla="val 25014"/>
                <a:gd name="adj2" fmla="val 25012"/>
                <a:gd name="adj3" fmla="val 16667"/>
                <a:gd name="adj4" fmla="val 6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5" name=""/>
            <p:cNvGrpSpPr/>
            <p:nvPr/>
          </p:nvGrpSpPr>
          <p:grpSpPr>
            <a:xfrm>
              <a:off x="5638680" y="4419720"/>
              <a:ext cx="1905120" cy="2469600"/>
              <a:chOff x="5638680" y="4419720"/>
              <a:chExt cx="1905120" cy="2469600"/>
            </a:xfrm>
          </p:grpSpPr>
          <p:sp>
            <p:nvSpPr>
              <p:cNvPr id="206" name=""/>
              <p:cNvSpPr/>
              <p:nvPr/>
            </p:nvSpPr>
            <p:spPr>
              <a:xfrm>
                <a:off x="6019920" y="5867280"/>
                <a:ext cx="1218960" cy="685440"/>
              </a:xfrm>
              <a:prstGeom prst="downArrowCallout">
                <a:avLst>
                  <a:gd name="adj1" fmla="val 44463"/>
                  <a:gd name="adj2" fmla="val 44459"/>
                  <a:gd name="adj3" fmla="val 16667"/>
                  <a:gd name="adj4" fmla="val 66667"/>
                </a:avLst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7" name=""/>
              <p:cNvGrpSpPr/>
              <p:nvPr/>
            </p:nvGrpSpPr>
            <p:grpSpPr>
              <a:xfrm>
                <a:off x="6553080" y="4419720"/>
                <a:ext cx="990720" cy="533160"/>
                <a:chOff x="6553080" y="4419720"/>
                <a:chExt cx="990720" cy="53316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6553080" y="4419720"/>
                  <a:ext cx="990720" cy="533160"/>
                </a:xfrm>
                <a:prstGeom prst="flowChartAlternateProcess">
                  <a:avLst/>
                </a:prstGeom>
                <a:solidFill>
                  <a:srgbClr val="00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883200" y="4495680"/>
                  <a:ext cx="528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ffffff"/>
                      </a:solidFill>
                      <a:latin typeface="Times New Roman"/>
                    </a:rPr>
                    <a:t>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0" name=""/>
              <p:cNvSpPr/>
              <p:nvPr/>
            </p:nvSpPr>
            <p:spPr>
              <a:xfrm>
                <a:off x="6934320" y="4952880"/>
                <a:ext cx="304560" cy="30456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00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6781680" y="5257800"/>
                <a:ext cx="685800" cy="609120"/>
                <a:chOff x="6781680" y="5257800"/>
                <a:chExt cx="685800" cy="609120"/>
              </a:xfrm>
            </p:grpSpPr>
            <p:sp>
              <p:nvSpPr>
                <p:cNvPr id="212" name=""/>
                <p:cNvSpPr/>
                <p:nvPr/>
              </p:nvSpPr>
              <p:spPr>
                <a:xfrm>
                  <a:off x="6781680" y="5257800"/>
                  <a:ext cx="685800" cy="609120"/>
                </a:xfrm>
                <a:prstGeom prst="downArrowCallout">
                  <a:avLst>
                    <a:gd name="adj1" fmla="val 28150"/>
                    <a:gd name="adj2" fmla="val 28147"/>
                    <a:gd name="adj3" fmla="val 16667"/>
                    <a:gd name="adj4" fmla="val 66667"/>
                  </a:avLst>
                </a:prstGeom>
                <a:solidFill>
                  <a:srgbClr val="00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6934320" y="5257800"/>
                  <a:ext cx="380880" cy="33624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ffffff"/>
                      </a:solidFill>
                      <a:latin typeface="Times New Roman"/>
                    </a:rPr>
                    <a:t>e</a:t>
                  </a:r>
                  <a:r>
                    <a:rPr b="1" lang="es-ES_tradnl" sz="1400" spc="-1" strike="noStrike" baseline="-25000">
                      <a:solidFill>
                        <a:srgbClr val="ffffff"/>
                      </a:solidFill>
                      <a:latin typeface="Times New Roman"/>
                    </a:rPr>
                    <a:t>s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4" name=""/>
              <p:cNvSpPr/>
              <p:nvPr/>
            </p:nvSpPr>
            <p:spPr>
              <a:xfrm>
                <a:off x="5638680" y="5105160"/>
                <a:ext cx="60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ffffff"/>
                    </a:solidFill>
                    <a:latin typeface="Times New Roman"/>
                  </a:rPr>
                  <a:t>H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943600" y="6553080"/>
                <a:ext cx="1295280" cy="336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ff"/>
                    </a:solidFill>
                    <a:latin typeface="Times New Roman"/>
                  </a:rPr>
                  <a:t>           </a:t>
                </a:r>
                <a:r>
                  <a:rPr b="1" lang="es-ES_tradnl" sz="1400" spc="-1" strike="noStrike">
                    <a:solidFill>
                      <a:srgbClr val="0000ff"/>
                    </a:solidFill>
                    <a:latin typeface="Times New Roman"/>
                  </a:rPr>
                  <a:t>T</a:t>
                </a:r>
                <a:r>
                  <a:rPr b="1" lang="es-ES_tradnl" sz="1400" spc="-1" strike="noStrike" baseline="-25000">
                    <a:solidFill>
                      <a:srgbClr val="0000ff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6" name=""/>
          <p:cNvSpPr/>
          <p:nvPr/>
        </p:nvSpPr>
        <p:spPr>
          <a:xfrm>
            <a:off x="3200400" y="60199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00800" y="5943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24080" y="4572000"/>
            <a:ext cx="2286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2590920" y="4062240"/>
                <a:ext cx="137160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37</m:t>
                            </m:r>
                            <m:r>
                              <m:t xml:space="preserve">,</m:t>
                            </m:r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ALTURA DE AGUA CONDENSABLE </a:t>
            </a: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O PRECIPITABLE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ámina de agua ( uniforme) que se forma 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 superficie producto de la condensación del vapor de agua de la columna de aire húmed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álculo de masa (dm) de vapor de agua sobre una superficie de 1 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dado un incremento dz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3657600" y="2209680"/>
                <a:ext cx="4254480" cy="323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17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17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223" name="sonda" descr=""/>
          <p:cNvPicPr/>
          <p:nvPr/>
        </p:nvPicPr>
        <p:blipFill>
          <a:blip r:embed="rId1"/>
          <a:stretch/>
        </p:blipFill>
        <p:spPr>
          <a:xfrm>
            <a:off x="152280" y="3581280"/>
            <a:ext cx="1925640" cy="24955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90720" y="61722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Radioson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429000" y="6248520"/>
            <a:ext cx="914400" cy="380880"/>
          </a:xfrm>
          <a:prstGeom prst="rightArrow">
            <a:avLst>
              <a:gd name="adj1" fmla="val 50000"/>
              <a:gd name="adj2" fmla="val 60019"/>
            </a:avLst>
          </a:prstGeom>
          <a:solidFill>
            <a:srgbClr val="33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495680" y="5670720"/>
            <a:ext cx="4114800" cy="119124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Distribución de temperatura y vapor de agua en la vertic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1941600">
            <a:off x="533160" y="6172200"/>
            <a:ext cx="457200" cy="304920"/>
          </a:xfrm>
          <a:custGeom>
            <a:avLst/>
            <a:gdLst>
              <a:gd name="textAreaLeft" fmla="*/ 71280 w 457200"/>
              <a:gd name="textAreaRight" fmla="*/ 400320 w 4572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Integrando desde la superficie terrestre hasta una altura “h”: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1924200" y="2313000"/>
                <a:ext cx="4533840" cy="19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7</m:t>
                    </m:r>
                    <m:r>
                      <m:t xml:space="preserve">⋅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h</m:t>
                        </m:r>
                      </m:sup>
                      <m:e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6629400" y="29718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[gr/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2120" y="47242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ocidos e y T a distintas alturas se integra por ban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143000" y="5361120"/>
                <a:ext cx="2514600" cy="96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7</m:t>
                    </m:r>
                    <m:r>
                      <m:t xml:space="preserve">Σ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e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Δz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Humedad atmosféric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3124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Propiedad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Maneras de expresar la humedad atmosféric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Instrumentos de medició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Factores que determinan la variabilidad de la humeda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114300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antidad de vapor de agua  que contiene el aire; es la fuente de precipitaciones; influye en los procesos de evapotranspiración y derretimiento de niev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600200" y="1143000"/>
            <a:ext cx="914400" cy="12193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00200" y="1066680"/>
            <a:ext cx="914400" cy="1526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00200" y="2286000"/>
            <a:ext cx="914400" cy="2286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1523880" y="24379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219320" y="27432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" y="236232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57200" y="99072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743200" y="243828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2743200" y="114300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581280" y="24382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" y="2286000"/>
            <a:ext cx="99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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P,q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809880" y="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tras Form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2971800" y="1523520"/>
            <a:ext cx="533520" cy="838440"/>
          </a:xfrm>
          <a:prstGeom prst="line">
            <a:avLst/>
          </a:prstGeom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819520" y="9907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9144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600200" y="1828800"/>
            <a:ext cx="91440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1752480"/>
            <a:ext cx="914400" cy="1526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4572000" y="990720"/>
                <a:ext cx="400068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Adz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AΔz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3537000" y="2971800"/>
                <a:ext cx="407808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g</m:t>
                                </m:r>
                              </m:den>
                            </m:f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1744560" y="4432320"/>
                <a:ext cx="431352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h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2895480" y="6019920"/>
                <a:ext cx="27432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e>
                    </m:nary>
                    <m:r>
                      <m:t xml:space="preserve">Δ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6858000" y="6172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m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172200" y="5791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934320" y="5029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gr/k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5029200" y="54864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5562360" y="617220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357120" y="304920"/>
                <a:ext cx="189540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3581280" y="533520"/>
                <a:ext cx="300996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T</m:t>
                        </m:r>
                      </m:den>
                    </m:f>
                    <m:m>
                      <m:mr>
                        <m:e/>
                        <m:e/>
                        <m:e/>
                      </m:mr>
                    </m:m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396720" y="1981080"/>
                <a:ext cx="6551640" cy="11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g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T</m:t>
                        </m:r>
                      </m:den>
                    </m:f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z</m:t>
                    </m:r>
                    <m:r>
                      <m:t xml:space="preserve">=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g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T</m:t>
                        </m:r>
                      </m:den>
                    </m:f>
                    <m:r>
                      <m:t xml:space="preserve">)</m:t>
                    </m:r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α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α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838080" y="4038480"/>
                <a:ext cx="2971800" cy="16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α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3657600" y="5943600"/>
                <a:ext cx="396252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5257800" y="3657600"/>
                <a:ext cx="19051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08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762120" y="762120"/>
            <a:ext cx="7391160" cy="11912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Tahoma"/>
              </a:rPr>
              <a:t>Existen gráficos y tablas para calcular entre 1000 mb (nivel del mar) y 200 mb o 12 Km en atmósfera seudo adiabática satura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2743200" y="2666520"/>
            <a:ext cx="0" cy="2514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743200" y="5181480"/>
            <a:ext cx="3581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029200" y="54100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gua prec (m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295280" y="25909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P (mb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352680" y="2971800"/>
            <a:ext cx="990720" cy="1981080"/>
          </a:xfrm>
          <a:custGeom>
            <a:avLst/>
            <a:gdLst/>
            <a:ahLst/>
            <a:rect l="l" t="t" r="r" b="b"/>
            <a:pathLst>
              <a:path w="624" h="1248">
                <a:moveTo>
                  <a:pt x="0" y="1248"/>
                </a:moveTo>
                <a:cubicBezTo>
                  <a:pt x="116" y="1136"/>
                  <a:pt x="232" y="1024"/>
                  <a:pt x="336" y="816"/>
                </a:cubicBezTo>
                <a:cubicBezTo>
                  <a:pt x="440" y="608"/>
                  <a:pt x="576" y="136"/>
                  <a:pt x="624" y="0"/>
                </a:cubicBezTo>
              </a:path>
            </a:pathLst>
          </a:custGeom>
          <a:noFill/>
          <a:ln w="3816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09880" y="2819520"/>
            <a:ext cx="990720" cy="1981080"/>
          </a:xfrm>
          <a:custGeom>
            <a:avLst/>
            <a:gdLst/>
            <a:ahLst/>
            <a:rect l="l" t="t" r="r" b="b"/>
            <a:pathLst>
              <a:path w="624" h="1248">
                <a:moveTo>
                  <a:pt x="0" y="1248"/>
                </a:moveTo>
                <a:cubicBezTo>
                  <a:pt x="116" y="1136"/>
                  <a:pt x="232" y="1024"/>
                  <a:pt x="336" y="816"/>
                </a:cubicBezTo>
                <a:cubicBezTo>
                  <a:pt x="440" y="608"/>
                  <a:pt x="576" y="136"/>
                  <a:pt x="624" y="0"/>
                </a:cubicBezTo>
              </a:path>
            </a:pathLst>
          </a:custGeom>
          <a:noFill/>
          <a:ln w="3816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191120" y="2971800"/>
            <a:ext cx="990360" cy="1981080"/>
          </a:xfrm>
          <a:custGeom>
            <a:avLst/>
            <a:gdLst/>
            <a:ahLst/>
            <a:rect l="l" t="t" r="r" b="b"/>
            <a:pathLst>
              <a:path w="624" h="1248">
                <a:moveTo>
                  <a:pt x="0" y="1248"/>
                </a:moveTo>
                <a:cubicBezTo>
                  <a:pt x="116" y="1136"/>
                  <a:pt x="232" y="1024"/>
                  <a:pt x="336" y="816"/>
                </a:cubicBezTo>
                <a:cubicBezTo>
                  <a:pt x="440" y="608"/>
                  <a:pt x="576" y="136"/>
                  <a:pt x="624" y="0"/>
                </a:cubicBezTo>
              </a:path>
            </a:pathLst>
          </a:custGeom>
          <a:noFill/>
          <a:ln w="3816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724280" y="2895480"/>
            <a:ext cx="990720" cy="1981440"/>
          </a:xfrm>
          <a:custGeom>
            <a:avLst/>
            <a:gdLst/>
            <a:ahLst/>
            <a:rect l="l" t="t" r="r" b="b"/>
            <a:pathLst>
              <a:path w="624" h="1248">
                <a:moveTo>
                  <a:pt x="0" y="1248"/>
                </a:moveTo>
                <a:cubicBezTo>
                  <a:pt x="116" y="1136"/>
                  <a:pt x="232" y="1024"/>
                  <a:pt x="336" y="816"/>
                </a:cubicBezTo>
                <a:cubicBezTo>
                  <a:pt x="440" y="608"/>
                  <a:pt x="576" y="136"/>
                  <a:pt x="624" y="0"/>
                </a:cubicBezTo>
              </a:path>
            </a:pathLst>
          </a:custGeom>
          <a:noFill/>
          <a:ln w="3816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900520" y="3295800"/>
            <a:ext cx="3509640" cy="423720"/>
          </a:xfrm>
          <a:custGeom>
            <a:avLst/>
            <a:gdLst/>
            <a:ahLst/>
            <a:rect l="l" t="t" r="r" b="b"/>
            <a:pathLst>
              <a:path w="2211" h="267">
                <a:moveTo>
                  <a:pt x="152" y="0"/>
                </a:moveTo>
                <a:cubicBezTo>
                  <a:pt x="184" y="12"/>
                  <a:pt x="0" y="18"/>
                  <a:pt x="343" y="62"/>
                </a:cubicBezTo>
                <a:cubicBezTo>
                  <a:pt x="686" y="106"/>
                  <a:pt x="1822" y="224"/>
                  <a:pt x="2211" y="26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48120" y="3657600"/>
            <a:ext cx="3510000" cy="423720"/>
          </a:xfrm>
          <a:custGeom>
            <a:avLst/>
            <a:gdLst/>
            <a:ahLst/>
            <a:rect l="l" t="t" r="r" b="b"/>
            <a:pathLst>
              <a:path w="2211" h="267">
                <a:moveTo>
                  <a:pt x="152" y="0"/>
                </a:moveTo>
                <a:cubicBezTo>
                  <a:pt x="184" y="12"/>
                  <a:pt x="0" y="18"/>
                  <a:pt x="343" y="62"/>
                </a:cubicBezTo>
                <a:cubicBezTo>
                  <a:pt x="686" y="106"/>
                  <a:pt x="1822" y="224"/>
                  <a:pt x="2211" y="26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00400" y="3886200"/>
            <a:ext cx="3510000" cy="423720"/>
          </a:xfrm>
          <a:custGeom>
            <a:avLst/>
            <a:gdLst/>
            <a:ahLst/>
            <a:rect l="l" t="t" r="r" b="b"/>
            <a:pathLst>
              <a:path w="2211" h="267">
                <a:moveTo>
                  <a:pt x="152" y="0"/>
                </a:moveTo>
                <a:cubicBezTo>
                  <a:pt x="184" y="12"/>
                  <a:pt x="0" y="18"/>
                  <a:pt x="343" y="62"/>
                </a:cubicBezTo>
                <a:cubicBezTo>
                  <a:pt x="686" y="106"/>
                  <a:pt x="1822" y="224"/>
                  <a:pt x="2211" y="26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24080" y="4267080"/>
            <a:ext cx="3510000" cy="424080"/>
          </a:xfrm>
          <a:custGeom>
            <a:avLst/>
            <a:gdLst/>
            <a:ahLst/>
            <a:rect l="l" t="t" r="r" b="b"/>
            <a:pathLst>
              <a:path w="2211" h="267">
                <a:moveTo>
                  <a:pt x="152" y="0"/>
                </a:moveTo>
                <a:cubicBezTo>
                  <a:pt x="184" y="12"/>
                  <a:pt x="0" y="18"/>
                  <a:pt x="343" y="62"/>
                </a:cubicBezTo>
                <a:cubicBezTo>
                  <a:pt x="686" y="106"/>
                  <a:pt x="1822" y="224"/>
                  <a:pt x="2211" y="267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086600" y="4038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ltu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38480" y="2362320"/>
            <a:ext cx="4572000" cy="8254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5050"/>
                </a:solidFill>
                <a:latin typeface="Tahoma"/>
              </a:rPr>
              <a:t>Temperatura de punto de rocí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066680" y="3657600"/>
            <a:ext cx="990720" cy="1981080"/>
          </a:xfrm>
          <a:custGeom>
            <a:avLst/>
            <a:gdLst/>
            <a:ahLst/>
            <a:rect l="l" t="t" r="r" b="b"/>
            <a:pathLst>
              <a:path w="624" h="1248">
                <a:moveTo>
                  <a:pt x="0" y="1248"/>
                </a:moveTo>
                <a:cubicBezTo>
                  <a:pt x="116" y="1136"/>
                  <a:pt x="232" y="1024"/>
                  <a:pt x="336" y="816"/>
                </a:cubicBezTo>
                <a:cubicBezTo>
                  <a:pt x="440" y="608"/>
                  <a:pt x="576" y="136"/>
                  <a:pt x="624" y="0"/>
                </a:cubicBezTo>
              </a:path>
            </a:pathLst>
          </a:custGeom>
          <a:noFill/>
          <a:ln w="3816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62120" y="4952880"/>
            <a:ext cx="838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600200" y="4952880"/>
            <a:ext cx="0" cy="10670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3520" y="4419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ahoma"/>
              </a:rPr>
              <a:t>presió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066680" y="6095880"/>
            <a:ext cx="22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Agua precipita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267080" y="6248520"/>
            <a:ext cx="373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ES_tradnl" sz="1600" spc="-1" strike="noStrike">
                <a:solidFill>
                  <a:srgbClr val="ffffff"/>
                </a:solidFill>
                <a:latin typeface="Tahoma"/>
              </a:rPr>
              <a:t>a &gt; T rocío</a:t>
            </a:r>
            <a:r>
              <a:rPr b="0" lang="es-ES_tradnl" sz="3200" spc="-1" strike="noStrike">
                <a:solidFill>
                  <a:srgbClr val="ff5050"/>
                </a:solidFill>
                <a:latin typeface="SPSS Marker Set"/>
                <a:ea typeface="SPSS Marker Set"/>
              </a:rPr>
              <a:t></a:t>
            </a:r>
            <a:r>
              <a:rPr b="1" lang="es-ES_tradnl" sz="1600" spc="-1" strike="noStrike">
                <a:solidFill>
                  <a:srgbClr val="ff5050"/>
                </a:solidFill>
                <a:latin typeface="Tahoma"/>
              </a:rPr>
              <a:t>&gt; agua precip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500"/>
                            </p:stCondLst>
                            <p:childTnLst>
                              <p:par>
                                <p:cTn id="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00"/>
                            </p:stCondLst>
                            <p:childTnLst>
                              <p:par>
                                <p:cTn id="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500"/>
                            </p:stCondLst>
                            <p:childTnLst>
                              <p:par>
                                <p:cTn id="5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0"/>
                            </p:stCondLst>
                            <p:childTnLst>
                              <p:par>
                                <p:cTn id="57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500"/>
                            </p:stCondLst>
                            <p:childTnLst>
                              <p:par>
                                <p:cTn id="6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6000"/>
                            </p:stCondLst>
                            <p:childTnLst>
                              <p:par>
                                <p:cTn id="71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6500"/>
                            </p:stCondLst>
                            <p:childTnLst>
                              <p:par>
                                <p:cTn id="78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7000"/>
                            </p:stCondLst>
                            <p:childTnLst>
                              <p:par>
                                <p:cTn id="8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Propiedad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Presión de Vap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SzPct val="8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Calor de Condensación y de evaporació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Densidad del aire seco y aire húmed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Presión de Vapo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resión parcial ejercida por las moléculas de vapor de agu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 = p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h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– p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onde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h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Presión aire húme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Presión aire se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200" y="990720"/>
            <a:ext cx="8229600" cy="26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resión de vapor saturado(e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):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Un determinado volumen de aire a temperatura T puede absorber una máxima cantidad de vapor de agua (pto. de saturación) 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523880" y="3657600"/>
                <a:ext cx="388620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37</m:t>
                            </m:r>
                            <m:r>
                              <m:t xml:space="preserve">,</m:t>
                            </m:r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1752480" y="5562720"/>
            <a:ext cx="510552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T° en °C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en mb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943600" y="4457880"/>
            <a:ext cx="320040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762120" y="457200"/>
            <a:ext cx="7543440" cy="6095520"/>
            <a:chOff x="762120" y="457200"/>
            <a:chExt cx="7543440" cy="6095520"/>
          </a:xfrm>
        </p:grpSpPr>
        <p:grpSp>
          <p:nvGrpSpPr>
            <p:cNvPr id="101" name=""/>
            <p:cNvGrpSpPr/>
            <p:nvPr/>
          </p:nvGrpSpPr>
          <p:grpSpPr>
            <a:xfrm>
              <a:off x="768600" y="463320"/>
              <a:ext cx="7529400" cy="6082200"/>
              <a:chOff x="768600" y="463320"/>
              <a:chExt cx="7529400" cy="6082200"/>
            </a:xfrm>
          </p:grpSpPr>
          <p:grpSp>
            <p:nvGrpSpPr>
              <p:cNvPr id="102" name=""/>
              <p:cNvGrpSpPr/>
              <p:nvPr/>
            </p:nvGrpSpPr>
            <p:grpSpPr>
              <a:xfrm>
                <a:off x="768600" y="463320"/>
                <a:ext cx="7529400" cy="1116000"/>
                <a:chOff x="768600" y="463320"/>
                <a:chExt cx="7529400" cy="111600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768600" y="463320"/>
                  <a:ext cx="7529400" cy="111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Humedad de saturación del vapor de agua en el aire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768600" y="463320"/>
                  <a:ext cx="7529400" cy="1116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768600" y="1579680"/>
                <a:ext cx="3612600" cy="620280"/>
                <a:chOff x="768600" y="1579680"/>
                <a:chExt cx="3612600" cy="62028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768600" y="157968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Temperatura ºC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768600" y="157968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4381560" y="1579680"/>
                <a:ext cx="3916440" cy="620280"/>
                <a:chOff x="4381560" y="1579680"/>
                <a:chExt cx="3916440" cy="62028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4381560" y="157968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Saturación g · m</a:t>
                  </a:r>
                  <a:r>
                    <a:rPr b="0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-3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4381560" y="157968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768600" y="2200320"/>
                <a:ext cx="3612600" cy="620280"/>
                <a:chOff x="768600" y="2200320"/>
                <a:chExt cx="3612600" cy="62028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768600" y="220032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- 2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600" y="220032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4381560" y="2200320"/>
                <a:ext cx="3916440" cy="620280"/>
                <a:chOff x="4381560" y="2200320"/>
                <a:chExt cx="3916440" cy="62028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4381560" y="220032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0.89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4381560" y="220032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768600" y="2821320"/>
                <a:ext cx="3612600" cy="620280"/>
                <a:chOff x="768600" y="2821320"/>
                <a:chExt cx="3612600" cy="62028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768600" y="282132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-1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768600" y="282132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4381560" y="2821320"/>
                <a:ext cx="3916440" cy="620280"/>
                <a:chOff x="4381560" y="2821320"/>
                <a:chExt cx="3916440" cy="62028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4381560" y="282132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2.16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381560" y="282132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768600" y="3441960"/>
                <a:ext cx="3612600" cy="620280"/>
                <a:chOff x="768600" y="3441960"/>
                <a:chExt cx="3612600" cy="62028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768600" y="344196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768600" y="344196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4381560" y="3441960"/>
                <a:ext cx="3916440" cy="620280"/>
                <a:chOff x="4381560" y="3441960"/>
                <a:chExt cx="3916440" cy="6202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4381560" y="344196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4.85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4381560" y="344196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768600" y="4062600"/>
                <a:ext cx="3612600" cy="620280"/>
                <a:chOff x="768600" y="4062600"/>
                <a:chExt cx="3612600" cy="62028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768600" y="406260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1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768600" y="406260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4381560" y="4062600"/>
                <a:ext cx="3916440" cy="620280"/>
                <a:chOff x="4381560" y="4062600"/>
                <a:chExt cx="3916440" cy="620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4381560" y="406260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9.4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381560" y="406260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768600" y="4683600"/>
                <a:ext cx="3612600" cy="620280"/>
                <a:chOff x="768600" y="4683600"/>
                <a:chExt cx="3612600" cy="620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768600" y="468360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2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768600" y="468360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4381560" y="4683600"/>
                <a:ext cx="3916440" cy="620280"/>
                <a:chOff x="4381560" y="4683600"/>
                <a:chExt cx="3916440" cy="62028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4381560" y="468360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17.3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4381560" y="468360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768600" y="5304240"/>
                <a:ext cx="3612600" cy="620280"/>
                <a:chOff x="768600" y="5304240"/>
                <a:chExt cx="3612600" cy="62028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768600" y="530424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3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768600" y="530424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381560" y="5304240"/>
                <a:ext cx="3916440" cy="620280"/>
                <a:chOff x="4381560" y="5304240"/>
                <a:chExt cx="3916440" cy="62028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4381560" y="530424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30.37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4381560" y="530424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768600" y="5925240"/>
                <a:ext cx="3612600" cy="620280"/>
                <a:chOff x="768600" y="5925240"/>
                <a:chExt cx="3612600" cy="62028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768600" y="592524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4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68600" y="592524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4381560" y="5925240"/>
                <a:ext cx="3916440" cy="620280"/>
                <a:chOff x="4381560" y="5925240"/>
                <a:chExt cx="3916440" cy="62028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4381560" y="592524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51.17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381560" y="592524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3" name=""/>
            <p:cNvSpPr/>
            <p:nvPr/>
          </p:nvSpPr>
          <p:spPr>
            <a:xfrm>
              <a:off x="762120" y="457200"/>
              <a:ext cx="7543440" cy="60955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Calor de Condensación y de Vaporizaci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Líquido  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      Vap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Evapor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600 cal/gr (de agua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vaporad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Vapor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     Líqui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ondens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600 cal/ gr ( de agua condensad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133720" y="2819520"/>
            <a:ext cx="8380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38280" y="3657600"/>
            <a:ext cx="0" cy="762120"/>
          </a:xfrm>
          <a:prstGeom prst="line">
            <a:avLst/>
          </a:prstGeom>
          <a:ln w="7632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172200" y="2743200"/>
            <a:ext cx="8380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6553080" y="3580920"/>
            <a:ext cx="0" cy="838440"/>
          </a:xfrm>
          <a:prstGeom prst="line">
            <a:avLst/>
          </a:prstGeom>
          <a:ln w="7632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648320" y="1981080"/>
            <a:ext cx="38862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624852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=-L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=597-0,57T    para T en º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Densidad del Aire Seco y del aire Húmed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nsidad aire sec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onde: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: Pres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: Constante de los gases para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   aire sec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 : Temperatura absoluta  º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3141720" y="3105000"/>
                <a:ext cx="22525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533520" y="3049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ara el vapor de agu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1676520" y="1295280"/>
                <a:ext cx="41148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4357800" y="2819520"/>
                <a:ext cx="3857400" cy="14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685800" y="4572000"/>
            <a:ext cx="7010280" cy="17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: Cte. Universal de los gases 1,9857cal/(molºK)</a:t>
            </a:r>
            <a:br>
              <a:rPr sz="1800"/>
            </a:b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: cte de los gases para el vap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: peso molecular del vapor de agu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M: peso molecular del aire se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: cte. gas aire seco (2,876*10</a:t>
            </a:r>
            <a:r>
              <a:rPr b="1" lang="es-ES" sz="18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cm</a:t>
            </a:r>
            <a:r>
              <a:rPr b="1" lang="es-ES" sz="1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/(s</a:t>
            </a:r>
            <a:r>
              <a:rPr b="1" lang="es-ES" sz="1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ºK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324480" y="5257800"/>
            <a:ext cx="1600200" cy="914400"/>
          </a:xfrm>
          <a:prstGeom prst="rightArrow">
            <a:avLst>
              <a:gd name="adj1" fmla="val 50000"/>
              <a:gd name="adj2" fmla="val 4375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0T22:06:38Z</dcterms:created>
  <dc:creator>martinez-pizarro</dc:creator>
  <dc:description/>
  <dc:language>en-US</dc:language>
  <cp:lastModifiedBy>Famosses</cp:lastModifiedBy>
  <dcterms:modified xsi:type="dcterms:W3CDTF">2006-03-24T02:35:48Z</dcterms:modified>
  <cp:revision>40</cp:revision>
  <dc:subject/>
  <dc:title>Presentación de PowerPoint</dc:title>
</cp:coreProperties>
</file>