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ARPEGIO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CAF-A770-4A83-9FFA-75341BC2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AA2-5E26-41CB-846C-5DE545D9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255-9215-48C4-A7C5-5B641620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EFE-6BFE-453D-8B0A-EC5D8656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A82A-4764-4271-802A-2E275BA8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3E19-333E-4ADA-941F-5CB076F2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717E-02E1-4A8E-833E-B7953DD9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EED3-15BF-4A0D-9865-92049F51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155B-FB70-4F3E-B6D7-55805351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C656-9CDB-47CB-A240-AC210E23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CA2C-BFA0-4BC6-9AF5-F567440C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F55-B91D-4927-BE76-9EB936C7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48EA-B11D-4F3B-B9FB-0DA03859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782F-8E60-40E4-B136-EE4D020B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461C-57BF-4DB5-89F4-9BA47E70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25A1-1745-4A31-9950-BD0638A4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9456-473C-457C-A291-33AC781B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A46-5A30-472A-8F62-7ECE73C6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56D-3E17-4DFD-A156-0E6A6C27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21A-2729-4963-BD33-68FDF638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B08-1B6B-449A-98FA-D316ED6C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2B6-70FF-40A2-8ED7-92C526BD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E15-EBC4-4ADE-8D70-A3A6EA39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F49-5B4F-477B-9683-26077C79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0E5F-74F3-41FE-8F7E-DD7D937E7D85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7F15-E175-4879-A135-FD57BFBA96A1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ARPEGI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76312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Verdana"/>
              </a:rPr>
              <a:t>CAPÍTULO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Verdana"/>
              </a:rPr>
              <a:t>ESTUDIO DE CRECIDA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99" name="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682560" y="3798720"/>
                <a:ext cx="158292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62320" y="4724280"/>
                <a:ext cx="158256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914400" y="411480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672" y="0"/>
                  </a:moveTo>
                  <a:lnTo>
                    <a:pt x="0" y="96"/>
                  </a:lnTo>
                  <a:lnTo>
                    <a:pt x="1104" y="720"/>
                  </a:lnTo>
                  <a:lnTo>
                    <a:pt x="1728" y="62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906840" y="620748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787320"/>
            <a:ext cx="6794280" cy="2095560"/>
          </a:xfrm>
          <a:custGeom>
            <a:avLst/>
            <a:gdLst/>
            <a:ahLst/>
            <a:rect l="l" t="t" r="r" b="b"/>
            <a:pathLst>
              <a:path w="4280" h="1320">
                <a:moveTo>
                  <a:pt x="0" y="1320"/>
                </a:moveTo>
                <a:cubicBezTo>
                  <a:pt x="160" y="1320"/>
                  <a:pt x="320" y="1320"/>
                  <a:pt x="480" y="1272"/>
                </a:cubicBezTo>
                <a:cubicBezTo>
                  <a:pt x="640" y="1224"/>
                  <a:pt x="792" y="1176"/>
                  <a:pt x="960" y="1032"/>
                </a:cubicBezTo>
                <a:cubicBezTo>
                  <a:pt x="1128" y="888"/>
                  <a:pt x="1336" y="576"/>
                  <a:pt x="1488" y="408"/>
                </a:cubicBezTo>
                <a:cubicBezTo>
                  <a:pt x="1640" y="240"/>
                  <a:pt x="1752" y="48"/>
                  <a:pt x="1872" y="24"/>
                </a:cubicBezTo>
                <a:cubicBezTo>
                  <a:pt x="1992" y="0"/>
                  <a:pt x="2080" y="144"/>
                  <a:pt x="2208" y="264"/>
                </a:cubicBezTo>
                <a:cubicBezTo>
                  <a:pt x="2336" y="384"/>
                  <a:pt x="2464" y="616"/>
                  <a:pt x="2640" y="744"/>
                </a:cubicBezTo>
                <a:cubicBezTo>
                  <a:pt x="2816" y="872"/>
                  <a:pt x="3016" y="960"/>
                  <a:pt x="3264" y="1032"/>
                </a:cubicBezTo>
                <a:cubicBezTo>
                  <a:pt x="3512" y="1104"/>
                  <a:pt x="3976" y="1152"/>
                  <a:pt x="4128" y="1176"/>
                </a:cubicBezTo>
                <a:cubicBezTo>
                  <a:pt x="4280" y="1200"/>
                  <a:pt x="4228" y="1188"/>
                  <a:pt x="4176" y="1176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459080"/>
            <a:ext cx="6984720" cy="1423800"/>
          </a:xfrm>
          <a:custGeom>
            <a:avLst/>
            <a:gdLst/>
            <a:ahLst/>
            <a:rect l="l" t="t" r="r" b="b"/>
            <a:pathLst>
              <a:path w="4400" h="897">
                <a:moveTo>
                  <a:pt x="0" y="897"/>
                </a:moveTo>
                <a:cubicBezTo>
                  <a:pt x="106" y="887"/>
                  <a:pt x="427" y="880"/>
                  <a:pt x="637" y="839"/>
                </a:cubicBezTo>
                <a:cubicBezTo>
                  <a:pt x="847" y="798"/>
                  <a:pt x="1097" y="728"/>
                  <a:pt x="1262" y="652"/>
                </a:cubicBezTo>
                <a:cubicBezTo>
                  <a:pt x="1427" y="576"/>
                  <a:pt x="1472" y="489"/>
                  <a:pt x="1627" y="385"/>
                </a:cubicBezTo>
                <a:cubicBezTo>
                  <a:pt x="1782" y="281"/>
                  <a:pt x="1975" y="56"/>
                  <a:pt x="2194" y="28"/>
                </a:cubicBezTo>
                <a:cubicBezTo>
                  <a:pt x="2413" y="0"/>
                  <a:pt x="2745" y="159"/>
                  <a:pt x="2940" y="214"/>
                </a:cubicBezTo>
                <a:cubicBezTo>
                  <a:pt x="3135" y="269"/>
                  <a:pt x="3221" y="310"/>
                  <a:pt x="3362" y="360"/>
                </a:cubicBezTo>
                <a:cubicBezTo>
                  <a:pt x="3503" y="410"/>
                  <a:pt x="3611" y="463"/>
                  <a:pt x="3784" y="514"/>
                </a:cubicBezTo>
                <a:cubicBezTo>
                  <a:pt x="3957" y="565"/>
                  <a:pt x="4272" y="636"/>
                  <a:pt x="4400" y="668"/>
                </a:cubicBezTo>
              </a:path>
            </a:pathLst>
          </a:cu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762120"/>
            <a:ext cx="3429000" cy="2120760"/>
          </a:xfrm>
          <a:custGeom>
            <a:avLst/>
            <a:gdLst/>
            <a:ahLst/>
            <a:rect l="l" t="t" r="r" b="b"/>
            <a:pathLst>
              <a:path w="2160" h="1336">
                <a:moveTo>
                  <a:pt x="0" y="1336"/>
                </a:moveTo>
                <a:cubicBezTo>
                  <a:pt x="101" y="1328"/>
                  <a:pt x="405" y="1325"/>
                  <a:pt x="606" y="1286"/>
                </a:cubicBezTo>
                <a:cubicBezTo>
                  <a:pt x="807" y="1247"/>
                  <a:pt x="1043" y="1179"/>
                  <a:pt x="1206" y="1099"/>
                </a:cubicBezTo>
                <a:cubicBezTo>
                  <a:pt x="1369" y="1019"/>
                  <a:pt x="1457" y="904"/>
                  <a:pt x="1584" y="808"/>
                </a:cubicBezTo>
                <a:cubicBezTo>
                  <a:pt x="1711" y="712"/>
                  <a:pt x="1872" y="584"/>
                  <a:pt x="1968" y="520"/>
                </a:cubicBezTo>
                <a:cubicBezTo>
                  <a:pt x="2064" y="456"/>
                  <a:pt x="2160" y="472"/>
                  <a:pt x="2160" y="424"/>
                </a:cubicBezTo>
                <a:cubicBezTo>
                  <a:pt x="2160" y="376"/>
                  <a:pt x="2032" y="296"/>
                  <a:pt x="1968" y="232"/>
                </a:cubicBezTo>
                <a:cubicBezTo>
                  <a:pt x="1904" y="168"/>
                  <a:pt x="1832" y="72"/>
                  <a:pt x="1776" y="40"/>
                </a:cubicBezTo>
                <a:cubicBezTo>
                  <a:pt x="1720" y="8"/>
                  <a:pt x="1696" y="0"/>
                  <a:pt x="1632" y="40"/>
                </a:cubicBezTo>
                <a:cubicBezTo>
                  <a:pt x="1568" y="80"/>
                  <a:pt x="1480" y="184"/>
                  <a:pt x="1392" y="280"/>
                </a:cubicBezTo>
                <a:cubicBezTo>
                  <a:pt x="1304" y="376"/>
                  <a:pt x="1203" y="489"/>
                  <a:pt x="1104" y="616"/>
                </a:cubicBezTo>
                <a:cubicBezTo>
                  <a:pt x="1005" y="743"/>
                  <a:pt x="918" y="937"/>
                  <a:pt x="800" y="1043"/>
                </a:cubicBezTo>
                <a:cubicBezTo>
                  <a:pt x="682" y="1149"/>
                  <a:pt x="520" y="1204"/>
                  <a:pt x="395" y="1253"/>
                </a:cubicBezTo>
                <a:cubicBezTo>
                  <a:pt x="270" y="1302"/>
                  <a:pt x="120" y="1319"/>
                  <a:pt x="48" y="1336"/>
                </a:cubicBezTo>
              </a:path>
            </a:pathLst>
          </a:custGeom>
          <a:solidFill>
            <a:srgbClr val="ccec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68880" y="1504800"/>
            <a:ext cx="3517920" cy="1162080"/>
          </a:xfrm>
          <a:custGeom>
            <a:avLst/>
            <a:gdLst/>
            <a:ahLst/>
            <a:rect l="l" t="t" r="r" b="b"/>
            <a:pathLst>
              <a:path w="2216" h="732">
                <a:moveTo>
                  <a:pt x="1880" y="732"/>
                </a:moveTo>
                <a:cubicBezTo>
                  <a:pt x="1796" y="716"/>
                  <a:pt x="1712" y="700"/>
                  <a:pt x="1592" y="684"/>
                </a:cubicBezTo>
                <a:cubicBezTo>
                  <a:pt x="1472" y="668"/>
                  <a:pt x="1320" y="668"/>
                  <a:pt x="1160" y="636"/>
                </a:cubicBezTo>
                <a:cubicBezTo>
                  <a:pt x="1000" y="604"/>
                  <a:pt x="784" y="556"/>
                  <a:pt x="632" y="492"/>
                </a:cubicBezTo>
                <a:cubicBezTo>
                  <a:pt x="480" y="428"/>
                  <a:pt x="344" y="324"/>
                  <a:pt x="248" y="252"/>
                </a:cubicBezTo>
                <a:cubicBezTo>
                  <a:pt x="152" y="180"/>
                  <a:pt x="96" y="100"/>
                  <a:pt x="56" y="60"/>
                </a:cubicBezTo>
                <a:cubicBezTo>
                  <a:pt x="16" y="20"/>
                  <a:pt x="0" y="20"/>
                  <a:pt x="8" y="12"/>
                </a:cubicBezTo>
                <a:cubicBezTo>
                  <a:pt x="16" y="4"/>
                  <a:pt x="72" y="12"/>
                  <a:pt x="104" y="12"/>
                </a:cubicBezTo>
                <a:cubicBezTo>
                  <a:pt x="136" y="12"/>
                  <a:pt x="144" y="0"/>
                  <a:pt x="200" y="12"/>
                </a:cubicBezTo>
                <a:cubicBezTo>
                  <a:pt x="256" y="24"/>
                  <a:pt x="314" y="39"/>
                  <a:pt x="442" y="82"/>
                </a:cubicBezTo>
                <a:cubicBezTo>
                  <a:pt x="570" y="125"/>
                  <a:pt x="764" y="195"/>
                  <a:pt x="969" y="268"/>
                </a:cubicBezTo>
                <a:cubicBezTo>
                  <a:pt x="1174" y="341"/>
                  <a:pt x="1466" y="458"/>
                  <a:pt x="1674" y="519"/>
                </a:cubicBezTo>
                <a:cubicBezTo>
                  <a:pt x="1882" y="580"/>
                  <a:pt x="2103" y="612"/>
                  <a:pt x="2216" y="636"/>
                </a:cubicBez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230" name="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233" name="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187800"/>
            <a:ext cx="7086600" cy="1866960"/>
          </a:xfrm>
          <a:custGeom>
            <a:avLst/>
            <a:gdLst/>
            <a:ahLst/>
            <a:rect l="l" t="t" r="r" b="b"/>
            <a:pathLst>
              <a:path w="4464" h="1176">
                <a:moveTo>
                  <a:pt x="0" y="824"/>
                </a:moveTo>
                <a:cubicBezTo>
                  <a:pt x="80" y="808"/>
                  <a:pt x="160" y="792"/>
                  <a:pt x="240" y="776"/>
                </a:cubicBezTo>
                <a:cubicBezTo>
                  <a:pt x="320" y="760"/>
                  <a:pt x="400" y="760"/>
                  <a:pt x="480" y="728"/>
                </a:cubicBezTo>
                <a:cubicBezTo>
                  <a:pt x="560" y="696"/>
                  <a:pt x="616" y="648"/>
                  <a:pt x="720" y="584"/>
                </a:cubicBezTo>
                <a:cubicBezTo>
                  <a:pt x="824" y="520"/>
                  <a:pt x="984" y="424"/>
                  <a:pt x="1104" y="344"/>
                </a:cubicBezTo>
                <a:cubicBezTo>
                  <a:pt x="1224" y="264"/>
                  <a:pt x="1336" y="160"/>
                  <a:pt x="1440" y="104"/>
                </a:cubicBezTo>
                <a:cubicBezTo>
                  <a:pt x="1544" y="48"/>
                  <a:pt x="1648" y="0"/>
                  <a:pt x="1728" y="8"/>
                </a:cubicBezTo>
                <a:cubicBezTo>
                  <a:pt x="1808" y="16"/>
                  <a:pt x="1856" y="48"/>
                  <a:pt x="1920" y="152"/>
                </a:cubicBezTo>
                <a:cubicBezTo>
                  <a:pt x="1984" y="256"/>
                  <a:pt x="2056" y="512"/>
                  <a:pt x="2112" y="632"/>
                </a:cubicBezTo>
                <a:cubicBezTo>
                  <a:pt x="2168" y="752"/>
                  <a:pt x="2168" y="800"/>
                  <a:pt x="2256" y="872"/>
                </a:cubicBezTo>
                <a:cubicBezTo>
                  <a:pt x="2344" y="944"/>
                  <a:pt x="2488" y="1016"/>
                  <a:pt x="2640" y="1064"/>
                </a:cubicBezTo>
                <a:cubicBezTo>
                  <a:pt x="2792" y="1112"/>
                  <a:pt x="2968" y="1144"/>
                  <a:pt x="3168" y="1160"/>
                </a:cubicBezTo>
                <a:cubicBezTo>
                  <a:pt x="3368" y="1176"/>
                  <a:pt x="3672" y="1176"/>
                  <a:pt x="3840" y="1160"/>
                </a:cubicBezTo>
                <a:cubicBezTo>
                  <a:pt x="4008" y="1144"/>
                  <a:pt x="4088" y="1096"/>
                  <a:pt x="4176" y="1064"/>
                </a:cubicBezTo>
                <a:cubicBezTo>
                  <a:pt x="4264" y="1032"/>
                  <a:pt x="4320" y="992"/>
                  <a:pt x="4368" y="968"/>
                </a:cubicBezTo>
                <a:cubicBezTo>
                  <a:pt x="4416" y="944"/>
                  <a:pt x="4440" y="932"/>
                  <a:pt x="4464" y="92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07040"/>
            <a:ext cx="7010280" cy="1346040"/>
          </a:xfrm>
          <a:custGeom>
            <a:avLst/>
            <a:gdLst/>
            <a:ahLst/>
            <a:rect l="l" t="t" r="r" b="b"/>
            <a:pathLst>
              <a:path w="4416" h="848">
                <a:moveTo>
                  <a:pt x="0" y="848"/>
                </a:moveTo>
                <a:cubicBezTo>
                  <a:pt x="52" y="828"/>
                  <a:pt x="104" y="808"/>
                  <a:pt x="288" y="752"/>
                </a:cubicBezTo>
                <a:cubicBezTo>
                  <a:pt x="472" y="696"/>
                  <a:pt x="856" y="600"/>
                  <a:pt x="1104" y="512"/>
                </a:cubicBezTo>
                <a:cubicBezTo>
                  <a:pt x="1352" y="424"/>
                  <a:pt x="1600" y="304"/>
                  <a:pt x="1776" y="224"/>
                </a:cubicBezTo>
                <a:cubicBezTo>
                  <a:pt x="1952" y="144"/>
                  <a:pt x="2080" y="64"/>
                  <a:pt x="2160" y="32"/>
                </a:cubicBezTo>
                <a:cubicBezTo>
                  <a:pt x="2240" y="0"/>
                  <a:pt x="2208" y="8"/>
                  <a:pt x="2256" y="32"/>
                </a:cubicBezTo>
                <a:cubicBezTo>
                  <a:pt x="2304" y="56"/>
                  <a:pt x="2336" y="120"/>
                  <a:pt x="2448" y="176"/>
                </a:cubicBezTo>
                <a:cubicBezTo>
                  <a:pt x="2560" y="232"/>
                  <a:pt x="2744" y="312"/>
                  <a:pt x="2928" y="368"/>
                </a:cubicBezTo>
                <a:cubicBezTo>
                  <a:pt x="3112" y="424"/>
                  <a:pt x="3360" y="464"/>
                  <a:pt x="3552" y="512"/>
                </a:cubicBezTo>
                <a:cubicBezTo>
                  <a:pt x="3744" y="560"/>
                  <a:pt x="3936" y="616"/>
                  <a:pt x="4080" y="656"/>
                </a:cubicBezTo>
                <a:cubicBezTo>
                  <a:pt x="4224" y="696"/>
                  <a:pt x="4360" y="736"/>
                  <a:pt x="4416" y="75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1280" y="3168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3649680"/>
            <a:ext cx="1711440" cy="846000"/>
          </a:xfrm>
          <a:custGeom>
            <a:avLst/>
            <a:gdLst/>
            <a:ahLst/>
            <a:rect l="l" t="t" r="r" b="b"/>
            <a:pathLst>
              <a:path w="1078" h="533">
                <a:moveTo>
                  <a:pt x="0" y="533"/>
                </a:moveTo>
                <a:cubicBezTo>
                  <a:pt x="44" y="513"/>
                  <a:pt x="85" y="499"/>
                  <a:pt x="144" y="485"/>
                </a:cubicBezTo>
                <a:cubicBezTo>
                  <a:pt x="203" y="471"/>
                  <a:pt x="295" y="464"/>
                  <a:pt x="356" y="449"/>
                </a:cubicBezTo>
                <a:cubicBezTo>
                  <a:pt x="417" y="434"/>
                  <a:pt x="433" y="435"/>
                  <a:pt x="510" y="393"/>
                </a:cubicBezTo>
                <a:cubicBezTo>
                  <a:pt x="587" y="351"/>
                  <a:pt x="740" y="242"/>
                  <a:pt x="816" y="197"/>
                </a:cubicBezTo>
                <a:cubicBezTo>
                  <a:pt x="892" y="152"/>
                  <a:pt x="923" y="147"/>
                  <a:pt x="964" y="125"/>
                </a:cubicBezTo>
                <a:cubicBezTo>
                  <a:pt x="1005" y="103"/>
                  <a:pt x="1044" y="0"/>
                  <a:pt x="1061" y="68"/>
                </a:cubicBezTo>
                <a:cubicBezTo>
                  <a:pt x="1078" y="136"/>
                  <a:pt x="1067" y="435"/>
                  <a:pt x="1069" y="531"/>
                </a:cubicBez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6520" y="38098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39" y="365"/>
                </a:moveTo>
                <a:lnTo>
                  <a:pt x="1008" y="0"/>
                </a:lnTo>
                <a:lnTo>
                  <a:pt x="1008" y="240"/>
                </a:lnTo>
                <a:lnTo>
                  <a:pt x="0" y="384"/>
                </a:lnTo>
                <a:lnTo>
                  <a:pt x="48" y="384"/>
                </a:ln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3505320"/>
            <a:ext cx="1600200" cy="30456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96"/>
                </a:moveTo>
                <a:lnTo>
                  <a:pt x="1008" y="0"/>
                </a:lnTo>
                <a:lnTo>
                  <a:pt x="1008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10360" y="61711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6520" y="2246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2756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1320" y="3034080"/>
            <a:ext cx="7072200" cy="2128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450600" y="5227560"/>
            <a:ext cx="227304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4635360"/>
            <a:ext cx="3594240" cy="1765440"/>
          </a:xfrm>
          <a:custGeom>
            <a:avLst/>
            <a:gdLst/>
            <a:ahLst/>
            <a:rect l="l" t="t" r="r" b="b"/>
            <a:pathLst>
              <a:path w="2264" h="1112">
                <a:moveTo>
                  <a:pt x="96" y="1112"/>
                </a:moveTo>
                <a:cubicBezTo>
                  <a:pt x="176" y="1000"/>
                  <a:pt x="256" y="888"/>
                  <a:pt x="384" y="776"/>
                </a:cubicBezTo>
                <a:cubicBezTo>
                  <a:pt x="512" y="664"/>
                  <a:pt x="672" y="552"/>
                  <a:pt x="864" y="440"/>
                </a:cubicBezTo>
                <a:cubicBezTo>
                  <a:pt x="1056" y="328"/>
                  <a:pt x="1360" y="176"/>
                  <a:pt x="1536" y="104"/>
                </a:cubicBezTo>
                <a:cubicBezTo>
                  <a:pt x="1712" y="32"/>
                  <a:pt x="1808" y="16"/>
                  <a:pt x="1920" y="8"/>
                </a:cubicBezTo>
                <a:cubicBezTo>
                  <a:pt x="2032" y="0"/>
                  <a:pt x="2160" y="16"/>
                  <a:pt x="2208" y="56"/>
                </a:cubicBezTo>
                <a:cubicBezTo>
                  <a:pt x="2256" y="96"/>
                  <a:pt x="2264" y="152"/>
                  <a:pt x="2208" y="248"/>
                </a:cubicBezTo>
                <a:cubicBezTo>
                  <a:pt x="2152" y="344"/>
                  <a:pt x="2048" y="512"/>
                  <a:pt x="1872" y="632"/>
                </a:cubicBezTo>
                <a:cubicBezTo>
                  <a:pt x="1696" y="752"/>
                  <a:pt x="1416" y="896"/>
                  <a:pt x="1152" y="968"/>
                </a:cubicBezTo>
                <a:cubicBezTo>
                  <a:pt x="888" y="1040"/>
                  <a:pt x="480" y="1056"/>
                  <a:pt x="288" y="1064"/>
                </a:cubicBezTo>
                <a:cubicBezTo>
                  <a:pt x="96" y="1072"/>
                  <a:pt x="48" y="1044"/>
                  <a:pt x="0" y="1016"/>
                </a:cubicBezTo>
              </a:path>
            </a:pathLst>
          </a:custGeom>
          <a:noFill/>
          <a:ln cap="sq"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46000" y="3816720"/>
            <a:ext cx="5223960" cy="2266560"/>
            <a:chOff x="2646000" y="3816720"/>
            <a:chExt cx="5223960" cy="2266560"/>
          </a:xfrm>
        </p:grpSpPr>
        <p:sp>
          <p:nvSpPr>
            <p:cNvPr id="292" name=""/>
            <p:cNvSpPr/>
            <p:nvPr/>
          </p:nvSpPr>
          <p:spPr>
            <a:xfrm rot="20677800">
              <a:off x="2590920" y="4952880"/>
              <a:ext cx="533376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84800">
              <a:off x="6476760" y="3809880"/>
              <a:ext cx="15228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09800">
              <a:off x="2971440" y="5714640"/>
              <a:ext cx="236160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280" y="1371600"/>
            <a:ext cx="8808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ermite reproducir el hidrograma de una crecida en divers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untos de un río en base  a predicción  de variación del movimien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y cambio de forma de la onda de crecida a medida que ésta 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ropaga hacia aguas  abaj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7400" y="35053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308" name="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500"/>
                            </p:stCondLst>
                            <p:childTnLst>
                              <p:par>
                                <p:cTn id="9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319" name="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772280" y="57913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8960" y="5715000"/>
            <a:ext cx="92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267080"/>
            <a:ext cx="1371600" cy="175284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056"/>
                </a:moveTo>
                <a:lnTo>
                  <a:pt x="144" y="960"/>
                </a:lnTo>
                <a:lnTo>
                  <a:pt x="432" y="768"/>
                </a:lnTo>
                <a:lnTo>
                  <a:pt x="624" y="576"/>
                </a:lnTo>
                <a:lnTo>
                  <a:pt x="816" y="336"/>
                </a:lnTo>
                <a:lnTo>
                  <a:pt x="864" y="96"/>
                </a:lnTo>
                <a:lnTo>
                  <a:pt x="864" y="0"/>
                </a:lnTo>
                <a:lnTo>
                  <a:pt x="624" y="0"/>
                </a:lnTo>
                <a:lnTo>
                  <a:pt x="384" y="336"/>
                </a:lnTo>
                <a:lnTo>
                  <a:pt x="288" y="528"/>
                </a:lnTo>
                <a:lnTo>
                  <a:pt x="192" y="816"/>
                </a:lnTo>
                <a:lnTo>
                  <a:pt x="96" y="1008"/>
                </a:lnTo>
                <a:lnTo>
                  <a:pt x="96" y="1104"/>
                </a:ln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2880" y="4419720"/>
            <a:ext cx="1349640" cy="1616040"/>
          </a:xfrm>
          <a:custGeom>
            <a:avLst/>
            <a:gdLst/>
            <a:ahLst/>
            <a:rect l="l" t="t" r="r" b="b"/>
            <a:pathLst>
              <a:path w="850" h="1018">
                <a:moveTo>
                  <a:pt x="0" y="1018"/>
                </a:moveTo>
                <a:cubicBezTo>
                  <a:pt x="29" y="999"/>
                  <a:pt x="19" y="1010"/>
                  <a:pt x="33" y="986"/>
                </a:cubicBezTo>
                <a:lnTo>
                  <a:pt x="226" y="864"/>
                </a:lnTo>
                <a:lnTo>
                  <a:pt x="466" y="624"/>
                </a:lnTo>
                <a:lnTo>
                  <a:pt x="802" y="192"/>
                </a:lnTo>
                <a:lnTo>
                  <a:pt x="850" y="0"/>
                </a:lnTo>
                <a:lnTo>
                  <a:pt x="802" y="0"/>
                </a:lnTo>
                <a:lnTo>
                  <a:pt x="754" y="144"/>
                </a:lnTo>
                <a:lnTo>
                  <a:pt x="658" y="336"/>
                </a:lnTo>
                <a:lnTo>
                  <a:pt x="562" y="480"/>
                </a:lnTo>
                <a:lnTo>
                  <a:pt x="418" y="720"/>
                </a:lnTo>
                <a:lnTo>
                  <a:pt x="322" y="768"/>
                </a:lnTo>
                <a:lnTo>
                  <a:pt x="226" y="912"/>
                </a:lnTo>
                <a:lnTo>
                  <a:pt x="130" y="960"/>
                </a:lnTo>
              </a:path>
            </a:pathLst>
          </a:cu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L/K   velocidad de la onda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i 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&gt;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/(2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ubdividir el tramo en n par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2K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34340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No puede aplicarse a lechos de gran pendiente pues no se consideran efectos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,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características del tramo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iempo de viaje de la onda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K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=c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OTROS MÉT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=L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½ v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/v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67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44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Cauce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rectangular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parabólic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riangu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28600" y="5181480"/>
                <a:ext cx="29415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 tiempo entre C.G. de los hidrogramas de entrada y salida del tramo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entre Q máxi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"/>
                            </p:stCondLst>
                            <p:childTnLst>
                              <p:par>
                                <p:cTn id="13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94" name="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4537200">
            <a:off x="2933280" y="3695400"/>
            <a:ext cx="1143000" cy="1523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403" name="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7120" y="107244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419720"/>
            <a:ext cx="1371600" cy="10666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cubicBezTo>
                  <a:pt x="80" y="908"/>
                  <a:pt x="160" y="904"/>
                  <a:pt x="240" y="864"/>
                </a:cubicBezTo>
                <a:cubicBezTo>
                  <a:pt x="320" y="824"/>
                  <a:pt x="392" y="760"/>
                  <a:pt x="480" y="672"/>
                </a:cubicBezTo>
                <a:cubicBezTo>
                  <a:pt x="568" y="584"/>
                  <a:pt x="672" y="448"/>
                  <a:pt x="768" y="336"/>
                </a:cubicBezTo>
                <a:cubicBezTo>
                  <a:pt x="864" y="224"/>
                  <a:pt x="1008" y="56"/>
                  <a:pt x="1056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5410080"/>
            <a:ext cx="533520" cy="10188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0" y="96"/>
                </a:moveTo>
                <a:cubicBezTo>
                  <a:pt x="36" y="104"/>
                  <a:pt x="72" y="112"/>
                  <a:pt x="144" y="96"/>
                </a:cubicBezTo>
                <a:cubicBezTo>
                  <a:pt x="216" y="80"/>
                  <a:pt x="384" y="16"/>
                  <a:pt x="432" y="0"/>
                </a:cubicBezTo>
              </a:path>
            </a:pathLst>
          </a:custGeom>
          <a:noFill/>
          <a:ln cap="sq"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809880"/>
            <a:ext cx="380880" cy="60984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12" y="376"/>
                  <a:pt x="24" y="368"/>
                  <a:pt x="48" y="336"/>
                </a:cubicBezTo>
                <a:cubicBezTo>
                  <a:pt x="72" y="304"/>
                  <a:pt x="120" y="232"/>
                  <a:pt x="144" y="192"/>
                </a:cubicBezTo>
                <a:cubicBezTo>
                  <a:pt x="168" y="152"/>
                  <a:pt x="176" y="128"/>
                  <a:pt x="192" y="96"/>
                </a:cubicBezTo>
                <a:cubicBezTo>
                  <a:pt x="208" y="64"/>
                  <a:pt x="224" y="32"/>
                  <a:pt x="240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3680" y="6171480"/>
            <a:ext cx="3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4040" y="61722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n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14400" y="2971800"/>
            <a:ext cx="5715000" cy="228600"/>
          </a:xfrm>
          <a:custGeom>
            <a:avLst/>
            <a:gdLst/>
            <a:ahLst/>
            <a:rect l="l" t="t" r="r" b="b"/>
            <a:pathLst>
              <a:path w="3600" h="144">
                <a:moveTo>
                  <a:pt x="3504" y="96"/>
                </a:moveTo>
                <a:lnTo>
                  <a:pt x="192" y="96"/>
                </a:lnTo>
                <a:lnTo>
                  <a:pt x="0" y="0"/>
                </a:lnTo>
                <a:lnTo>
                  <a:pt x="3600" y="0"/>
                </a:lnTo>
                <a:lnTo>
                  <a:pt x="3600" y="144"/>
                </a:lnTo>
                <a:lnTo>
                  <a:pt x="3504" y="9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3124080"/>
            <a:ext cx="175284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457" name="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231920" y="3097080"/>
            <a:ext cx="5149800" cy="2465640"/>
          </a:xfrm>
          <a:custGeom>
            <a:avLst/>
            <a:gdLst/>
            <a:ahLst/>
            <a:rect l="l" t="t" r="r" b="b"/>
            <a:pathLst>
              <a:path w="3244" h="1553">
                <a:moveTo>
                  <a:pt x="3244" y="12"/>
                </a:moveTo>
                <a:cubicBezTo>
                  <a:pt x="2162" y="27"/>
                  <a:pt x="1081" y="0"/>
                  <a:pt x="0" y="0"/>
                </a:cubicBezTo>
                <a:lnTo>
                  <a:pt x="3064" y="1553"/>
                </a:lnTo>
                <a:lnTo>
                  <a:pt x="3064" y="161"/>
                </a:lnTo>
                <a:lnTo>
                  <a:pt x="3160" y="1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7010640" cy="838080"/>
          </a:xfrm>
          <a:custGeom>
            <a:avLst/>
            <a:gdLst/>
            <a:ahLst/>
            <a:rect l="l" t="t" r="r" b="b"/>
            <a:pathLst>
              <a:path w="4416" h="528">
                <a:moveTo>
                  <a:pt x="4416" y="432"/>
                </a:moveTo>
                <a:lnTo>
                  <a:pt x="4320" y="528"/>
                </a:lnTo>
                <a:lnTo>
                  <a:pt x="4080" y="384"/>
                </a:lnTo>
                <a:lnTo>
                  <a:pt x="4080" y="240"/>
                </a:lnTo>
                <a:lnTo>
                  <a:pt x="432" y="240"/>
                </a:lnTo>
                <a:lnTo>
                  <a:pt x="0" y="0"/>
                </a:lnTo>
                <a:lnTo>
                  <a:pt x="3840" y="0"/>
                </a:lnTo>
                <a:lnTo>
                  <a:pt x="3936" y="48"/>
                </a:lnTo>
                <a:lnTo>
                  <a:pt x="4032" y="96"/>
                </a:lnTo>
                <a:lnTo>
                  <a:pt x="4176" y="192"/>
                </a:lnTo>
                <a:lnTo>
                  <a:pt x="4272" y="288"/>
                </a:lnTo>
                <a:lnTo>
                  <a:pt x="4416" y="4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0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1968480"/>
            <a:ext cx="5105160" cy="2070000"/>
          </a:xfrm>
          <a:custGeom>
            <a:avLst/>
            <a:gdLst/>
            <a:ahLst/>
            <a:rect l="l" t="t" r="r" b="b"/>
            <a:pathLst>
              <a:path w="3216" h="1304">
                <a:moveTo>
                  <a:pt x="0" y="1208"/>
                </a:moveTo>
                <a:cubicBezTo>
                  <a:pt x="60" y="1232"/>
                  <a:pt x="120" y="1256"/>
                  <a:pt x="192" y="1256"/>
                </a:cubicBezTo>
                <a:cubicBezTo>
                  <a:pt x="264" y="1256"/>
                  <a:pt x="344" y="1256"/>
                  <a:pt x="432" y="1208"/>
                </a:cubicBezTo>
                <a:cubicBezTo>
                  <a:pt x="520" y="1160"/>
                  <a:pt x="608" y="1096"/>
                  <a:pt x="720" y="968"/>
                </a:cubicBezTo>
                <a:cubicBezTo>
                  <a:pt x="832" y="840"/>
                  <a:pt x="992" y="592"/>
                  <a:pt x="1104" y="440"/>
                </a:cubicBezTo>
                <a:cubicBezTo>
                  <a:pt x="1216" y="288"/>
                  <a:pt x="1296" y="112"/>
                  <a:pt x="1392" y="56"/>
                </a:cubicBezTo>
                <a:cubicBezTo>
                  <a:pt x="1488" y="0"/>
                  <a:pt x="1592" y="56"/>
                  <a:pt x="1680" y="104"/>
                </a:cubicBezTo>
                <a:cubicBezTo>
                  <a:pt x="1768" y="152"/>
                  <a:pt x="1840" y="256"/>
                  <a:pt x="1920" y="344"/>
                </a:cubicBezTo>
                <a:cubicBezTo>
                  <a:pt x="2000" y="432"/>
                  <a:pt x="2072" y="528"/>
                  <a:pt x="2160" y="632"/>
                </a:cubicBezTo>
                <a:cubicBezTo>
                  <a:pt x="2248" y="736"/>
                  <a:pt x="2344" y="872"/>
                  <a:pt x="2448" y="968"/>
                </a:cubicBezTo>
                <a:cubicBezTo>
                  <a:pt x="2552" y="1064"/>
                  <a:pt x="2656" y="1152"/>
                  <a:pt x="2784" y="1208"/>
                </a:cubicBezTo>
                <a:cubicBezTo>
                  <a:pt x="2912" y="1264"/>
                  <a:pt x="3144" y="1288"/>
                  <a:pt x="3216" y="13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2774880"/>
            <a:ext cx="5334120" cy="1187640"/>
          </a:xfrm>
          <a:custGeom>
            <a:avLst/>
            <a:gdLst/>
            <a:ahLst/>
            <a:rect l="l" t="t" r="r" b="b"/>
            <a:pathLst>
              <a:path w="3360" h="748">
                <a:moveTo>
                  <a:pt x="0" y="748"/>
                </a:moveTo>
                <a:cubicBezTo>
                  <a:pt x="172" y="720"/>
                  <a:pt x="344" y="692"/>
                  <a:pt x="480" y="652"/>
                </a:cubicBezTo>
                <a:cubicBezTo>
                  <a:pt x="616" y="612"/>
                  <a:pt x="688" y="580"/>
                  <a:pt x="816" y="508"/>
                </a:cubicBezTo>
                <a:cubicBezTo>
                  <a:pt x="944" y="436"/>
                  <a:pt x="1136" y="296"/>
                  <a:pt x="1248" y="220"/>
                </a:cubicBezTo>
                <a:cubicBezTo>
                  <a:pt x="1360" y="144"/>
                  <a:pt x="1403" y="83"/>
                  <a:pt x="1491" y="51"/>
                </a:cubicBezTo>
                <a:cubicBezTo>
                  <a:pt x="1579" y="19"/>
                  <a:pt x="1665" y="0"/>
                  <a:pt x="1776" y="28"/>
                </a:cubicBezTo>
                <a:cubicBezTo>
                  <a:pt x="1887" y="56"/>
                  <a:pt x="2072" y="180"/>
                  <a:pt x="2160" y="220"/>
                </a:cubicBezTo>
                <a:cubicBezTo>
                  <a:pt x="2248" y="260"/>
                  <a:pt x="2208" y="236"/>
                  <a:pt x="2304" y="268"/>
                </a:cubicBezTo>
                <a:cubicBezTo>
                  <a:pt x="2400" y="300"/>
                  <a:pt x="2592" y="372"/>
                  <a:pt x="2736" y="412"/>
                </a:cubicBezTo>
                <a:cubicBezTo>
                  <a:pt x="2880" y="452"/>
                  <a:pt x="3064" y="484"/>
                  <a:pt x="3168" y="508"/>
                </a:cubicBezTo>
                <a:cubicBezTo>
                  <a:pt x="3272" y="532"/>
                  <a:pt x="3316" y="544"/>
                  <a:pt x="3360" y="55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83" name="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85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rot="8759400">
            <a:off x="5638680" y="289512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1066680"/>
            <a:ext cx="3809880" cy="3276720"/>
          </a:xfrm>
          <a:custGeom>
            <a:avLst/>
            <a:gdLst/>
            <a:ahLst/>
            <a:rect l="l" t="t" r="r" b="b"/>
            <a:pathLst>
              <a:path w="2400" h="2064">
                <a:moveTo>
                  <a:pt x="0" y="2064"/>
                </a:moveTo>
                <a:cubicBezTo>
                  <a:pt x="24" y="1964"/>
                  <a:pt x="48" y="1864"/>
                  <a:pt x="144" y="1680"/>
                </a:cubicBezTo>
                <a:cubicBezTo>
                  <a:pt x="240" y="1496"/>
                  <a:pt x="328" y="1208"/>
                  <a:pt x="576" y="960"/>
                </a:cubicBezTo>
                <a:cubicBezTo>
                  <a:pt x="824" y="712"/>
                  <a:pt x="1328" y="352"/>
                  <a:pt x="1632" y="192"/>
                </a:cubicBezTo>
                <a:cubicBezTo>
                  <a:pt x="1936" y="32"/>
                  <a:pt x="2168" y="16"/>
                  <a:pt x="24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990720"/>
            <a:ext cx="5181840" cy="3352680"/>
          </a:xfrm>
          <a:custGeom>
            <a:avLst/>
            <a:gdLst/>
            <a:ahLst/>
            <a:rect l="l" t="t" r="r" b="b"/>
            <a:pathLst>
              <a:path w="3264" h="2112">
                <a:moveTo>
                  <a:pt x="0" y="2112"/>
                </a:moveTo>
                <a:cubicBezTo>
                  <a:pt x="108" y="1968"/>
                  <a:pt x="216" y="1824"/>
                  <a:pt x="384" y="1680"/>
                </a:cubicBezTo>
                <a:cubicBezTo>
                  <a:pt x="552" y="1536"/>
                  <a:pt x="728" y="1384"/>
                  <a:pt x="1008" y="1248"/>
                </a:cubicBezTo>
                <a:cubicBezTo>
                  <a:pt x="1288" y="1112"/>
                  <a:pt x="1760" y="1016"/>
                  <a:pt x="2064" y="864"/>
                </a:cubicBezTo>
                <a:cubicBezTo>
                  <a:pt x="2368" y="712"/>
                  <a:pt x="2632" y="480"/>
                  <a:pt x="2832" y="336"/>
                </a:cubicBezTo>
                <a:cubicBezTo>
                  <a:pt x="3032" y="192"/>
                  <a:pt x="3148" y="96"/>
                  <a:pt x="3264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685800"/>
            <a:ext cx="6946920" cy="3657600"/>
          </a:xfrm>
          <a:custGeom>
            <a:avLst/>
            <a:gdLst/>
            <a:ahLst/>
            <a:rect l="l" t="t" r="r" b="b"/>
            <a:pathLst>
              <a:path w="4376" h="2304">
                <a:moveTo>
                  <a:pt x="0" y="2304"/>
                </a:moveTo>
                <a:cubicBezTo>
                  <a:pt x="220" y="2152"/>
                  <a:pt x="440" y="2000"/>
                  <a:pt x="768" y="1872"/>
                </a:cubicBezTo>
                <a:cubicBezTo>
                  <a:pt x="1096" y="1744"/>
                  <a:pt x="1576" y="1624"/>
                  <a:pt x="1968" y="1536"/>
                </a:cubicBezTo>
                <a:cubicBezTo>
                  <a:pt x="2360" y="1448"/>
                  <a:pt x="2824" y="1448"/>
                  <a:pt x="3120" y="1344"/>
                </a:cubicBezTo>
                <a:cubicBezTo>
                  <a:pt x="3416" y="1240"/>
                  <a:pt x="3552" y="1096"/>
                  <a:pt x="3744" y="912"/>
                </a:cubicBezTo>
                <a:cubicBezTo>
                  <a:pt x="3936" y="728"/>
                  <a:pt x="4168" y="392"/>
                  <a:pt x="4272" y="240"/>
                </a:cubicBezTo>
                <a:cubicBezTo>
                  <a:pt x="4376" y="88"/>
                  <a:pt x="4372" y="44"/>
                  <a:pt x="4368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00cc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0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00"/>
                            </p:stCondLst>
                            <p:childTnLst>
                              <p:par>
                                <p:cTn id="19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500"/>
                            </p:stCondLst>
                            <p:childTnLst>
                              <p:par>
                                <p:cTn id="19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ccff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514600"/>
            <a:ext cx="1752480" cy="243828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524" name=""/>
            <p:cNvSpPr/>
            <p:nvPr/>
          </p:nvSpPr>
          <p:spPr>
            <a:xfrm>
              <a:off x="914400" y="1905120"/>
              <a:ext cx="266760" cy="533160"/>
            </a:xfrm>
            <a:custGeom>
              <a:avLst/>
              <a:gdLst/>
              <a:ahLst/>
              <a:rect l="l" t="t" r="r" b="b"/>
              <a:pathLst>
                <a:path w="168" h="336">
                  <a:moveTo>
                    <a:pt x="168" y="0"/>
                  </a:moveTo>
                  <a:cubicBezTo>
                    <a:pt x="108" y="44"/>
                    <a:pt x="48" y="88"/>
                    <a:pt x="24" y="144"/>
                  </a:cubicBezTo>
                  <a:cubicBezTo>
                    <a:pt x="0" y="200"/>
                    <a:pt x="12" y="268"/>
                    <a:pt x="24" y="3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5715000" y="2438280"/>
            <a:ext cx="175248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2209680"/>
            <a:ext cx="2438640" cy="53352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48"/>
                </a:moveTo>
                <a:cubicBezTo>
                  <a:pt x="648" y="24"/>
                  <a:pt x="1296" y="0"/>
                  <a:pt x="1728" y="48"/>
                </a:cubicBezTo>
                <a:cubicBezTo>
                  <a:pt x="2160" y="96"/>
                  <a:pt x="2376" y="216"/>
                  <a:pt x="2592" y="336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0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1295280" y="352440"/>
          <a:ext cx="64008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2440"/>
                    <a:ext cx="64008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5" dur="indefinite" restart="never" nodeType="tmRoot">
          <p:childTnLst>
            <p:seq>
              <p:cTn id="2126" dur="indefinite" nodeType="mainSeq">
                <p:childTnLst>
                  <p:par>
                    <p:cTn id="2127" fill="hold">
                      <p:stCondLst>
                        <p:cond delay="0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523880" y="5105520"/>
            <a:ext cx="1067040" cy="53316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040" y="4979520"/>
            <a:ext cx="157068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600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154" name=""/>
            <p:cNvSpPr/>
            <p:nvPr/>
          </p:nvSpPr>
          <p:spPr>
            <a:xfrm>
              <a:off x="1295280" y="3467160"/>
              <a:ext cx="6794640" cy="2095560"/>
            </a:xfrm>
            <a:custGeom>
              <a:avLst/>
              <a:gdLst/>
              <a:ahLst/>
              <a:rect l="l" t="t" r="r" b="b"/>
              <a:pathLst>
                <a:path w="4280" h="1320">
                  <a:moveTo>
                    <a:pt x="0" y="1320"/>
                  </a:moveTo>
                  <a:cubicBezTo>
                    <a:pt x="160" y="1320"/>
                    <a:pt x="320" y="1320"/>
                    <a:pt x="480" y="1272"/>
                  </a:cubicBezTo>
                  <a:cubicBezTo>
                    <a:pt x="640" y="1224"/>
                    <a:pt x="792" y="1176"/>
                    <a:pt x="960" y="1032"/>
                  </a:cubicBezTo>
                  <a:cubicBezTo>
                    <a:pt x="1128" y="888"/>
                    <a:pt x="1336" y="576"/>
                    <a:pt x="1488" y="408"/>
                  </a:cubicBezTo>
                  <a:cubicBezTo>
                    <a:pt x="1640" y="240"/>
                    <a:pt x="1752" y="48"/>
                    <a:pt x="1872" y="24"/>
                  </a:cubicBezTo>
                  <a:cubicBezTo>
                    <a:pt x="1992" y="0"/>
                    <a:pt x="2080" y="144"/>
                    <a:pt x="2208" y="264"/>
                  </a:cubicBezTo>
                  <a:cubicBezTo>
                    <a:pt x="2336" y="384"/>
                    <a:pt x="2464" y="616"/>
                    <a:pt x="2640" y="744"/>
                  </a:cubicBezTo>
                  <a:cubicBezTo>
                    <a:pt x="2816" y="872"/>
                    <a:pt x="3016" y="960"/>
                    <a:pt x="3264" y="1032"/>
                  </a:cubicBezTo>
                  <a:cubicBezTo>
                    <a:pt x="3512" y="1104"/>
                    <a:pt x="3976" y="1152"/>
                    <a:pt x="4128" y="1176"/>
                  </a:cubicBezTo>
                  <a:cubicBezTo>
                    <a:pt x="4280" y="1200"/>
                    <a:pt x="4228" y="1188"/>
                    <a:pt x="4176" y="1176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138560"/>
              <a:ext cx="6985080" cy="1424160"/>
            </a:xfrm>
            <a:custGeom>
              <a:avLst/>
              <a:gdLst/>
              <a:ahLst/>
              <a:rect l="l" t="t" r="r" b="b"/>
              <a:pathLst>
                <a:path w="4400" h="897">
                  <a:moveTo>
                    <a:pt x="0" y="897"/>
                  </a:moveTo>
                  <a:cubicBezTo>
                    <a:pt x="106" y="887"/>
                    <a:pt x="427" y="880"/>
                    <a:pt x="637" y="839"/>
                  </a:cubicBezTo>
                  <a:cubicBezTo>
                    <a:pt x="847" y="798"/>
                    <a:pt x="1097" y="728"/>
                    <a:pt x="1262" y="652"/>
                  </a:cubicBezTo>
                  <a:cubicBezTo>
                    <a:pt x="1427" y="576"/>
                    <a:pt x="1472" y="489"/>
                    <a:pt x="1627" y="385"/>
                  </a:cubicBezTo>
                  <a:cubicBezTo>
                    <a:pt x="1782" y="281"/>
                    <a:pt x="1975" y="56"/>
                    <a:pt x="2194" y="28"/>
                  </a:cubicBezTo>
                  <a:cubicBezTo>
                    <a:pt x="2413" y="0"/>
                    <a:pt x="2745" y="159"/>
                    <a:pt x="2940" y="214"/>
                  </a:cubicBezTo>
                  <a:cubicBezTo>
                    <a:pt x="3135" y="269"/>
                    <a:pt x="3221" y="310"/>
                    <a:pt x="3362" y="360"/>
                  </a:cubicBezTo>
                  <a:cubicBezTo>
                    <a:pt x="3503" y="410"/>
                    <a:pt x="3611" y="463"/>
                    <a:pt x="3784" y="514"/>
                  </a:cubicBezTo>
                  <a:cubicBezTo>
                    <a:pt x="3957" y="565"/>
                    <a:pt x="4272" y="636"/>
                    <a:pt x="4400" y="668"/>
                  </a:cubicBezTo>
                </a:path>
              </a:pathLst>
            </a:cu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3441600"/>
              <a:ext cx="3429000" cy="2121120"/>
            </a:xfrm>
            <a:custGeom>
              <a:avLst/>
              <a:gdLst/>
              <a:ahLst/>
              <a:rect l="l" t="t" r="r" b="b"/>
              <a:pathLst>
                <a:path w="2160" h="1336">
                  <a:moveTo>
                    <a:pt x="0" y="1336"/>
                  </a:moveTo>
                  <a:cubicBezTo>
                    <a:pt x="101" y="1328"/>
                    <a:pt x="405" y="1325"/>
                    <a:pt x="606" y="1286"/>
                  </a:cubicBezTo>
                  <a:cubicBezTo>
                    <a:pt x="807" y="1247"/>
                    <a:pt x="1043" y="1179"/>
                    <a:pt x="1206" y="1099"/>
                  </a:cubicBezTo>
                  <a:cubicBezTo>
                    <a:pt x="1369" y="1019"/>
                    <a:pt x="1457" y="904"/>
                    <a:pt x="1584" y="808"/>
                  </a:cubicBezTo>
                  <a:cubicBezTo>
                    <a:pt x="1711" y="712"/>
                    <a:pt x="1872" y="584"/>
                    <a:pt x="1968" y="520"/>
                  </a:cubicBezTo>
                  <a:cubicBezTo>
                    <a:pt x="2064" y="456"/>
                    <a:pt x="2160" y="472"/>
                    <a:pt x="2160" y="424"/>
                  </a:cubicBezTo>
                  <a:cubicBezTo>
                    <a:pt x="2160" y="376"/>
                    <a:pt x="2032" y="296"/>
                    <a:pt x="1968" y="232"/>
                  </a:cubicBezTo>
                  <a:cubicBezTo>
                    <a:pt x="1904" y="168"/>
                    <a:pt x="1832" y="72"/>
                    <a:pt x="1776" y="40"/>
                  </a:cubicBezTo>
                  <a:cubicBezTo>
                    <a:pt x="1720" y="8"/>
                    <a:pt x="1696" y="0"/>
                    <a:pt x="1632" y="40"/>
                  </a:cubicBezTo>
                  <a:cubicBezTo>
                    <a:pt x="1568" y="80"/>
                    <a:pt x="1480" y="184"/>
                    <a:pt x="1392" y="280"/>
                  </a:cubicBezTo>
                  <a:cubicBezTo>
                    <a:pt x="1304" y="376"/>
                    <a:pt x="1203" y="489"/>
                    <a:pt x="1104" y="616"/>
                  </a:cubicBezTo>
                  <a:cubicBezTo>
                    <a:pt x="1005" y="743"/>
                    <a:pt x="918" y="937"/>
                    <a:pt x="800" y="1043"/>
                  </a:cubicBezTo>
                  <a:cubicBezTo>
                    <a:pt x="682" y="1149"/>
                    <a:pt x="520" y="1204"/>
                    <a:pt x="395" y="1253"/>
                  </a:cubicBezTo>
                  <a:cubicBezTo>
                    <a:pt x="270" y="1302"/>
                    <a:pt x="120" y="1319"/>
                    <a:pt x="48" y="1336"/>
                  </a:cubicBezTo>
                </a:path>
              </a:pathLst>
            </a:custGeom>
            <a:solidFill>
              <a:srgbClr val="ccecff"/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6600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556160"/>
            <a:ext cx="2968920" cy="2073240"/>
          </a:xfrm>
          <a:custGeom>
            <a:avLst/>
            <a:gdLst/>
            <a:ahLst/>
            <a:rect l="l" t="t" r="r" b="b"/>
            <a:pathLst>
              <a:path w="1870" h="1306">
                <a:moveTo>
                  <a:pt x="0" y="1306"/>
                </a:moveTo>
                <a:cubicBezTo>
                  <a:pt x="16" y="1266"/>
                  <a:pt x="32" y="1226"/>
                  <a:pt x="96" y="1114"/>
                </a:cubicBezTo>
                <a:cubicBezTo>
                  <a:pt x="160" y="1002"/>
                  <a:pt x="240" y="778"/>
                  <a:pt x="384" y="634"/>
                </a:cubicBezTo>
                <a:cubicBezTo>
                  <a:pt x="528" y="490"/>
                  <a:pt x="769" y="343"/>
                  <a:pt x="960" y="250"/>
                </a:cubicBezTo>
                <a:cubicBezTo>
                  <a:pt x="1151" y="157"/>
                  <a:pt x="1378" y="115"/>
                  <a:pt x="1530" y="73"/>
                </a:cubicBezTo>
                <a:cubicBezTo>
                  <a:pt x="1682" y="31"/>
                  <a:pt x="1799" y="15"/>
                  <a:pt x="1870" y="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2880" y="49474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23:37Z</dcterms:created>
  <dc:creator>Guillermo Osses</dc:creator>
  <dc:description/>
  <dc:language>en-US</dc:language>
  <cp:lastModifiedBy>xv</cp:lastModifiedBy>
  <dcterms:modified xsi:type="dcterms:W3CDTF">2005-06-13T15:54:15Z</dcterms:modified>
  <cp:revision>25</cp:revision>
  <dc:subject/>
  <dc:title>TEMARIO DEL TRABAJO DE TÍTULO </dc:title>
</cp:coreProperties>
</file>