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6.png" ContentType="image/png"/>
  <Override PartName="/ppt/media/image14.wmf" ContentType="image/x-wmf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20.jpeg" ContentType="image/jpeg"/>
  <Override PartName="/ppt/media/image16.wmf" ContentType="image/x-wmf"/>
  <Override PartName="/ppt/media/image15.wmf" ContentType="image/x-wmf"/>
  <Override PartName="/ppt/media/image22.jpeg" ContentType="image/jpeg"/>
  <Override PartName="/ppt/media/image1.png" ContentType="image/png"/>
  <Override PartName="/ppt/media/image5.jpeg" ContentType="image/jpeg"/>
  <Override PartName="/ppt/media/image26.jpeg" ContentType="image/jpeg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5575-7795-4E7F-B6EE-4C144EFD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B2A3-6D81-4215-B231-12956CAC9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77B2-DD6F-4A81-B1ED-D23C3DB09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594D-6B9D-4510-8861-3B8C0A467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0BF1-D830-4913-A75B-0D66A1334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ABC5-A83B-42CC-8A3E-F692A236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0223-966E-4F5F-B98D-A4C25E05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4DB3-E0F0-4DA2-AC9A-3ED1B017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7454-78E9-4AFC-B5CC-CC3D6DC7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03A7-815E-43E2-BC9D-EE67164C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1B46-DC23-48F2-8009-AA6AA204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F35D-45A4-45E1-A045-A1393F83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F4B5B-32E3-48FF-924C-DC62170D0CD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" Target="slide23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10.wm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isegno" descr=""/>
          <p:cNvPicPr/>
          <p:nvPr/>
        </p:nvPicPr>
        <p:blipFill>
          <a:blip r:embed="rId2"/>
          <a:stretch/>
        </p:blipFill>
        <p:spPr>
          <a:xfrm>
            <a:off x="609480" y="324000"/>
            <a:ext cx="8001000" cy="6210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Tahoma"/>
              </a:rPr>
              <a:t>CAPITULO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ESTUDIO DE CREC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14400" y="7621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ar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71800" y="1219320"/>
            <a:ext cx="2057400" cy="510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(t)=Q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2209680"/>
            <a:ext cx="1349640" cy="520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820" y="1281"/>
                </a:moveTo>
                <a:lnTo>
                  <a:pt x="23150" y="1281"/>
                </a:lnTo>
                <a:lnTo>
                  <a:pt x="23150" y="-13255"/>
                </a:lnTo>
                <a:lnTo>
                  <a:pt x="351" y="-28188"/>
                </a:lnTo>
              </a:path>
              <a:path w="21600" h="21600">
                <a:moveTo>
                  <a:pt x="22820" y="0"/>
                </a:moveTo>
                <a:lnTo>
                  <a:pt x="22820" y="21600"/>
                </a:lnTo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Tahoma"/>
              </a:rPr>
              <a:t>Varia con </a:t>
            </a:r>
            <a:r>
              <a:rPr b="1" lang="en-US" sz="1400" spc="-1" strike="noStrike">
                <a:solidFill>
                  <a:srgbClr val="008000"/>
                </a:solidFill>
                <a:latin typeface="Symbol"/>
                <a:ea typeface="Symbol"/>
              </a:rPr>
              <a:t></a:t>
            </a:r>
            <a:r>
              <a:rPr b="1" lang="en-US" sz="1400" spc="-1" strike="noStrike">
                <a:solidFill>
                  <a:srgbClr val="008000"/>
                </a:solidFill>
                <a:latin typeface="Tahoma"/>
              </a:rPr>
              <a:t> y est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676520" y="3276720"/>
                <a:ext cx="223344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5486400" y="4114800"/>
            <a:ext cx="25909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-dS=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ahoma"/>
              </a:rPr>
              <a:t>o</a:t>
            </a: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K</a:t>
            </a:r>
            <a:r>
              <a:rPr b="1" lang="en-US" sz="2400" spc="-1" strike="noStrike" baseline="30000">
                <a:solidFill>
                  <a:srgbClr val="008000"/>
                </a:solidFill>
                <a:latin typeface="Tahoma"/>
              </a:rPr>
              <a:t>t</a:t>
            </a: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4648320"/>
            <a:ext cx="4572000" cy="533160"/>
          </a:xfrm>
          <a:custGeom>
            <a:avLst/>
            <a:gdLst>
              <a:gd name="textAreaLeft" fmla="*/ 799920 w 4572000"/>
              <a:gd name="textAreaRight" fmla="*/ 3314880 w 457200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c0ff81"/>
              </a:gs>
              <a:gs pos="50000">
                <a:srgbClr val="008000"/>
              </a:gs>
              <a:gs pos="100000">
                <a:srgbClr val="c0ff81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57200" y="5634000"/>
                <a:ext cx="350532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e>
                    </m:nary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4267080" y="5638680"/>
            <a:ext cx="1143000" cy="9907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339933"/>
              </a:gs>
              <a:gs pos="100000">
                <a:srgbClr val="c0ff8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486400" y="5430960"/>
                <a:ext cx="281952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1676520" y="2743200"/>
                <a:ext cx="207000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≡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838080" y="457200"/>
            <a:ext cx="4876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macenamiento Re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1143000"/>
            <a:ext cx="3886200" cy="45972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=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Q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=0,  S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Tbermudas3" descr=""/>
          <p:cNvPicPr/>
          <p:nvPr/>
        </p:nvPicPr>
        <p:blipFill>
          <a:blip r:embed="rId2"/>
          <a:stretch/>
        </p:blipFill>
        <p:spPr>
          <a:xfrm>
            <a:off x="5410080" y="3124080"/>
            <a:ext cx="373392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219320" y="3808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urva General de ago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9907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nálisis de curvas de recesión de varias crecidas homogéneas (sin lluvias en recesión, sin derretimiento, similar distribución espac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895480" y="2362320"/>
            <a:ext cx="5105520" cy="4038480"/>
          </a:xfrm>
          <a:prstGeom prst="rect">
            <a:avLst/>
          </a:prstGeom>
          <a:solidFill>
            <a:srgbClr val="e1a3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13200" y="2664000"/>
            <a:ext cx="3554280" cy="2441520"/>
          </a:xfrm>
          <a:custGeom>
            <a:avLst/>
            <a:gdLst/>
            <a:ahLst/>
            <a:rect l="l" t="t" r="r" b="b"/>
            <a:pathLst>
              <a:path w="2239" h="1538">
                <a:moveTo>
                  <a:pt x="0" y="0"/>
                </a:moveTo>
                <a:cubicBezTo>
                  <a:pt x="34" y="64"/>
                  <a:pt x="46" y="237"/>
                  <a:pt x="203" y="381"/>
                </a:cubicBezTo>
                <a:cubicBezTo>
                  <a:pt x="360" y="525"/>
                  <a:pt x="684" y="705"/>
                  <a:pt x="943" y="866"/>
                </a:cubicBezTo>
                <a:cubicBezTo>
                  <a:pt x="1202" y="1027"/>
                  <a:pt x="1543" y="1234"/>
                  <a:pt x="1759" y="1346"/>
                </a:cubicBezTo>
                <a:cubicBezTo>
                  <a:pt x="1975" y="1458"/>
                  <a:pt x="2107" y="1498"/>
                  <a:pt x="2239" y="1538"/>
                </a:cubicBezTo>
              </a:path>
            </a:pathLst>
          </a:custGeom>
          <a:noFill/>
          <a:ln w="38160">
            <a:solidFill>
              <a:srgbClr val="66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48320" y="3200400"/>
            <a:ext cx="2805120" cy="1986120"/>
          </a:xfrm>
          <a:custGeom>
            <a:avLst/>
            <a:gdLst/>
            <a:ahLst/>
            <a:rect l="l" t="t" r="r" b="b"/>
            <a:pathLst>
              <a:path w="1767" h="1251">
                <a:moveTo>
                  <a:pt x="0" y="0"/>
                </a:moveTo>
                <a:cubicBezTo>
                  <a:pt x="20" y="34"/>
                  <a:pt x="63" y="138"/>
                  <a:pt x="121" y="205"/>
                </a:cubicBezTo>
                <a:cubicBezTo>
                  <a:pt x="179" y="272"/>
                  <a:pt x="228" y="303"/>
                  <a:pt x="348" y="400"/>
                </a:cubicBezTo>
                <a:cubicBezTo>
                  <a:pt x="468" y="497"/>
                  <a:pt x="632" y="659"/>
                  <a:pt x="843" y="789"/>
                </a:cubicBezTo>
                <a:cubicBezTo>
                  <a:pt x="1054" y="919"/>
                  <a:pt x="1459" y="1105"/>
                  <a:pt x="1613" y="1178"/>
                </a:cubicBezTo>
                <a:cubicBezTo>
                  <a:pt x="1767" y="1251"/>
                  <a:pt x="1735" y="1217"/>
                  <a:pt x="1767" y="1227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562720" y="3657600"/>
            <a:ext cx="1828800" cy="1447920"/>
          </a:xfrm>
          <a:custGeom>
            <a:avLst/>
            <a:gdLst/>
            <a:ahLst/>
            <a:rect l="l" t="t" r="r" b="b"/>
            <a:pathLst>
              <a:path w="1152" h="912">
                <a:moveTo>
                  <a:pt x="0" y="0"/>
                </a:moveTo>
                <a:cubicBezTo>
                  <a:pt x="88" y="172"/>
                  <a:pt x="176" y="344"/>
                  <a:pt x="336" y="480"/>
                </a:cubicBezTo>
                <a:cubicBezTo>
                  <a:pt x="496" y="616"/>
                  <a:pt x="824" y="744"/>
                  <a:pt x="960" y="816"/>
                </a:cubicBezTo>
                <a:cubicBezTo>
                  <a:pt x="1096" y="888"/>
                  <a:pt x="1120" y="896"/>
                  <a:pt x="1152" y="91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2590920"/>
            <a:ext cx="3616560" cy="2574720"/>
          </a:xfrm>
          <a:custGeom>
            <a:avLst/>
            <a:gdLst/>
            <a:ahLst/>
            <a:rect l="l" t="t" r="r" b="b"/>
            <a:pathLst>
              <a:path w="2278" h="1622">
                <a:moveTo>
                  <a:pt x="0" y="0"/>
                </a:moveTo>
                <a:cubicBezTo>
                  <a:pt x="12" y="28"/>
                  <a:pt x="25" y="104"/>
                  <a:pt x="73" y="168"/>
                </a:cubicBezTo>
                <a:cubicBezTo>
                  <a:pt x="121" y="232"/>
                  <a:pt x="132" y="260"/>
                  <a:pt x="288" y="384"/>
                </a:cubicBezTo>
                <a:cubicBezTo>
                  <a:pt x="444" y="508"/>
                  <a:pt x="847" y="798"/>
                  <a:pt x="1008" y="912"/>
                </a:cubicBezTo>
                <a:cubicBezTo>
                  <a:pt x="1169" y="1026"/>
                  <a:pt x="1073" y="964"/>
                  <a:pt x="1257" y="1068"/>
                </a:cubicBezTo>
                <a:cubicBezTo>
                  <a:pt x="1441" y="1172"/>
                  <a:pt x="1946" y="1450"/>
                  <a:pt x="2112" y="1536"/>
                </a:cubicBezTo>
                <a:cubicBezTo>
                  <a:pt x="2278" y="1622"/>
                  <a:pt x="2268" y="1600"/>
                  <a:pt x="2256" y="1584"/>
                </a:cubicBezTo>
              </a:path>
            </a:pathLst>
          </a:custGeom>
          <a:noFill/>
          <a:ln w="284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3962520"/>
            <a:ext cx="1295280" cy="1143000"/>
          </a:xfrm>
          <a:custGeom>
            <a:avLst/>
            <a:gdLst/>
            <a:ahLst/>
            <a:rect l="l" t="t" r="r" b="b"/>
            <a:pathLst>
              <a:path w="816" h="720">
                <a:moveTo>
                  <a:pt x="0" y="0"/>
                </a:moveTo>
                <a:cubicBezTo>
                  <a:pt x="8" y="64"/>
                  <a:pt x="16" y="128"/>
                  <a:pt x="48" y="192"/>
                </a:cubicBezTo>
                <a:cubicBezTo>
                  <a:pt x="80" y="256"/>
                  <a:pt x="104" y="320"/>
                  <a:pt x="192" y="384"/>
                </a:cubicBezTo>
                <a:cubicBezTo>
                  <a:pt x="280" y="448"/>
                  <a:pt x="472" y="520"/>
                  <a:pt x="576" y="576"/>
                </a:cubicBezTo>
                <a:cubicBezTo>
                  <a:pt x="680" y="632"/>
                  <a:pt x="748" y="676"/>
                  <a:pt x="816" y="720"/>
                </a:cubicBezTo>
              </a:path>
            </a:pathLst>
          </a:custGeom>
          <a:noFill/>
          <a:ln w="2844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9880" y="2590920"/>
            <a:ext cx="3657600" cy="2590560"/>
          </a:xfrm>
          <a:custGeom>
            <a:avLst/>
            <a:gdLst/>
            <a:ahLst/>
            <a:rect l="l" t="t" r="r" b="b"/>
            <a:pathLst>
              <a:path w="2304" h="1632">
                <a:moveTo>
                  <a:pt x="0" y="0"/>
                </a:moveTo>
                <a:cubicBezTo>
                  <a:pt x="12" y="35"/>
                  <a:pt x="24" y="130"/>
                  <a:pt x="73" y="208"/>
                </a:cubicBezTo>
                <a:cubicBezTo>
                  <a:pt x="122" y="286"/>
                  <a:pt x="176" y="367"/>
                  <a:pt x="292" y="468"/>
                </a:cubicBezTo>
                <a:cubicBezTo>
                  <a:pt x="408" y="569"/>
                  <a:pt x="569" y="686"/>
                  <a:pt x="768" y="816"/>
                </a:cubicBezTo>
                <a:cubicBezTo>
                  <a:pt x="967" y="946"/>
                  <a:pt x="1232" y="1112"/>
                  <a:pt x="1488" y="1248"/>
                </a:cubicBezTo>
                <a:cubicBezTo>
                  <a:pt x="1744" y="1384"/>
                  <a:pt x="2024" y="1508"/>
                  <a:pt x="2304" y="1632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82760" y="685800"/>
            <a:ext cx="5079960" cy="4508640"/>
          </a:xfrm>
          <a:custGeom>
            <a:avLst/>
            <a:gdLst/>
            <a:ahLst/>
            <a:rect l="l" t="t" r="r" b="b"/>
            <a:pathLst>
              <a:path w="3200" h="2840">
                <a:moveTo>
                  <a:pt x="464" y="0"/>
                </a:moveTo>
                <a:cubicBezTo>
                  <a:pt x="232" y="140"/>
                  <a:pt x="0" y="280"/>
                  <a:pt x="32" y="672"/>
                </a:cubicBezTo>
                <a:cubicBezTo>
                  <a:pt x="64" y="1064"/>
                  <a:pt x="272" y="1992"/>
                  <a:pt x="656" y="2352"/>
                </a:cubicBezTo>
                <a:cubicBezTo>
                  <a:pt x="1040" y="2712"/>
                  <a:pt x="1912" y="2840"/>
                  <a:pt x="2336" y="2832"/>
                </a:cubicBezTo>
                <a:cubicBezTo>
                  <a:pt x="2760" y="2824"/>
                  <a:pt x="3056" y="2392"/>
                  <a:pt x="3200" y="2304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676520"/>
            <a:ext cx="8305920" cy="2669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ff8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SEPARACION DE LAS COMPONENTES DEL HIDROGRA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 (E. SUBTERRANEA Y FLUJO INTERMEDIO L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ESCORRENTIA DIRECTA (FLUJO SUPERFICIAL E INTERMEDIO RÁPI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4876920"/>
            <a:ext cx="678168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SABE QUE PRECIPITACIÓN EFECTIVA ESTÁ RELACIONADA DIRECTAMENTE CON H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447920" y="5562720"/>
            <a:ext cx="4419360" cy="45972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Método de la línea 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609480"/>
            <a:ext cx="7086600" cy="2930760"/>
          </a:xfrm>
          <a:custGeom>
            <a:avLst/>
            <a:gdLst/>
            <a:ahLst/>
            <a:rect l="l" t="t" r="r" b="b"/>
            <a:pathLst>
              <a:path w="4464" h="1846">
                <a:moveTo>
                  <a:pt x="0" y="1846"/>
                </a:moveTo>
                <a:cubicBezTo>
                  <a:pt x="216" y="1842"/>
                  <a:pt x="432" y="1838"/>
                  <a:pt x="624" y="1750"/>
                </a:cubicBezTo>
                <a:cubicBezTo>
                  <a:pt x="816" y="1662"/>
                  <a:pt x="1000" y="1494"/>
                  <a:pt x="1152" y="1318"/>
                </a:cubicBezTo>
                <a:cubicBezTo>
                  <a:pt x="1304" y="1142"/>
                  <a:pt x="1432" y="870"/>
                  <a:pt x="1536" y="694"/>
                </a:cubicBezTo>
                <a:cubicBezTo>
                  <a:pt x="1640" y="518"/>
                  <a:pt x="1688" y="374"/>
                  <a:pt x="1776" y="262"/>
                </a:cubicBezTo>
                <a:cubicBezTo>
                  <a:pt x="1864" y="150"/>
                  <a:pt x="1968" y="40"/>
                  <a:pt x="2066" y="20"/>
                </a:cubicBezTo>
                <a:cubicBezTo>
                  <a:pt x="2164" y="0"/>
                  <a:pt x="2209" y="2"/>
                  <a:pt x="2366" y="141"/>
                </a:cubicBezTo>
                <a:cubicBezTo>
                  <a:pt x="2523" y="280"/>
                  <a:pt x="2845" y="678"/>
                  <a:pt x="3007" y="855"/>
                </a:cubicBezTo>
                <a:cubicBezTo>
                  <a:pt x="3169" y="1032"/>
                  <a:pt x="3208" y="1070"/>
                  <a:pt x="3339" y="1203"/>
                </a:cubicBezTo>
                <a:cubicBezTo>
                  <a:pt x="3470" y="1336"/>
                  <a:pt x="3605" y="1555"/>
                  <a:pt x="3792" y="1654"/>
                </a:cubicBezTo>
                <a:cubicBezTo>
                  <a:pt x="3979" y="1753"/>
                  <a:pt x="4240" y="1762"/>
                  <a:pt x="4464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2362320"/>
            <a:ext cx="38088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30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391520" y="266688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3124080"/>
            <a:ext cx="5105520" cy="1067040"/>
          </a:xfrm>
          <a:custGeom>
            <a:avLst/>
            <a:gdLst/>
            <a:ahLst/>
            <a:rect l="l" t="t" r="r" b="b"/>
            <a:pathLst>
              <a:path w="3216" h="672">
                <a:moveTo>
                  <a:pt x="0" y="192"/>
                </a:moveTo>
                <a:lnTo>
                  <a:pt x="0" y="672"/>
                </a:lnTo>
                <a:lnTo>
                  <a:pt x="3216" y="672"/>
                </a:lnTo>
                <a:lnTo>
                  <a:pt x="3216" y="0"/>
                </a:lnTo>
                <a:lnTo>
                  <a:pt x="0" y="240"/>
                </a:lnTo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752480" y="3123720"/>
            <a:ext cx="5105520" cy="3812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9548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05320" y="19051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scorrentía Direc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854360" y="3124080"/>
            <a:ext cx="5003640" cy="1067040"/>
          </a:xfrm>
          <a:custGeom>
            <a:avLst/>
            <a:gdLst/>
            <a:ahLst/>
            <a:rect l="l" t="t" r="r" b="b"/>
            <a:pathLst>
              <a:path w="3152" h="672">
                <a:moveTo>
                  <a:pt x="0" y="651"/>
                </a:moveTo>
                <a:cubicBezTo>
                  <a:pt x="0" y="592"/>
                  <a:pt x="0" y="478"/>
                  <a:pt x="0" y="408"/>
                </a:cubicBezTo>
                <a:lnTo>
                  <a:pt x="0" y="229"/>
                </a:lnTo>
                <a:lnTo>
                  <a:pt x="1616" y="384"/>
                </a:lnTo>
                <a:lnTo>
                  <a:pt x="3152" y="0"/>
                </a:lnTo>
                <a:lnTo>
                  <a:pt x="3152" y="672"/>
                </a:lnTo>
                <a:lnTo>
                  <a:pt x="0" y="651"/>
                </a:lnTo>
                <a:close/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1080" y="609480"/>
            <a:ext cx="7342200" cy="2905200"/>
          </a:xfrm>
          <a:custGeom>
            <a:avLst/>
            <a:gdLst/>
            <a:ahLst/>
            <a:rect l="l" t="t" r="r" b="b"/>
            <a:pathLst>
              <a:path w="4625" h="1830">
                <a:moveTo>
                  <a:pt x="0" y="1732"/>
                </a:moveTo>
                <a:cubicBezTo>
                  <a:pt x="88" y="1743"/>
                  <a:pt x="396" y="1794"/>
                  <a:pt x="527" y="1797"/>
                </a:cubicBezTo>
                <a:cubicBezTo>
                  <a:pt x="658" y="1800"/>
                  <a:pt x="654" y="1830"/>
                  <a:pt x="785" y="1750"/>
                </a:cubicBezTo>
                <a:cubicBezTo>
                  <a:pt x="916" y="1670"/>
                  <a:pt x="1161" y="1494"/>
                  <a:pt x="1313" y="1318"/>
                </a:cubicBezTo>
                <a:cubicBezTo>
                  <a:pt x="1465" y="1142"/>
                  <a:pt x="1593" y="870"/>
                  <a:pt x="1697" y="694"/>
                </a:cubicBezTo>
                <a:cubicBezTo>
                  <a:pt x="1801" y="518"/>
                  <a:pt x="1849" y="374"/>
                  <a:pt x="1937" y="262"/>
                </a:cubicBezTo>
                <a:cubicBezTo>
                  <a:pt x="2025" y="150"/>
                  <a:pt x="2129" y="40"/>
                  <a:pt x="2227" y="20"/>
                </a:cubicBezTo>
                <a:cubicBezTo>
                  <a:pt x="2325" y="0"/>
                  <a:pt x="2370" y="2"/>
                  <a:pt x="2527" y="141"/>
                </a:cubicBezTo>
                <a:cubicBezTo>
                  <a:pt x="2684" y="280"/>
                  <a:pt x="3006" y="678"/>
                  <a:pt x="3168" y="855"/>
                </a:cubicBezTo>
                <a:cubicBezTo>
                  <a:pt x="3330" y="1032"/>
                  <a:pt x="3369" y="1070"/>
                  <a:pt x="3500" y="1203"/>
                </a:cubicBezTo>
                <a:cubicBezTo>
                  <a:pt x="3631" y="1336"/>
                  <a:pt x="3766" y="1555"/>
                  <a:pt x="3953" y="1654"/>
                </a:cubicBezTo>
                <a:cubicBezTo>
                  <a:pt x="4140" y="1753"/>
                  <a:pt x="4401" y="1762"/>
                  <a:pt x="4625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2362320"/>
            <a:ext cx="38124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29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391520" y="266688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19720" y="457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3429000"/>
            <a:ext cx="335304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419720" y="3124080"/>
            <a:ext cx="2438280" cy="6098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57400" y="4952880"/>
            <a:ext cx="510552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Método de las dos líneas rectas o Base F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828800" y="2514600"/>
            <a:ext cx="5210280" cy="1679400"/>
          </a:xfrm>
          <a:custGeom>
            <a:avLst/>
            <a:gdLst/>
            <a:ahLst/>
            <a:rect l="l" t="t" r="r" b="b"/>
            <a:pathLst>
              <a:path w="3282" h="1058">
                <a:moveTo>
                  <a:pt x="0" y="624"/>
                </a:moveTo>
                <a:lnTo>
                  <a:pt x="0" y="1056"/>
                </a:lnTo>
                <a:lnTo>
                  <a:pt x="3282" y="1058"/>
                </a:lnTo>
                <a:lnTo>
                  <a:pt x="3282" y="450"/>
                </a:lnTo>
                <a:lnTo>
                  <a:pt x="1920" y="0"/>
                </a:lnTo>
                <a:lnTo>
                  <a:pt x="1632" y="768"/>
                </a:lnTo>
                <a:lnTo>
                  <a:pt x="0" y="624"/>
                </a:lnTo>
                <a:close/>
              </a:path>
            </a:pathLst>
          </a:custGeom>
          <a:solidFill>
            <a:srgbClr val="c0ff81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362320"/>
            <a:ext cx="38088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30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43800" y="281952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95480" y="36576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Fluj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11080" y="609480"/>
            <a:ext cx="7342200" cy="2905200"/>
          </a:xfrm>
          <a:custGeom>
            <a:avLst/>
            <a:gdLst/>
            <a:ahLst/>
            <a:rect l="l" t="t" r="r" b="b"/>
            <a:pathLst>
              <a:path w="4625" h="1830">
                <a:moveTo>
                  <a:pt x="0" y="1732"/>
                </a:moveTo>
                <a:cubicBezTo>
                  <a:pt x="88" y="1743"/>
                  <a:pt x="396" y="1794"/>
                  <a:pt x="527" y="1797"/>
                </a:cubicBezTo>
                <a:cubicBezTo>
                  <a:pt x="658" y="1800"/>
                  <a:pt x="654" y="1830"/>
                  <a:pt x="785" y="1750"/>
                </a:cubicBezTo>
                <a:cubicBezTo>
                  <a:pt x="916" y="1670"/>
                  <a:pt x="1161" y="1494"/>
                  <a:pt x="1313" y="1318"/>
                </a:cubicBezTo>
                <a:cubicBezTo>
                  <a:pt x="1465" y="1142"/>
                  <a:pt x="1593" y="870"/>
                  <a:pt x="1697" y="694"/>
                </a:cubicBezTo>
                <a:cubicBezTo>
                  <a:pt x="1801" y="518"/>
                  <a:pt x="1849" y="374"/>
                  <a:pt x="1937" y="262"/>
                </a:cubicBezTo>
                <a:cubicBezTo>
                  <a:pt x="2025" y="150"/>
                  <a:pt x="2129" y="40"/>
                  <a:pt x="2227" y="20"/>
                </a:cubicBezTo>
                <a:cubicBezTo>
                  <a:pt x="2325" y="0"/>
                  <a:pt x="2370" y="2"/>
                  <a:pt x="2527" y="141"/>
                </a:cubicBezTo>
                <a:cubicBezTo>
                  <a:pt x="2684" y="280"/>
                  <a:pt x="3006" y="678"/>
                  <a:pt x="3168" y="855"/>
                </a:cubicBezTo>
                <a:cubicBezTo>
                  <a:pt x="3330" y="1032"/>
                  <a:pt x="3369" y="1070"/>
                  <a:pt x="3500" y="1203"/>
                </a:cubicBezTo>
                <a:cubicBezTo>
                  <a:pt x="3631" y="1336"/>
                  <a:pt x="3766" y="1555"/>
                  <a:pt x="3953" y="1654"/>
                </a:cubicBezTo>
                <a:cubicBezTo>
                  <a:pt x="4140" y="1753"/>
                  <a:pt x="4401" y="1762"/>
                  <a:pt x="4625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45720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3429000"/>
            <a:ext cx="3353040" cy="304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4266720" y="2285640"/>
            <a:ext cx="3124440" cy="10666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76920" y="533520"/>
            <a:ext cx="0" cy="21333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419720" y="2514600"/>
            <a:ext cx="457200" cy="1219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410080" y="914400"/>
            <a:ext cx="419400" cy="459720"/>
          </a:xfrm>
          <a:prstGeom prst="borderCallout1">
            <a:avLst>
              <a:gd name="adj1" fmla="val -24045"/>
              <a:gd name="adj2" fmla="val -1385"/>
              <a:gd name="adj3" fmla="val 15709"/>
              <a:gd name="adj4" fmla="val -1395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209680" y="4952880"/>
            <a:ext cx="525780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ahoma"/>
              </a:rPr>
              <a:t>Método de la línea curva o pendient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09480" y="304920"/>
            <a:ext cx="8001000" cy="94716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Tahoma"/>
              </a:rPr>
              <a:t>Determinación de punto D de inicio de la curva de agotami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47920" y="502920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3800" y="365760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11080" y="1447920"/>
            <a:ext cx="7342200" cy="2904840"/>
          </a:xfrm>
          <a:custGeom>
            <a:avLst/>
            <a:gdLst/>
            <a:ahLst/>
            <a:rect l="l" t="t" r="r" b="b"/>
            <a:pathLst>
              <a:path w="4625" h="1830">
                <a:moveTo>
                  <a:pt x="0" y="1732"/>
                </a:moveTo>
                <a:cubicBezTo>
                  <a:pt x="88" y="1743"/>
                  <a:pt x="396" y="1794"/>
                  <a:pt x="527" y="1797"/>
                </a:cubicBezTo>
                <a:cubicBezTo>
                  <a:pt x="658" y="1800"/>
                  <a:pt x="654" y="1830"/>
                  <a:pt x="785" y="1750"/>
                </a:cubicBezTo>
                <a:cubicBezTo>
                  <a:pt x="916" y="1670"/>
                  <a:pt x="1161" y="1494"/>
                  <a:pt x="1313" y="1318"/>
                </a:cubicBezTo>
                <a:cubicBezTo>
                  <a:pt x="1465" y="1142"/>
                  <a:pt x="1593" y="870"/>
                  <a:pt x="1697" y="694"/>
                </a:cubicBezTo>
                <a:cubicBezTo>
                  <a:pt x="1801" y="518"/>
                  <a:pt x="1849" y="374"/>
                  <a:pt x="1937" y="262"/>
                </a:cubicBezTo>
                <a:cubicBezTo>
                  <a:pt x="2025" y="150"/>
                  <a:pt x="2129" y="40"/>
                  <a:pt x="2227" y="20"/>
                </a:cubicBezTo>
                <a:cubicBezTo>
                  <a:pt x="2325" y="0"/>
                  <a:pt x="2370" y="2"/>
                  <a:pt x="2527" y="141"/>
                </a:cubicBezTo>
                <a:cubicBezTo>
                  <a:pt x="2684" y="280"/>
                  <a:pt x="3006" y="678"/>
                  <a:pt x="3168" y="855"/>
                </a:cubicBezTo>
                <a:cubicBezTo>
                  <a:pt x="3330" y="1032"/>
                  <a:pt x="3369" y="1070"/>
                  <a:pt x="3500" y="1203"/>
                </a:cubicBezTo>
                <a:cubicBezTo>
                  <a:pt x="3631" y="1336"/>
                  <a:pt x="3766" y="1555"/>
                  <a:pt x="3953" y="1654"/>
                </a:cubicBezTo>
                <a:cubicBezTo>
                  <a:pt x="4140" y="1753"/>
                  <a:pt x="4401" y="1762"/>
                  <a:pt x="4625" y="1798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1295280"/>
            <a:ext cx="0" cy="32004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4120" y="3886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19720" y="4343400"/>
            <a:ext cx="26668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3276720" y="5356080"/>
                <a:ext cx="198108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0,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6" name=""/>
          <p:cNvSpPr/>
          <p:nvPr/>
        </p:nvSpPr>
        <p:spPr>
          <a:xfrm>
            <a:off x="4876920" y="6019920"/>
            <a:ext cx="152388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00800" y="6172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609480" y="533520"/>
            <a:ext cx="2895840" cy="45972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Método Grá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86200" y="1600200"/>
            <a:ext cx="28954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Q(t) = 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Verdana"/>
              </a:rPr>
              <a:t>o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 e</a:t>
            </a:r>
            <a:r>
              <a:rPr b="1" lang="en-US" sz="2400" spc="-1" strike="noStrike" baseline="30000">
                <a:solidFill>
                  <a:srgbClr val="008000"/>
                </a:solidFill>
                <a:latin typeface="Verdana"/>
              </a:rPr>
              <a:t>-K’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2173320" y="3584520"/>
                <a:ext cx="2720880" cy="138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  <m:r>
                          <m:t xml:space="preserve">'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066680" y="814320"/>
            <a:ext cx="678204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Mappastor%20fern" descr=""/>
          <p:cNvPicPr/>
          <p:nvPr/>
        </p:nvPicPr>
        <p:blipFill>
          <a:blip r:embed="rId2"/>
          <a:stretch/>
        </p:blipFill>
        <p:spPr>
          <a:xfrm>
            <a:off x="2743200" y="3675240"/>
            <a:ext cx="4792680" cy="31827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914400" y="0"/>
            <a:ext cx="7772400" cy="5360760"/>
          </a:xfrm>
          <a:prstGeom prst="rect">
            <a:avLst/>
          </a:prstGeom>
          <a:solidFill>
            <a:srgbClr val="66ff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Estimar caudales máximos asociados a cierta  probabilidad para diseñ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bras de evacuación y control (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3" action="ppaction://hlinksldjump"/>
              </a:rPr>
              <a:t>vertederos</a:t>
            </a:r>
            <a:r>
              <a:rPr b="0" lang="en-US" sz="2400" spc="-1" strike="noStrike" u="sng">
                <a:solidFill>
                  <a:srgbClr val="003300"/>
                </a:solidFill>
                <a:uFillTx/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bras de drenaje (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4" action="ppaction://hlinksldjump"/>
              </a:rPr>
              <a:t>puentes</a:t>
            </a:r>
            <a:r>
              <a:rPr b="0" lang="en-US" sz="2400" spc="-1" strike="noStrike" u="sng">
                <a:solidFill>
                  <a:srgbClr val="003300"/>
                </a:solidFill>
                <a:uFillTx/>
                <a:latin typeface="Tahoma"/>
              </a:rPr>
              <a:t> y alcantarillas de caminos, redes de aguas lluvia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bras de protección contra inundaciones (defensas ribereñas, encauzami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Pronóstico de crecidas a corto plazo pa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operación de compuertas en verted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tomar medidas de protección y salvataje de centros urba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6270800">
            <a:off x="-663120" y="2267280"/>
            <a:ext cx="1910520" cy="58140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Obje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457200" y="360360"/>
            <a:ext cx="8229600" cy="61372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5029200" y="2590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8148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2819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438280" y="32004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438280" y="3276720"/>
            <a:ext cx="2743200" cy="4572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33520" y="414360"/>
            <a:ext cx="769608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457200" y="360360"/>
            <a:ext cx="7162920" cy="53420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1981080" y="594360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No existe flujo intermedio rápi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" action="ppaction://hlinkshowjump?jump=lastslide"/>
          </p:cNvPr>
          <p:cNvSpPr/>
          <p:nvPr/>
        </p:nvSpPr>
        <p:spPr>
          <a:xfrm>
            <a:off x="807732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124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Corte_Vertedero" descr=""/>
          <p:cNvPicPr/>
          <p:nvPr/>
        </p:nvPicPr>
        <p:blipFill>
          <a:blip r:embed="rId2"/>
          <a:stretch/>
        </p:blipFill>
        <p:spPr>
          <a:xfrm>
            <a:off x="609480" y="304920"/>
            <a:ext cx="5978520" cy="4068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-163440" y="226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vertedero" descr="Vertedero"/>
          <p:cNvPicPr/>
          <p:nvPr/>
        </p:nvPicPr>
        <p:blipFill>
          <a:blip r:embed="rId3"/>
          <a:stretch/>
        </p:blipFill>
        <p:spPr>
          <a:xfrm>
            <a:off x="4952880" y="4122720"/>
            <a:ext cx="3886200" cy="2525760"/>
          </a:xfrm>
          <a:prstGeom prst="rect">
            <a:avLst/>
          </a:prstGeom>
          <a:ln w="0">
            <a:noFill/>
          </a:ln>
        </p:spPr>
      </p:pic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1523880" y="6019920"/>
            <a:ext cx="381240" cy="30456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7032" h="21600">
                <a:moveTo>
                  <a:pt x="0" y="0"/>
                </a:moveTo>
                <a:lnTo>
                  <a:pt x="27032" y="0"/>
                </a:lnTo>
                <a:lnTo>
                  <a:pt x="27032" y="21600"/>
                </a:lnTo>
                <a:lnTo>
                  <a:pt x="0" y="21600"/>
                </a:lnTo>
                <a:close/>
              </a:path>
              <a:path fill="lightenLess" w="27032" h="21600">
                <a:moveTo>
                  <a:pt x="0" y="0"/>
                </a:moveTo>
                <a:lnTo>
                  <a:pt x="27032" y="0"/>
                </a:lnTo>
                <a:lnTo>
                  <a:pt x="25632" y="1400"/>
                </a:lnTo>
                <a:lnTo>
                  <a:pt x="1400" y="1400"/>
                </a:lnTo>
                <a:close/>
              </a:path>
              <a:path fill="darken" w="27032" h="21600">
                <a:moveTo>
                  <a:pt x="27032" y="0"/>
                </a:moveTo>
                <a:lnTo>
                  <a:pt x="27032" y="21600"/>
                </a:lnTo>
                <a:lnTo>
                  <a:pt x="25632" y="20200"/>
                </a:lnTo>
                <a:lnTo>
                  <a:pt x="25632" y="1400"/>
                </a:lnTo>
                <a:close/>
              </a:path>
              <a:path fill="darkenLess" w="27032" h="21600">
                <a:moveTo>
                  <a:pt x="270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32" y="20200"/>
                </a:lnTo>
                <a:close/>
              </a:path>
              <a:path fill="lighten" w="270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32" h="21600">
                <a:moveTo>
                  <a:pt x="6509" y="7493"/>
                </a:moveTo>
                <a:lnTo>
                  <a:pt x="10017" y="7493"/>
                </a:lnTo>
                <a:lnTo>
                  <a:pt x="10017" y="12828"/>
                </a:lnTo>
                <a:cubicBezTo>
                  <a:pt x="10017" y="13751"/>
                  <a:pt x="10818" y="14482"/>
                  <a:pt x="11854" y="14482"/>
                </a:cubicBezTo>
                <a:lnTo>
                  <a:pt x="13516" y="14482"/>
                </a:lnTo>
                <a:cubicBezTo>
                  <a:pt x="14552" y="14482"/>
                  <a:pt x="15352" y="13751"/>
                  <a:pt x="15352" y="12828"/>
                </a:cubicBezTo>
                <a:lnTo>
                  <a:pt x="15352" y="7493"/>
                </a:lnTo>
                <a:lnTo>
                  <a:pt x="13516" y="7493"/>
                </a:lnTo>
                <a:lnTo>
                  <a:pt x="17024" y="3985"/>
                </a:lnTo>
                <a:lnTo>
                  <a:pt x="20696" y="7493"/>
                </a:lnTo>
                <a:lnTo>
                  <a:pt x="18860" y="7493"/>
                </a:lnTo>
                <a:lnTo>
                  <a:pt x="18860" y="12828"/>
                </a:lnTo>
                <a:cubicBezTo>
                  <a:pt x="18860" y="15596"/>
                  <a:pt x="16284" y="18155"/>
                  <a:pt x="13516" y="18155"/>
                </a:cubicBezTo>
                <a:lnTo>
                  <a:pt x="11854" y="18155"/>
                </a:lnTo>
                <a:cubicBezTo>
                  <a:pt x="9086" y="18155"/>
                  <a:pt x="6509" y="15596"/>
                  <a:pt x="6509" y="1282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opDique_Mal_Paso2" descr=""/>
          <p:cNvPicPr/>
          <p:nvPr/>
        </p:nvPicPr>
        <p:blipFill>
          <a:blip r:embed="rId4"/>
          <a:stretch/>
        </p:blipFill>
        <p:spPr>
          <a:xfrm>
            <a:off x="2590920" y="2160720"/>
            <a:ext cx="6256080" cy="4006800"/>
          </a:xfrm>
          <a:prstGeom prst="rect">
            <a:avLst/>
          </a:prstGeom>
          <a:ln w="0">
            <a:noFill/>
          </a:ln>
        </p:spPr>
      </p:pic>
      <p:pic>
        <p:nvPicPr>
          <p:cNvPr id="228" name="paloma1" descr=""/>
          <p:cNvPicPr/>
          <p:nvPr/>
        </p:nvPicPr>
        <p:blipFill>
          <a:blip r:embed="rId5"/>
          <a:stretch/>
        </p:blipFill>
        <p:spPr>
          <a:xfrm>
            <a:off x="380880" y="1295280"/>
            <a:ext cx="457200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uente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6286320" cy="3303360"/>
          </a:xfrm>
          <a:prstGeom prst="rect">
            <a:avLst/>
          </a:prstGeom>
          <a:ln w="0">
            <a:noFill/>
          </a:ln>
        </p:spPr>
      </p:pic>
      <p:sp>
        <p:nvSpPr>
          <p:cNvPr id="230" name="">
            <a:hlinkClick r:id="" action="ppaction://hlinkshowjump?jump=previousslide"/>
          </p:cNvPr>
          <p:cNvSpPr/>
          <p:nvPr/>
        </p:nvSpPr>
        <p:spPr>
          <a:xfrm>
            <a:off x="685800" y="609588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  <a:path fill="darken" w="21600" h="21620">
                <a:moveTo>
                  <a:pt x="3794" y="7503"/>
                </a:moveTo>
                <a:lnTo>
                  <a:pt x="7301" y="7503"/>
                </a:lnTo>
                <a:lnTo>
                  <a:pt x="7301" y="12838"/>
                </a:lnTo>
                <a:cubicBezTo>
                  <a:pt x="7301" y="13761"/>
                  <a:pt x="8102" y="14492"/>
                  <a:pt x="9138" y="14492"/>
                </a:cubicBezTo>
                <a:lnTo>
                  <a:pt x="10800" y="14492"/>
                </a:lnTo>
                <a:cubicBezTo>
                  <a:pt x="11836" y="14492"/>
                  <a:pt x="12636" y="13761"/>
                  <a:pt x="12636" y="12838"/>
                </a:cubicBezTo>
                <a:lnTo>
                  <a:pt x="12636" y="7503"/>
                </a:lnTo>
                <a:lnTo>
                  <a:pt x="10800" y="7503"/>
                </a:lnTo>
                <a:lnTo>
                  <a:pt x="14308" y="3995"/>
                </a:lnTo>
                <a:lnTo>
                  <a:pt x="17981" y="7503"/>
                </a:lnTo>
                <a:lnTo>
                  <a:pt x="16144" y="7503"/>
                </a:lnTo>
                <a:lnTo>
                  <a:pt x="16144" y="12838"/>
                </a:lnTo>
                <a:cubicBezTo>
                  <a:pt x="16144" y="15606"/>
                  <a:pt x="13568" y="18165"/>
                  <a:pt x="10800" y="18165"/>
                </a:cubicBezTo>
                <a:lnTo>
                  <a:pt x="9138" y="18165"/>
                </a:lnTo>
                <a:cubicBezTo>
                  <a:pt x="6370" y="18165"/>
                  <a:pt x="3794" y="15606"/>
                  <a:pt x="3794" y="12838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435640" y="4502160"/>
            <a:ext cx="2881440" cy="1989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1600200" y="1314360"/>
            <a:ext cx="5937120" cy="5543640"/>
          </a:xfrm>
          <a:prstGeom prst="rect">
            <a:avLst/>
          </a:prstGeom>
          <a:ln w="0">
            <a:noFill/>
          </a:ln>
        </p:spPr>
      </p:pic>
      <p:pic>
        <p:nvPicPr>
          <p:cNvPr id="233" name="29marvin2" descr="image"/>
          <p:cNvPicPr/>
          <p:nvPr/>
        </p:nvPicPr>
        <p:blipFill>
          <a:blip r:embed="rId5"/>
          <a:stretch/>
        </p:blipFill>
        <p:spPr>
          <a:xfrm>
            <a:off x="6781680" y="380880"/>
            <a:ext cx="2057400" cy="30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N-culvert-on-Rd-30" descr=""/>
          <p:cNvPicPr/>
          <p:nvPr/>
        </p:nvPicPr>
        <p:blipFill>
          <a:blip r:embed="rId2"/>
          <a:stretch/>
        </p:blipFill>
        <p:spPr>
          <a:xfrm>
            <a:off x="0" y="1978200"/>
            <a:ext cx="7315200" cy="4879800"/>
          </a:xfrm>
          <a:prstGeom prst="rect">
            <a:avLst/>
          </a:prstGeom>
          <a:ln w="0">
            <a:noFill/>
          </a:ln>
        </p:spPr>
      </p:pic>
      <p:pic>
        <p:nvPicPr>
          <p:cNvPr id="235" name="culvert" descr=""/>
          <p:cNvPicPr/>
          <p:nvPr/>
        </p:nvPicPr>
        <p:blipFill>
          <a:blip r:embed="rId3"/>
          <a:stretch/>
        </p:blipFill>
        <p:spPr>
          <a:xfrm>
            <a:off x="5257800" y="457200"/>
            <a:ext cx="33037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143000" y="914400"/>
            <a:ext cx="7467480" cy="3301920"/>
          </a:xfrm>
          <a:custGeom>
            <a:avLst/>
            <a:gdLst/>
            <a:ahLst/>
            <a:rect l="l" t="t" r="r" b="b"/>
            <a:pathLst>
              <a:path w="4704" h="2080">
                <a:moveTo>
                  <a:pt x="0" y="1928"/>
                </a:moveTo>
                <a:cubicBezTo>
                  <a:pt x="40" y="1952"/>
                  <a:pt x="80" y="1976"/>
                  <a:pt x="144" y="1976"/>
                </a:cubicBezTo>
                <a:cubicBezTo>
                  <a:pt x="208" y="1976"/>
                  <a:pt x="304" y="1992"/>
                  <a:pt x="384" y="1928"/>
                </a:cubicBezTo>
                <a:cubicBezTo>
                  <a:pt x="464" y="1864"/>
                  <a:pt x="520" y="1808"/>
                  <a:pt x="624" y="1592"/>
                </a:cubicBezTo>
                <a:cubicBezTo>
                  <a:pt x="728" y="1376"/>
                  <a:pt x="904" y="880"/>
                  <a:pt x="1008" y="632"/>
                </a:cubicBezTo>
                <a:cubicBezTo>
                  <a:pt x="1112" y="384"/>
                  <a:pt x="1168" y="208"/>
                  <a:pt x="1248" y="104"/>
                </a:cubicBezTo>
                <a:cubicBezTo>
                  <a:pt x="1328" y="0"/>
                  <a:pt x="1408" y="8"/>
                  <a:pt x="1488" y="8"/>
                </a:cubicBezTo>
                <a:cubicBezTo>
                  <a:pt x="1568" y="8"/>
                  <a:pt x="1632" y="16"/>
                  <a:pt x="1728" y="104"/>
                </a:cubicBezTo>
                <a:cubicBezTo>
                  <a:pt x="1824" y="192"/>
                  <a:pt x="1968" y="448"/>
                  <a:pt x="2064" y="536"/>
                </a:cubicBezTo>
                <a:cubicBezTo>
                  <a:pt x="2160" y="624"/>
                  <a:pt x="2240" y="632"/>
                  <a:pt x="2304" y="632"/>
                </a:cubicBezTo>
                <a:cubicBezTo>
                  <a:pt x="2368" y="632"/>
                  <a:pt x="2384" y="560"/>
                  <a:pt x="2448" y="536"/>
                </a:cubicBezTo>
                <a:cubicBezTo>
                  <a:pt x="2512" y="512"/>
                  <a:pt x="2616" y="488"/>
                  <a:pt x="2688" y="488"/>
                </a:cubicBezTo>
                <a:cubicBezTo>
                  <a:pt x="2760" y="488"/>
                  <a:pt x="2824" y="504"/>
                  <a:pt x="2880" y="536"/>
                </a:cubicBezTo>
                <a:cubicBezTo>
                  <a:pt x="2936" y="568"/>
                  <a:pt x="2976" y="632"/>
                  <a:pt x="3024" y="680"/>
                </a:cubicBezTo>
                <a:cubicBezTo>
                  <a:pt x="3072" y="728"/>
                  <a:pt x="3120" y="768"/>
                  <a:pt x="3168" y="824"/>
                </a:cubicBezTo>
                <a:cubicBezTo>
                  <a:pt x="3216" y="880"/>
                  <a:pt x="3232" y="928"/>
                  <a:pt x="3312" y="1016"/>
                </a:cubicBezTo>
                <a:cubicBezTo>
                  <a:pt x="3392" y="1104"/>
                  <a:pt x="3572" y="1274"/>
                  <a:pt x="3648" y="1352"/>
                </a:cubicBezTo>
                <a:cubicBezTo>
                  <a:pt x="3724" y="1430"/>
                  <a:pt x="3699" y="1408"/>
                  <a:pt x="3768" y="1484"/>
                </a:cubicBezTo>
                <a:cubicBezTo>
                  <a:pt x="3837" y="1560"/>
                  <a:pt x="3972" y="1724"/>
                  <a:pt x="4060" y="1808"/>
                </a:cubicBezTo>
                <a:cubicBezTo>
                  <a:pt x="4148" y="1892"/>
                  <a:pt x="4252" y="1956"/>
                  <a:pt x="4295" y="1987"/>
                </a:cubicBezTo>
                <a:cubicBezTo>
                  <a:pt x="4338" y="2018"/>
                  <a:pt x="4301" y="1988"/>
                  <a:pt x="4320" y="1995"/>
                </a:cubicBezTo>
                <a:cubicBezTo>
                  <a:pt x="4339" y="2002"/>
                  <a:pt x="4369" y="2016"/>
                  <a:pt x="4409" y="2027"/>
                </a:cubicBezTo>
                <a:cubicBezTo>
                  <a:pt x="4449" y="2038"/>
                  <a:pt x="4522" y="2053"/>
                  <a:pt x="4563" y="2060"/>
                </a:cubicBezTo>
                <a:cubicBezTo>
                  <a:pt x="4604" y="2067"/>
                  <a:pt x="4633" y="2070"/>
                  <a:pt x="4656" y="2072"/>
                </a:cubicBezTo>
                <a:cubicBezTo>
                  <a:pt x="4679" y="2074"/>
                  <a:pt x="4700" y="2080"/>
                  <a:pt x="4704" y="2072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5194440"/>
            <a:ext cx="8001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95280" y="2666880"/>
            <a:ext cx="5334120" cy="4597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Nivel Freático bajo y decre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sotw9_temp0" descr=""/>
          <p:cNvPicPr/>
          <p:nvPr/>
        </p:nvPicPr>
        <p:blipFill>
          <a:blip r:embed="rId2"/>
          <a:stretch/>
        </p:blipFill>
        <p:spPr>
          <a:xfrm>
            <a:off x="1219320" y="2514600"/>
            <a:ext cx="5790960" cy="1366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81080" y="4114800"/>
            <a:ext cx="579132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Inicio Pp en Cauces, Intercepción, Infiltración y almacenamiento en depresiones. Solo escorrentía en superficies imperme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SAT3A2" descr=""/>
          <p:cNvPicPr/>
          <p:nvPr/>
        </p:nvPicPr>
        <p:blipFill>
          <a:blip r:embed="rId3"/>
          <a:stretch/>
        </p:blipFill>
        <p:spPr>
          <a:xfrm>
            <a:off x="1828800" y="762120"/>
            <a:ext cx="5676840" cy="1979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00200" y="533520"/>
            <a:ext cx="5029200" cy="4597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Tahoma"/>
              </a:rPr>
              <a:t>Ciclo de escorrent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msotw9_temp0" descr=""/>
          <p:cNvPicPr/>
          <p:nvPr/>
        </p:nvPicPr>
        <p:blipFill>
          <a:blip r:embed="rId4"/>
          <a:stretch/>
        </p:blipFill>
        <p:spPr>
          <a:xfrm>
            <a:off x="1447920" y="3865680"/>
            <a:ext cx="7086600" cy="2193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00200" y="62485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Zona de aireación satu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msotw9_temp0" descr=""/>
          <p:cNvPicPr/>
          <p:nvPr/>
        </p:nvPicPr>
        <p:blipFill>
          <a:blip r:embed="rId2"/>
          <a:stretch/>
        </p:blipFill>
        <p:spPr>
          <a:xfrm>
            <a:off x="838080" y="685800"/>
            <a:ext cx="6363000" cy="3571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62120" y="4495680"/>
            <a:ext cx="74674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Se agotan posibilidades de almacenamiento. Contribuye escorrentía subsuperfi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772400" y="838080"/>
            <a:ext cx="809640" cy="4800600"/>
          </a:xfrm>
          <a:custGeom>
            <a:avLst/>
            <a:gdLst>
              <a:gd name="textAreaLeft" fmla="*/ 108360 w 809640"/>
              <a:gd name="textAreaRight" fmla="*/ 701280 w 809640"/>
              <a:gd name="textAreaTop" fmla="*/ 839880 h 4800600"/>
              <a:gd name="textAreaBottom" fmla="*/ 348048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95280" y="5638680"/>
            <a:ext cx="57913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Pp cesa. Agua de zona de aireación pasa a cauces o acuíf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0864200">
            <a:off x="379440" y="3049560"/>
            <a:ext cx="914400" cy="3276720"/>
          </a:xfrm>
          <a:custGeom>
            <a:avLst/>
            <a:gdLst>
              <a:gd name="textAreaLeft" fmla="*/ 122400 w 914400"/>
              <a:gd name="textAreaRight" fmla="*/ 792000 w 914400"/>
              <a:gd name="textAreaTop" fmla="*/ 573480 h 3276720"/>
              <a:gd name="textAreaBottom" fmla="*/ 2375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28600" y="533520"/>
            <a:ext cx="8534520" cy="3581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8080" y="1519200"/>
            <a:ext cx="6422760" cy="1917720"/>
          </a:xfrm>
          <a:custGeom>
            <a:avLst/>
            <a:gdLst/>
            <a:ahLst/>
            <a:rect l="l" t="t" r="r" b="b"/>
            <a:pathLst>
              <a:path w="4046" h="1208">
                <a:moveTo>
                  <a:pt x="0" y="0"/>
                </a:moveTo>
                <a:cubicBezTo>
                  <a:pt x="77" y="11"/>
                  <a:pt x="151" y="33"/>
                  <a:pt x="227" y="48"/>
                </a:cubicBezTo>
                <a:cubicBezTo>
                  <a:pt x="261" y="72"/>
                  <a:pt x="280" y="108"/>
                  <a:pt x="308" y="138"/>
                </a:cubicBezTo>
                <a:cubicBezTo>
                  <a:pt x="316" y="171"/>
                  <a:pt x="311" y="224"/>
                  <a:pt x="332" y="251"/>
                </a:cubicBezTo>
                <a:cubicBezTo>
                  <a:pt x="354" y="278"/>
                  <a:pt x="404" y="271"/>
                  <a:pt x="429" y="275"/>
                </a:cubicBezTo>
                <a:cubicBezTo>
                  <a:pt x="467" y="280"/>
                  <a:pt x="505" y="293"/>
                  <a:pt x="543" y="300"/>
                </a:cubicBezTo>
                <a:cubicBezTo>
                  <a:pt x="551" y="305"/>
                  <a:pt x="559" y="311"/>
                  <a:pt x="567" y="316"/>
                </a:cubicBezTo>
                <a:cubicBezTo>
                  <a:pt x="578" y="322"/>
                  <a:pt x="590" y="325"/>
                  <a:pt x="600" y="332"/>
                </a:cubicBezTo>
                <a:cubicBezTo>
                  <a:pt x="662" y="371"/>
                  <a:pt x="691" y="404"/>
                  <a:pt x="762" y="421"/>
                </a:cubicBezTo>
                <a:cubicBezTo>
                  <a:pt x="786" y="446"/>
                  <a:pt x="810" y="472"/>
                  <a:pt x="827" y="502"/>
                </a:cubicBezTo>
                <a:cubicBezTo>
                  <a:pt x="844" y="532"/>
                  <a:pt x="841" y="542"/>
                  <a:pt x="867" y="567"/>
                </a:cubicBezTo>
                <a:cubicBezTo>
                  <a:pt x="889" y="589"/>
                  <a:pt x="921" y="589"/>
                  <a:pt x="948" y="600"/>
                </a:cubicBezTo>
                <a:cubicBezTo>
                  <a:pt x="985" y="616"/>
                  <a:pt x="991" y="623"/>
                  <a:pt x="1029" y="648"/>
                </a:cubicBezTo>
                <a:cubicBezTo>
                  <a:pt x="1056" y="666"/>
                  <a:pt x="1086" y="737"/>
                  <a:pt x="1102" y="762"/>
                </a:cubicBezTo>
                <a:cubicBezTo>
                  <a:pt x="1143" y="825"/>
                  <a:pt x="1194" y="867"/>
                  <a:pt x="1257" y="908"/>
                </a:cubicBezTo>
                <a:cubicBezTo>
                  <a:pt x="1303" y="976"/>
                  <a:pt x="1378" y="1008"/>
                  <a:pt x="1451" y="1037"/>
                </a:cubicBezTo>
                <a:cubicBezTo>
                  <a:pt x="1540" y="1073"/>
                  <a:pt x="1633" y="1095"/>
                  <a:pt x="1727" y="1119"/>
                </a:cubicBezTo>
                <a:cubicBezTo>
                  <a:pt x="1768" y="1130"/>
                  <a:pt x="1806" y="1149"/>
                  <a:pt x="1848" y="1159"/>
                </a:cubicBezTo>
                <a:cubicBezTo>
                  <a:pt x="1891" y="1186"/>
                  <a:pt x="1990" y="1201"/>
                  <a:pt x="2043" y="1208"/>
                </a:cubicBezTo>
                <a:cubicBezTo>
                  <a:pt x="2067" y="1205"/>
                  <a:pt x="2092" y="1206"/>
                  <a:pt x="2116" y="1200"/>
                </a:cubicBezTo>
                <a:cubicBezTo>
                  <a:pt x="2125" y="1198"/>
                  <a:pt x="2131" y="1188"/>
                  <a:pt x="2140" y="1183"/>
                </a:cubicBezTo>
                <a:cubicBezTo>
                  <a:pt x="2161" y="1171"/>
                  <a:pt x="2183" y="1162"/>
                  <a:pt x="2205" y="1151"/>
                </a:cubicBezTo>
                <a:cubicBezTo>
                  <a:pt x="2301" y="1104"/>
                  <a:pt x="2391" y="1050"/>
                  <a:pt x="2497" y="1029"/>
                </a:cubicBezTo>
                <a:cubicBezTo>
                  <a:pt x="2570" y="982"/>
                  <a:pt x="2674" y="985"/>
                  <a:pt x="2757" y="965"/>
                </a:cubicBezTo>
                <a:cubicBezTo>
                  <a:pt x="2801" y="918"/>
                  <a:pt x="2824" y="855"/>
                  <a:pt x="2878" y="819"/>
                </a:cubicBezTo>
                <a:cubicBezTo>
                  <a:pt x="2900" y="777"/>
                  <a:pt x="2933" y="746"/>
                  <a:pt x="2959" y="705"/>
                </a:cubicBezTo>
                <a:cubicBezTo>
                  <a:pt x="2979" y="674"/>
                  <a:pt x="2978" y="626"/>
                  <a:pt x="2992" y="592"/>
                </a:cubicBezTo>
                <a:cubicBezTo>
                  <a:pt x="3004" y="563"/>
                  <a:pt x="3032" y="545"/>
                  <a:pt x="3049" y="519"/>
                </a:cubicBezTo>
                <a:cubicBezTo>
                  <a:pt x="3092" y="455"/>
                  <a:pt x="3135" y="381"/>
                  <a:pt x="3195" y="332"/>
                </a:cubicBezTo>
                <a:cubicBezTo>
                  <a:pt x="3233" y="301"/>
                  <a:pt x="3205" y="331"/>
                  <a:pt x="3251" y="300"/>
                </a:cubicBezTo>
                <a:cubicBezTo>
                  <a:pt x="3287" y="276"/>
                  <a:pt x="3356" y="220"/>
                  <a:pt x="3405" y="219"/>
                </a:cubicBezTo>
                <a:cubicBezTo>
                  <a:pt x="3619" y="216"/>
                  <a:pt x="3832" y="219"/>
                  <a:pt x="4046" y="219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895480"/>
            <a:ext cx="259056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2502000"/>
            <a:ext cx="3200400" cy="393480"/>
          </a:xfrm>
          <a:custGeom>
            <a:avLst/>
            <a:gdLst/>
            <a:ahLst/>
            <a:rect l="l" t="t" r="r" b="b"/>
            <a:pathLst>
              <a:path w="2016" h="248">
                <a:moveTo>
                  <a:pt x="2016" y="248"/>
                </a:moveTo>
                <a:cubicBezTo>
                  <a:pt x="1868" y="216"/>
                  <a:pt x="1720" y="184"/>
                  <a:pt x="1488" y="152"/>
                </a:cubicBezTo>
                <a:cubicBezTo>
                  <a:pt x="1256" y="120"/>
                  <a:pt x="848" y="80"/>
                  <a:pt x="624" y="56"/>
                </a:cubicBezTo>
                <a:cubicBezTo>
                  <a:pt x="400" y="32"/>
                  <a:pt x="248" y="16"/>
                  <a:pt x="144" y="8"/>
                </a:cubicBezTo>
                <a:cubicBezTo>
                  <a:pt x="40" y="0"/>
                  <a:pt x="20" y="4"/>
                  <a:pt x="0" y="8"/>
                </a:cubicBezTo>
              </a:path>
            </a:pathLst>
          </a:custGeom>
          <a:noFill/>
          <a:ln w="1260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2577960"/>
            <a:ext cx="2590920" cy="317520"/>
          </a:xfrm>
          <a:custGeom>
            <a:avLst/>
            <a:gdLst/>
            <a:ahLst/>
            <a:rect l="l" t="t" r="r" b="b"/>
            <a:pathLst>
              <a:path w="1632" h="200">
                <a:moveTo>
                  <a:pt x="0" y="200"/>
                </a:moveTo>
                <a:cubicBezTo>
                  <a:pt x="128" y="164"/>
                  <a:pt x="256" y="128"/>
                  <a:pt x="384" y="104"/>
                </a:cubicBezTo>
                <a:cubicBezTo>
                  <a:pt x="512" y="80"/>
                  <a:pt x="632" y="72"/>
                  <a:pt x="768" y="56"/>
                </a:cubicBezTo>
                <a:cubicBezTo>
                  <a:pt x="904" y="40"/>
                  <a:pt x="1056" y="16"/>
                  <a:pt x="1200" y="8"/>
                </a:cubicBezTo>
                <a:cubicBezTo>
                  <a:pt x="1344" y="0"/>
                  <a:pt x="1488" y="4"/>
                  <a:pt x="1632" y="8"/>
                </a:cubicBezTo>
              </a:path>
            </a:pathLst>
          </a:custGeom>
          <a:noFill/>
          <a:ln w="1908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2895480"/>
            <a:ext cx="1523880" cy="152640"/>
          </a:xfrm>
          <a:custGeom>
            <a:avLst/>
            <a:gdLst/>
            <a:ahLst/>
            <a:rect l="l" t="t" r="r" b="b"/>
            <a:pathLst>
              <a:path w="960" h="96">
                <a:moveTo>
                  <a:pt x="0" y="0"/>
                </a:moveTo>
                <a:cubicBezTo>
                  <a:pt x="0" y="0"/>
                  <a:pt x="480" y="48"/>
                  <a:pt x="960" y="96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6019920" y="2971800"/>
            <a:ext cx="914400" cy="152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3809880"/>
            <a:ext cx="8458200" cy="289584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4191120"/>
            <a:ext cx="6423120" cy="1917720"/>
          </a:xfrm>
          <a:custGeom>
            <a:avLst/>
            <a:gdLst/>
            <a:ahLst/>
            <a:rect l="l" t="t" r="r" b="b"/>
            <a:pathLst>
              <a:path w="4046" h="1208">
                <a:moveTo>
                  <a:pt x="0" y="0"/>
                </a:moveTo>
                <a:cubicBezTo>
                  <a:pt x="77" y="11"/>
                  <a:pt x="151" y="33"/>
                  <a:pt x="227" y="48"/>
                </a:cubicBezTo>
                <a:cubicBezTo>
                  <a:pt x="261" y="72"/>
                  <a:pt x="280" y="108"/>
                  <a:pt x="308" y="138"/>
                </a:cubicBezTo>
                <a:cubicBezTo>
                  <a:pt x="316" y="171"/>
                  <a:pt x="311" y="224"/>
                  <a:pt x="332" y="251"/>
                </a:cubicBezTo>
                <a:cubicBezTo>
                  <a:pt x="354" y="278"/>
                  <a:pt x="404" y="271"/>
                  <a:pt x="429" y="275"/>
                </a:cubicBezTo>
                <a:cubicBezTo>
                  <a:pt x="467" y="280"/>
                  <a:pt x="505" y="293"/>
                  <a:pt x="543" y="300"/>
                </a:cubicBezTo>
                <a:cubicBezTo>
                  <a:pt x="551" y="305"/>
                  <a:pt x="559" y="311"/>
                  <a:pt x="567" y="316"/>
                </a:cubicBezTo>
                <a:cubicBezTo>
                  <a:pt x="578" y="322"/>
                  <a:pt x="590" y="325"/>
                  <a:pt x="600" y="332"/>
                </a:cubicBezTo>
                <a:cubicBezTo>
                  <a:pt x="662" y="371"/>
                  <a:pt x="691" y="404"/>
                  <a:pt x="762" y="421"/>
                </a:cubicBezTo>
                <a:cubicBezTo>
                  <a:pt x="786" y="446"/>
                  <a:pt x="810" y="472"/>
                  <a:pt x="827" y="502"/>
                </a:cubicBezTo>
                <a:cubicBezTo>
                  <a:pt x="844" y="532"/>
                  <a:pt x="841" y="542"/>
                  <a:pt x="867" y="567"/>
                </a:cubicBezTo>
                <a:cubicBezTo>
                  <a:pt x="889" y="589"/>
                  <a:pt x="921" y="589"/>
                  <a:pt x="948" y="600"/>
                </a:cubicBezTo>
                <a:cubicBezTo>
                  <a:pt x="985" y="616"/>
                  <a:pt x="991" y="623"/>
                  <a:pt x="1029" y="648"/>
                </a:cubicBezTo>
                <a:cubicBezTo>
                  <a:pt x="1056" y="666"/>
                  <a:pt x="1086" y="737"/>
                  <a:pt x="1102" y="762"/>
                </a:cubicBezTo>
                <a:cubicBezTo>
                  <a:pt x="1143" y="825"/>
                  <a:pt x="1194" y="867"/>
                  <a:pt x="1257" y="908"/>
                </a:cubicBezTo>
                <a:cubicBezTo>
                  <a:pt x="1303" y="976"/>
                  <a:pt x="1378" y="1008"/>
                  <a:pt x="1451" y="1037"/>
                </a:cubicBezTo>
                <a:cubicBezTo>
                  <a:pt x="1540" y="1073"/>
                  <a:pt x="1633" y="1095"/>
                  <a:pt x="1727" y="1119"/>
                </a:cubicBezTo>
                <a:cubicBezTo>
                  <a:pt x="1768" y="1130"/>
                  <a:pt x="1806" y="1149"/>
                  <a:pt x="1848" y="1159"/>
                </a:cubicBezTo>
                <a:cubicBezTo>
                  <a:pt x="1891" y="1186"/>
                  <a:pt x="1990" y="1201"/>
                  <a:pt x="2043" y="1208"/>
                </a:cubicBezTo>
                <a:cubicBezTo>
                  <a:pt x="2067" y="1205"/>
                  <a:pt x="2092" y="1206"/>
                  <a:pt x="2116" y="1200"/>
                </a:cubicBezTo>
                <a:cubicBezTo>
                  <a:pt x="2125" y="1198"/>
                  <a:pt x="2131" y="1188"/>
                  <a:pt x="2140" y="1183"/>
                </a:cubicBezTo>
                <a:cubicBezTo>
                  <a:pt x="2161" y="1171"/>
                  <a:pt x="2183" y="1162"/>
                  <a:pt x="2205" y="1151"/>
                </a:cubicBezTo>
                <a:cubicBezTo>
                  <a:pt x="2301" y="1104"/>
                  <a:pt x="2391" y="1050"/>
                  <a:pt x="2497" y="1029"/>
                </a:cubicBezTo>
                <a:cubicBezTo>
                  <a:pt x="2570" y="982"/>
                  <a:pt x="2674" y="985"/>
                  <a:pt x="2757" y="965"/>
                </a:cubicBezTo>
                <a:cubicBezTo>
                  <a:pt x="2801" y="918"/>
                  <a:pt x="2824" y="855"/>
                  <a:pt x="2878" y="819"/>
                </a:cubicBezTo>
                <a:cubicBezTo>
                  <a:pt x="2900" y="777"/>
                  <a:pt x="2933" y="746"/>
                  <a:pt x="2959" y="705"/>
                </a:cubicBezTo>
                <a:cubicBezTo>
                  <a:pt x="2979" y="674"/>
                  <a:pt x="2978" y="626"/>
                  <a:pt x="2992" y="592"/>
                </a:cubicBezTo>
                <a:cubicBezTo>
                  <a:pt x="3004" y="563"/>
                  <a:pt x="3032" y="545"/>
                  <a:pt x="3049" y="519"/>
                </a:cubicBezTo>
                <a:cubicBezTo>
                  <a:pt x="3092" y="455"/>
                  <a:pt x="3135" y="381"/>
                  <a:pt x="3195" y="332"/>
                </a:cubicBezTo>
                <a:cubicBezTo>
                  <a:pt x="3233" y="301"/>
                  <a:pt x="3205" y="331"/>
                  <a:pt x="3251" y="300"/>
                </a:cubicBezTo>
                <a:cubicBezTo>
                  <a:pt x="3287" y="276"/>
                  <a:pt x="3356" y="220"/>
                  <a:pt x="3405" y="219"/>
                </a:cubicBezTo>
                <a:cubicBezTo>
                  <a:pt x="3619" y="216"/>
                  <a:pt x="3832" y="219"/>
                  <a:pt x="4046" y="219"/>
                </a:cubicBezTo>
              </a:path>
            </a:pathLst>
          </a:custGeom>
          <a:noFill/>
          <a:ln w="38160">
            <a:solidFill>
              <a:srgbClr val="66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4952880"/>
            <a:ext cx="37339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43400" y="5105520"/>
            <a:ext cx="4572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419720" y="5257800"/>
            <a:ext cx="2286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43400" y="2971800"/>
            <a:ext cx="38088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95680" y="3048120"/>
            <a:ext cx="15264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4940280"/>
            <a:ext cx="2210040" cy="774720"/>
          </a:xfrm>
          <a:custGeom>
            <a:avLst/>
            <a:gdLst/>
            <a:ahLst/>
            <a:rect l="l" t="t" r="r" b="b"/>
            <a:pathLst>
              <a:path w="1392" h="488">
                <a:moveTo>
                  <a:pt x="1392" y="8"/>
                </a:moveTo>
                <a:cubicBezTo>
                  <a:pt x="1292" y="4"/>
                  <a:pt x="1192" y="0"/>
                  <a:pt x="1008" y="56"/>
                </a:cubicBezTo>
                <a:cubicBezTo>
                  <a:pt x="824" y="112"/>
                  <a:pt x="456" y="272"/>
                  <a:pt x="288" y="344"/>
                </a:cubicBezTo>
                <a:cubicBezTo>
                  <a:pt x="120" y="416"/>
                  <a:pt x="60" y="452"/>
                  <a:pt x="0" y="488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590560" y="5334120"/>
            <a:ext cx="685800" cy="30456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72200" y="4952880"/>
            <a:ext cx="2057400" cy="685800"/>
          </a:xfrm>
          <a:custGeom>
            <a:avLst/>
            <a:gdLst/>
            <a:ahLst/>
            <a:rect l="l" t="t" r="r" b="b"/>
            <a:pathLst>
              <a:path w="1296" h="432">
                <a:moveTo>
                  <a:pt x="0" y="0"/>
                </a:moveTo>
                <a:cubicBezTo>
                  <a:pt x="156" y="12"/>
                  <a:pt x="312" y="24"/>
                  <a:pt x="528" y="96"/>
                </a:cubicBezTo>
                <a:cubicBezTo>
                  <a:pt x="744" y="168"/>
                  <a:pt x="1020" y="300"/>
                  <a:pt x="1296" y="432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2720" y="5334120"/>
            <a:ext cx="838080" cy="3808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8380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Flujo Base proviene de flujo subterráneo o flujo inter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2120" y="2819520"/>
            <a:ext cx="1295280" cy="1371600"/>
          </a:xfrm>
          <a:prstGeom prst="rect">
            <a:avLst/>
          </a:prstGeom>
          <a:solidFill>
            <a:srgbClr val="c0ff81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609480"/>
            <a:ext cx="7086600" cy="2930760"/>
          </a:xfrm>
          <a:custGeom>
            <a:avLst/>
            <a:gdLst/>
            <a:ahLst/>
            <a:rect l="l" t="t" r="r" b="b"/>
            <a:pathLst>
              <a:path w="4464" h="1846">
                <a:moveTo>
                  <a:pt x="0" y="1846"/>
                </a:moveTo>
                <a:cubicBezTo>
                  <a:pt x="216" y="1842"/>
                  <a:pt x="432" y="1838"/>
                  <a:pt x="624" y="1750"/>
                </a:cubicBezTo>
                <a:cubicBezTo>
                  <a:pt x="816" y="1662"/>
                  <a:pt x="1000" y="1494"/>
                  <a:pt x="1152" y="1318"/>
                </a:cubicBezTo>
                <a:cubicBezTo>
                  <a:pt x="1304" y="1142"/>
                  <a:pt x="1432" y="870"/>
                  <a:pt x="1536" y="694"/>
                </a:cubicBezTo>
                <a:cubicBezTo>
                  <a:pt x="1640" y="518"/>
                  <a:pt x="1688" y="374"/>
                  <a:pt x="1776" y="262"/>
                </a:cubicBezTo>
                <a:cubicBezTo>
                  <a:pt x="1864" y="150"/>
                  <a:pt x="1968" y="40"/>
                  <a:pt x="2066" y="20"/>
                </a:cubicBezTo>
                <a:cubicBezTo>
                  <a:pt x="2164" y="0"/>
                  <a:pt x="2209" y="2"/>
                  <a:pt x="2366" y="141"/>
                </a:cubicBezTo>
                <a:cubicBezTo>
                  <a:pt x="2523" y="280"/>
                  <a:pt x="2845" y="678"/>
                  <a:pt x="3007" y="855"/>
                </a:cubicBezTo>
                <a:cubicBezTo>
                  <a:pt x="3169" y="1032"/>
                  <a:pt x="3208" y="1070"/>
                  <a:pt x="3339" y="1203"/>
                </a:cubicBezTo>
                <a:cubicBezTo>
                  <a:pt x="3470" y="1336"/>
                  <a:pt x="3605" y="1555"/>
                  <a:pt x="3792" y="1654"/>
                </a:cubicBezTo>
                <a:cubicBezTo>
                  <a:pt x="3979" y="1753"/>
                  <a:pt x="4240" y="1762"/>
                  <a:pt x="4464" y="1798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57200"/>
            <a:ext cx="312444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URVA DE CONCENT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3517200">
            <a:off x="2361600" y="1371240"/>
            <a:ext cx="990720" cy="838440"/>
          </a:xfrm>
          <a:prstGeom prst="rightArrow">
            <a:avLst>
              <a:gd name="adj1" fmla="val 50000"/>
              <a:gd name="adj2" fmla="val 29541"/>
            </a:avLst>
          </a:prstGeom>
          <a:gradFill rotWithShape="0">
            <a:gsLst>
              <a:gs pos="0">
                <a:srgbClr val="c0ff81"/>
              </a:gs>
              <a:gs pos="50000">
                <a:srgbClr val="58753b"/>
              </a:gs>
              <a:gs pos="100000">
                <a:srgbClr val="c0ff81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228600"/>
            <a:ext cx="2057400" cy="82548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URVA DE REC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2276400">
            <a:off x="5790960" y="1143000"/>
            <a:ext cx="83808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0ff81"/>
              </a:gs>
              <a:gs pos="50000">
                <a:srgbClr val="58753b"/>
              </a:gs>
              <a:gs pos="100000">
                <a:srgbClr val="c0ff81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2362320"/>
            <a:ext cx="38088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920" y="5290"/>
                </a:moveTo>
                <a:lnTo>
                  <a:pt x="37080" y="5290"/>
                </a:lnTo>
                <a:lnTo>
                  <a:pt x="37080" y="28212"/>
                </a:lnTo>
                <a:lnTo>
                  <a:pt x="32308" y="51972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038480" y="1854360"/>
            <a:ext cx="455760" cy="45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5213" y="4000"/>
                </a:moveTo>
                <a:lnTo>
                  <a:pt x="26191" y="4000"/>
                </a:lnTo>
                <a:lnTo>
                  <a:pt x="26191" y="-9844"/>
                </a:lnTo>
                <a:lnTo>
                  <a:pt x="-12633" y="-24068"/>
                </a:lnTo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10080" y="914400"/>
            <a:ext cx="419400" cy="459720"/>
          </a:xfrm>
          <a:prstGeom prst="borderCallout1">
            <a:avLst>
              <a:gd name="adj1" fmla="val -24045"/>
              <a:gd name="adj2" fmla="val -1385"/>
              <a:gd name="adj3" fmla="val 15709"/>
              <a:gd name="adj4" fmla="val -1395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72360" y="2460600"/>
            <a:ext cx="50004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55875"/>
              <a:gd name="adj5" fmla="val 85287"/>
              <a:gd name="adj6" fmla="val -97768"/>
            </a:avLst>
          </a:prstGeom>
          <a:solidFill>
            <a:srgbClr val="c0ff81"/>
          </a:solidFill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5791320"/>
            <a:ext cx="1066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ahoma"/>
              </a:rPr>
              <a:t>H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4459320"/>
            <a:ext cx="2068560" cy="825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396" y="2968"/>
                </a:moveTo>
                <a:lnTo>
                  <a:pt x="22611" y="2968"/>
                </a:lnTo>
                <a:lnTo>
                  <a:pt x="22611" y="-12779"/>
                </a:lnTo>
                <a:lnTo>
                  <a:pt x="20653" y="-29801"/>
                </a:lnTo>
              </a:path>
            </a:pathLst>
          </a:custGeom>
          <a:solidFill>
            <a:srgbClr val="c0ff81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va de ago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7920" y="4191120"/>
            <a:ext cx="6553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25520" y="1371600"/>
            <a:ext cx="6654960" cy="2900520"/>
          </a:xfrm>
          <a:custGeom>
            <a:avLst/>
            <a:gdLst/>
            <a:ahLst/>
            <a:rect l="l" t="t" r="r" b="b"/>
            <a:pathLst>
              <a:path w="4192" h="1827">
                <a:moveTo>
                  <a:pt x="0" y="1779"/>
                </a:moveTo>
                <a:cubicBezTo>
                  <a:pt x="65" y="1774"/>
                  <a:pt x="242" y="1827"/>
                  <a:pt x="396" y="1750"/>
                </a:cubicBezTo>
                <a:cubicBezTo>
                  <a:pt x="550" y="1673"/>
                  <a:pt x="772" y="1494"/>
                  <a:pt x="924" y="1318"/>
                </a:cubicBezTo>
                <a:cubicBezTo>
                  <a:pt x="1076" y="1142"/>
                  <a:pt x="1204" y="870"/>
                  <a:pt x="1308" y="694"/>
                </a:cubicBezTo>
                <a:cubicBezTo>
                  <a:pt x="1412" y="518"/>
                  <a:pt x="1460" y="374"/>
                  <a:pt x="1548" y="262"/>
                </a:cubicBezTo>
                <a:cubicBezTo>
                  <a:pt x="1636" y="150"/>
                  <a:pt x="1740" y="40"/>
                  <a:pt x="1838" y="20"/>
                </a:cubicBezTo>
                <a:cubicBezTo>
                  <a:pt x="1936" y="0"/>
                  <a:pt x="1950" y="4"/>
                  <a:pt x="2138" y="141"/>
                </a:cubicBezTo>
                <a:cubicBezTo>
                  <a:pt x="2326" y="278"/>
                  <a:pt x="2766" y="672"/>
                  <a:pt x="2968" y="840"/>
                </a:cubicBezTo>
                <a:cubicBezTo>
                  <a:pt x="3170" y="1008"/>
                  <a:pt x="3215" y="1036"/>
                  <a:pt x="3349" y="1148"/>
                </a:cubicBezTo>
                <a:cubicBezTo>
                  <a:pt x="3483" y="1260"/>
                  <a:pt x="3659" y="1421"/>
                  <a:pt x="3771" y="1513"/>
                </a:cubicBezTo>
                <a:cubicBezTo>
                  <a:pt x="3883" y="1605"/>
                  <a:pt x="3952" y="1656"/>
                  <a:pt x="4022" y="1700"/>
                </a:cubicBezTo>
                <a:cubicBezTo>
                  <a:pt x="4092" y="1744"/>
                  <a:pt x="4157" y="1763"/>
                  <a:pt x="4192" y="1779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Zona del máxi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838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91440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9907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2514600"/>
            <a:ext cx="914400" cy="1676520"/>
          </a:xfrm>
          <a:prstGeom prst="rect">
            <a:avLst/>
          </a:prstGeom>
          <a:solidFill>
            <a:srgbClr val="99ff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876920" y="297180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76920" y="3124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44956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i="1" lang="en-US" sz="2400" spc="-1" strike="noStrike" baseline="-25000">
                <a:solidFill>
                  <a:srgbClr val="ffffff"/>
                </a:solidFill>
                <a:latin typeface="Copperplate Gothic Bold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752480" y="480060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1752480"/>
            <a:ext cx="609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1904760" y="19810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62520" y="1981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00200" y="4343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43434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1828800"/>
            <a:ext cx="457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419360" y="198108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198108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3920" y="5105520"/>
            <a:ext cx="3429000" cy="45972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empo de desf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504960" y="4952520"/>
            <a:ext cx="2286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81280" y="59436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828440" y="61722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62520" y="6172200"/>
            <a:ext cx="39621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228600"/>
            <a:ext cx="114300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752480" y="609480"/>
            <a:ext cx="0" cy="60962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previousslide"/>
          </p:cNvPr>
          <p:cNvSpPr/>
          <p:nvPr/>
        </p:nvSpPr>
        <p:spPr>
          <a:xfrm>
            <a:off x="8458200" y="411480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80880" y="762120"/>
            <a:ext cx="51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En curva de concentr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523880" y="1752480"/>
                <a:ext cx="152424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3276720" y="2743200"/>
            <a:ext cx="2361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=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dQ =K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catastrofe_en_santiago" descr="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27655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9480" y="3886200"/>
                <a:ext cx="17463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105520" y="5486400"/>
                <a:ext cx="33526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≡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5" name=""/>
          <p:cNvGrpSpPr/>
          <p:nvPr/>
        </p:nvGrpSpPr>
        <p:grpSpPr>
          <a:xfrm>
            <a:off x="2060640" y="3880080"/>
            <a:ext cx="3270240" cy="2679480"/>
            <a:chOff x="2060640" y="3880080"/>
            <a:chExt cx="3270240" cy="2679480"/>
          </a:xfrm>
        </p:grpSpPr>
        <p:sp>
          <p:nvSpPr>
            <p:cNvPr id="126" name=""/>
            <p:cNvSpPr/>
            <p:nvPr/>
          </p:nvSpPr>
          <p:spPr>
            <a:xfrm rot="1317000">
              <a:off x="2286000" y="4343400"/>
              <a:ext cx="2819520" cy="1752480"/>
            </a:xfrm>
            <a:prstGeom prst="rightArrow">
              <a:avLst>
                <a:gd name="adj1" fmla="val 50000"/>
                <a:gd name="adj2" fmla="val 40222"/>
              </a:avLst>
            </a:prstGeom>
            <a:gradFill rotWithShape="0">
              <a:gsLst>
                <a:gs pos="0">
                  <a:srgbClr val="c0ff81"/>
                </a:gs>
                <a:gs pos="50000">
                  <a:srgbClr val="33cc33"/>
                </a:gs>
                <a:gs pos="100000">
                  <a:srgbClr val="c0ff81"/>
                </a:gs>
              </a:gsLst>
              <a:lin ang="8100000"/>
            </a:gradFill>
            <a:ln w="9360">
              <a:solidFill>
                <a:srgbClr val="008000"/>
              </a:solidFill>
              <a:miter/>
            </a:ln>
            <a:effectLst>
              <a:outerShdw dist="107932" dir="81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317000">
              <a:off x="2462760" y="4898520"/>
              <a:ext cx="22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Tahoma"/>
                </a:rPr>
                <a:t>t=0      Q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8458200" y="34290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6094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URVA DE RECE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1523880"/>
            <a:ext cx="335268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hay entrada, I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2743200"/>
            <a:ext cx="2362320" cy="459720"/>
          </a:xfrm>
          <a:prstGeom prst="rect">
            <a:avLst/>
          </a:prstGeom>
          <a:solidFill>
            <a:srgbClr val="c0ff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ahoma"/>
              </a:rPr>
              <a:t>dQ = K’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4800600" y="21337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c0ff8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019920" y="3733920"/>
                <a:ext cx="220968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≡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t xml:space="preserve">K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8381880" y="3048120"/>
            <a:ext cx="533520" cy="1371600"/>
          </a:xfrm>
          <a:custGeom>
            <a:avLst/>
            <a:gdLst>
              <a:gd name="textAreaLeft" fmla="*/ 71280 w 533520"/>
              <a:gd name="textAreaRight" fmla="*/ 462240 w 53352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c0ff81"/>
              </a:gs>
              <a:gs pos="50000">
                <a:srgbClr val="58753b"/>
              </a:gs>
              <a:gs pos="100000">
                <a:srgbClr val="c0ff81"/>
              </a:gs>
            </a:gsLst>
            <a:lin ang="8100000"/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45520" y="4191120"/>
            <a:ext cx="1805400" cy="510120"/>
          </a:xfrm>
          <a:prstGeom prst="rect">
            <a:avLst/>
          </a:prstGeom>
          <a:solidFill>
            <a:srgbClr val="c0ff81"/>
          </a:solidFill>
          <a:ln w="9360">
            <a:solidFill>
              <a:srgbClr val="008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t=t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ahoma"/>
              </a:rPr>
              <a:t>o     </a:t>
            </a: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Q =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572000" y="4648320"/>
            <a:ext cx="1828800" cy="1361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962520" y="6019920"/>
            <a:ext cx="2895480" cy="510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Q(t) = Q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Verdana"/>
              </a:rPr>
              <a:t>o</a:t>
            </a:r>
            <a:r>
              <a:rPr b="1" lang="en-US" sz="2400" spc="-1" strike="noStrike">
                <a:solidFill>
                  <a:srgbClr val="008000"/>
                </a:solidFill>
                <a:latin typeface="Verdana"/>
              </a:rPr>
              <a:t> e</a:t>
            </a:r>
            <a:r>
              <a:rPr b="1" lang="en-US" sz="2400" spc="-1" strike="noStrike" baseline="30000">
                <a:solidFill>
                  <a:srgbClr val="008000"/>
                </a:solidFill>
                <a:latin typeface="Verdana"/>
              </a:rPr>
              <a:t>-K’t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66680" y="6248520"/>
            <a:ext cx="2590920" cy="5101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’ =t-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el_dia_que_colapso_stgo" descr=""/>
          <p:cNvPicPr/>
          <p:nvPr/>
        </p:nvPicPr>
        <p:blipFill>
          <a:blip r:embed="rId4"/>
          <a:stretch/>
        </p:blipFill>
        <p:spPr>
          <a:xfrm>
            <a:off x="6400800" y="0"/>
            <a:ext cx="2743200" cy="22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3T21:52:52Z</dcterms:created>
  <dc:creator>Ximena Vargas</dc:creator>
  <dc:description/>
  <dc:language>en-US</dc:language>
  <cp:lastModifiedBy>xv</cp:lastModifiedBy>
  <dcterms:modified xsi:type="dcterms:W3CDTF">2005-11-02T14:41:23Z</dcterms:modified>
  <cp:revision>19</cp:revision>
  <dc:subject/>
  <dc:title>CAPITULO 8</dc:title>
</cp:coreProperties>
</file>