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160-CD26-4B10-BD3D-9862C8AC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930-3369-4681-A8FF-E4124486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C08-E580-48CD-8C6D-EC5DF0BE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BFE-A2DA-43FC-A03D-0DC80165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39A8-C465-4C9F-86D2-F95516E9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FFD4-C735-4F37-9022-FE11355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3E8-ED9C-4142-AA07-86D1EB2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1EF4-8582-4E22-BA4E-661F313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D862-3E04-4A9B-A168-9E4CB2D2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346-BAA3-46E5-9565-C778347D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4546-0BB0-4DC1-8E33-4952CD9A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EAE-9AD0-426E-84F4-41A64328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1721-F734-4ECB-8080-592C6F1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666-22E2-4D64-B325-91A313C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C559-A357-4C8B-98ED-DAE40682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171C-A268-4981-B317-01FFD47E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E1F0-3E6B-4342-91C1-F4A1805B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B1C-1840-4B3E-B07E-14A3573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D44-B71E-497F-8C95-AE8A97C1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222-D4BE-42A8-9152-8670D14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F38-591E-4206-ADCC-2948D194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048-D6BF-4F05-9083-C521111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5B2-6ABE-43A4-B421-1140F5E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1F1-E2B6-47C8-BA93-5AAE348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6C0A-A6DC-402C-BD3E-C9CAF6EE7D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F56-FA31-4B22-9D98-DE37D66993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9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4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3" name="sonda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65760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1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Famosses</cp:lastModifiedBy>
  <dcterms:modified xsi:type="dcterms:W3CDTF">2006-03-24T02:35:48Z</dcterms:modified>
  <cp:revision>40</cp:revision>
  <dc:subject/>
  <dc:title>Presentación de PowerPoint</dc:title>
</cp:coreProperties>
</file>