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BC8-E65A-467A-A7E7-B238095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B3F-6149-4FE5-9C8D-03589CF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C78-7C19-42A1-BE1C-1EFF6B5E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F6A-ACF1-4C8C-9DF1-A5B5CE95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D13B-0F81-4A27-B25C-142418B2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08E-EC60-4804-8E9E-CA9D533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F88F-66F9-4F94-AC13-D72326D3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F2FE-7183-4470-A483-04EF45E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993D-08FD-424C-A30A-EE597D29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8101-5132-43CA-B9FF-699D8729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F247-1E2C-4AE3-B7AB-4DEB892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BC8-FA2A-4FA4-8DC2-FAC982A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B8E2-F8F8-4F73-B721-D14A3F1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E22-26E0-4768-8331-A95BCE0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925F-8606-4002-B26E-A7A24ED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F60-D5B0-4958-BE6A-2E791F62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6923-E2E1-4A32-B3FD-196FB460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FDD-1825-4307-BC2D-C58A75F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2CB-C137-47C1-8963-FB18D9B5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F4F-7A2B-4C57-960B-8FC405FE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99D-3E5A-4896-A0FC-1DAA0F3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6C9-2B28-44FE-A3F1-367A8CF3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70E-C657-4304-973E-F00754CC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B16-077C-447B-88A1-A46F94D2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127-8774-416A-9458-7B3EB502C0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999-0E2F-4689-BA4C-AF9127460A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9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4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sonda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65760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1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Famosses</cp:lastModifiedBy>
  <dcterms:modified xsi:type="dcterms:W3CDTF">2006-03-24T02:35:48Z</dcterms:modified>
  <cp:revision>40</cp:revision>
  <dc:subject/>
  <dc:title>Presentación de PowerPoint</dc:title>
</cp:coreProperties>
</file>