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D5A-9C2E-416D-B47E-1F2D4E20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A1A-FB7C-475B-8DD0-A8ED860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225-1B2B-4612-B3A0-57E8DC23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9B0-6295-4E5B-95BD-CCFC15AC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BFF2-B904-495C-AF35-C4E11044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B3EF-EF8E-47B5-AE30-0C453079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040E-3218-4F55-BCC7-99EEC6E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0EA1-F9CB-43DA-ADAB-A7E16F65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6945-B633-4315-BB65-406082F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803A-1133-4E52-9275-8CD5F744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AD14-CDAA-42D2-AA0C-68B90D1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290-E42D-4C65-8B80-6B5D2EE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ECCC-6277-4B29-B164-E0FB5FE7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30CA-8606-4B70-83A1-A897006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104E-EFA6-4F5B-B2E4-7C74889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C17A-E3FD-44D9-910F-08890F15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891F-63B7-48F5-82EB-0752D71C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B3C-7E8D-4C38-AC48-C2169EA5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A0A-A980-4B1B-8B7F-9C93983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27F-435C-4741-9B99-96ECD339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AFD-517F-4EC6-B204-D6794EEA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93F-17AC-48A4-AB78-95669D5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2AE-9ADB-42C3-A81E-DEFE6BA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CC7-DFE4-4C5C-A56F-BD2A265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B16-CC0F-4CD9-8238-28EAC9DA45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C1D-3450-4984-BF5C-A4C5DF9CEE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9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4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3" name="sonda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65760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1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Famosses</cp:lastModifiedBy>
  <dcterms:modified xsi:type="dcterms:W3CDTF">2006-03-24T02:35:48Z</dcterms:modified>
  <cp:revision>40</cp:revision>
  <dc:subject/>
  <dc:title>Presentación de PowerPoint</dc:title>
</cp:coreProperties>
</file>