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54D-8A95-4390-8473-507B524F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AF8-C08D-473B-86E7-47470256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AB0-4F2B-4A88-AD60-6DAC20B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5FE-9793-46A9-96A3-2A7216E1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BB2-2220-4388-A943-CDA04D3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B765-CF6E-42F4-B6B4-2D630393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FCA5-CB87-4897-B0F9-59EFA220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87E7-71ED-4E49-B9A7-4909C57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D67E-BB44-4F9A-8965-E7681E33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1972-EB38-4B4A-952C-B98D0AD4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AF30-A99F-40D5-BBC2-F119990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4C1-85FC-4C4E-877D-BECF9D0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C39-7A92-491E-9C41-B8B4A37A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AFF0-BC98-42B5-8365-880882A9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2398-5B91-49D6-B5AA-8F14A20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FE52-6ED1-49EF-91AD-4BA6D1A8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809-803A-442E-BE35-9EDA973B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EA6-EA73-4B00-AB62-95813C4C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677-C1FD-4AB5-8054-48CD74C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6D0-7EED-414C-BD2C-4E29F7E6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DE7-AD1B-4F31-A1E1-F2B04819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693-78F7-4407-A49A-32BE933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D5E-1B5E-4CB6-B704-D911B8E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2C7-B3C5-4B11-9644-0319EF7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FF3-0668-4514-95BD-AA7DBA2B77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69E-D221-4017-8EDF-E99623F2E0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9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4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sonda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65760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1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Famosses</cp:lastModifiedBy>
  <dcterms:modified xsi:type="dcterms:W3CDTF">2006-03-24T02:35:48Z</dcterms:modified>
  <cp:revision>40</cp:revision>
  <dc:subject/>
  <dc:title>Presentación de PowerPoint</dc:title>
</cp:coreProperties>
</file>