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B8B-92CC-416C-B7D4-869492F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A02-1E57-411E-959C-7A7FEA7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E03-E41B-41EB-B246-ED020E5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4FE-59B2-47A6-A9A6-36EA2BF0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3A3-14D2-425B-AF2E-48B58DA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689-5E8A-4472-9E7D-F000284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BF6-4E2D-4869-9CA1-0BC2F294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4F3-12A0-49B6-84A3-8AF2543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8A6-FC1A-4EC9-9628-645EF5B6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734-BC38-4784-B565-012A554C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EF4-34B6-4FBC-A8BD-4662E6F8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454-235E-435B-8C81-F9BCC54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218-B6DF-4E89-B4AD-B6F64B84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4114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04D-6EB6-4279-A096-6C6086A43470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efectos físicos, económicos, legales y de calid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Qué tipos de obras hidráulicas y qué característic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120-591A-4575-82D4-F3EB2530BF73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126-E0FE-4C55-9D2B-20EC9D469E7A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9F9-7B3E-46D8-997E-7FC07FB9A4BF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90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1AB-CD0A-4FCB-AD79-817DE6770E3A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173-7941-4F7A-9FA6-81BCA27C5F6D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9A9-FA81-40F6-90B8-21F565307379}" type="slidenum">
              <a:t>15</a:t>
            </a:fld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38F-6BA8-4936-B5A9-60A8FDC1A939}" type="slidenum">
              <a:t>16</a:t>
            </a:fld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FE8-A44B-4FF7-BD33-AC1780AC9F70}" type="slidenum">
              <a:t>17</a:t>
            </a:fld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1676520"/>
            <a:ext cx="8839080" cy="3736800"/>
            <a:chOff x="0" y="1676520"/>
            <a:chExt cx="8839080" cy="3736800"/>
          </a:xfrm>
        </p:grpSpPr>
        <p:pic>
          <p:nvPicPr>
            <p:cNvPr id="124" name="Detention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883908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14400" y="167652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Detención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205740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Almacenamiento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124080"/>
              <a:ext cx="838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Ca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Planicies inund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3200400"/>
              <a:ext cx="7621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L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3124080"/>
              <a:ext cx="10666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Pant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9F6-3323-4B01-AA09-6052F6053FB8}" type="slidenum">
              <a:t>18</a:t>
            </a:fld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3C6-F633-4394-A1BC-048BDDD24ACE}" type="slidenum">
              <a:t>19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76212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194796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35C-4C5F-4ECC-A330-E98F9CBD149F}" type="slidenum">
              <a:t>2</a:t>
            </a:fld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9E6-A93B-45D5-9EFF-1D481E15E410}" type="slidenum">
              <a:t>20</a:t>
            </a:fld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20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21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21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22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22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23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23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23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24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25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25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25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8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8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31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31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E15-C803-46C8-8C17-781851AD0C2E}" type="slidenum">
              <a:t>21</a:t>
            </a:fld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32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33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33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33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34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34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34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35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36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36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36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37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37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37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8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E9C-B26C-4D3E-8A8F-BA326FB7FA9C}" type="slidenum">
              <a:t>22</a:t>
            </a:fld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8CA-A7C4-4245-BCB5-C736E1785BDD}" type="slidenum">
              <a:t>23</a:t>
            </a:fld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1143000"/>
            <a:ext cx="83818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45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45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45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46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46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46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180-CEF9-4BE4-8871-144FDD917C11}" type="slidenum">
              <a:t>24</a:t>
            </a:fld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12-77F0-4B53-A0CD-371A58AE2CD7}" type="slidenum">
              <a:t>25</a:t>
            </a:fld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F39-D6F8-4F50-8A49-6C8D2925B098}" type="slidenum">
              <a:t>26</a:t>
            </a:fld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rebuchet MS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rebuchet MS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6F-6120-4EFB-8AD7-7F636F546179}" type="slidenum">
              <a:t>27</a:t>
            </a:fld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9DB-C810-418B-983D-7B56BBB7B888}" type="slidenum">
              <a:t>28</a:t>
            </a:fld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438-ED1D-476B-9ECA-BA0D47FC12DE}" type="slidenum">
              <a:t>29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4648320"/>
            <a:ext cx="701028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062080" cy="15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FF1-1187-4A75-BCF5-B78179AA87F9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7B5-3FBF-4B24-BD94-CA2E19FF613F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8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A38-0B12-4E7F-A32F-FE2CC9A1289A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78C-9A5E-46DF-8419-7DA3D0790006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caudales medios disponible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diarios, mensuales, anuales)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magnitud y distribución en el tiempo y el espacio de las crecid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previsión de caudales a corto y mediano plazo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estimación y métodos de control de la evaporación y evapotranspirac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2F9-63FA-4099-B347-28801280140E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513320"/>
            <a:ext cx="8839080" cy="1983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</a:t>
            </a:r>
            <a:r>
              <a:rPr b="0" i="1" lang="es-CL" sz="2800" spc="-1" strike="noStrike">
                <a:solidFill>
                  <a:srgbClr val="ccecff"/>
                </a:solidFill>
                <a:latin typeface="Verdana"/>
              </a:rPr>
              <a:t>seguridad hidrológica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xb_small%20embalse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267440" cy="28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589-4C6F-4459-BF9C-5DE7DF6EFDE3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recursos hídricos de una hoya hidrográfica o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factores y características hidrológicas de una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575-B3CB-4676-A3AE-D3A803EB503D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6-03-07T16:05:49Z</dcterms:modified>
  <cp:revision>13</cp:revision>
  <dc:subject/>
  <dc:title>Sin título de diapositiva</dc:title>
</cp:coreProperties>
</file>