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A77E-AAE0-49C7-A465-697E46CE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3467-A509-421D-AC37-833840A2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72D5-A6BE-48D3-A942-70768E21B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2A0B-FBEA-47EB-A5F7-310ECB1ED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C21C-30F5-44AB-B7B3-47F0B1CA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B17F-18DB-411F-AC96-BF9C7C52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D84C-0E0D-4883-9906-E37A688A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384E-6372-482C-9167-D95C2FA2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7BD1-41A2-448C-92FB-7793F17CD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0743-DAD7-4DBA-BA2A-60DD4C3D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27EF-9D8E-4C27-BDCD-604E506BF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F03C-0970-4C8E-9333-EA3B0383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4DE9-9654-489E-85F2-A864A888B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4.xml"/><Relationship Id="rId3" Type="http://schemas.openxmlformats.org/officeDocument/2006/relationships/slide" Target="slide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38080"/>
            <a:ext cx="411480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Verdana"/>
              </a:rPr>
              <a:t>INTRODUC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828800"/>
            <a:ext cx="7010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l agua es uno de los recursos naturales mas preciados por el homb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vital para la existencia de vida en la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segura desarrollo social y económico        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 los pueb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5181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14800" y="4648320"/>
            <a:ext cx="4800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Aumento de la dema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ayor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mejor calidad de v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48640" y="152280"/>
            <a:ext cx="2295360" cy="345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38EB-FD08-47DF-A95F-6E76D8CEF876}" type="slidenum">
              <a:t>1</a:t>
            </a:fld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8600" y="762120"/>
            <a:ext cx="8736120" cy="503928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efectos físicos, económicos, legales y de calid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de ciertos cambios en el uso de la tierra (re o deforestación, obras de riego y drenaje, urbanización, explotación intensiva de acuíferos) y sus efectos en la circulación y disponibilidad de agua en la región considerada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Qué tipos de obras hidráulicas y qué característica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deben tener, para aprovechar los recursos de agua económicamente disponibles y para satisfacer demandas competitivas en el tiempo y en el espacio y en cantidad y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B69E-BCC5-4264-B89C-73CBB8952B9E}" type="slidenum">
              <a:t>10</a:t>
            </a:fld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28600" y="685800"/>
            <a:ext cx="8534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CAMPOS Y METODO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        </a:t>
            </a:r>
            <a:r>
              <a:rPr b="1" lang="es-CL" sz="2400" spc="-1" strike="noStrike" u="sng">
                <a:solidFill>
                  <a:srgbClr val="000066"/>
                </a:solidFill>
                <a:uFillTx/>
                <a:latin typeface="Verdana"/>
              </a:rPr>
              <a:t>ESTUDIO E INVESTIGACION HIDROLO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2743200"/>
            <a:ext cx="7467480" cy="2478960"/>
          </a:xfrm>
          <a:prstGeom prst="rect">
            <a:avLst/>
          </a:prstGeom>
          <a:noFill/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iclo hidrológico: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idealización del movimiento, distribución y circulación del agua en la Tierra, entre la atmósfera-litósfera-hidrósfera y nuevamente a la atmósf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447-D660-436B-845F-D40DCE6A8CAE}" type="slidenum">
              <a:t>11</a:t>
            </a:fld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89040" y="609480"/>
            <a:ext cx="3494160" cy="99072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Verdana"/>
              </a:rPr>
              <a:t>ESTUDIO D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5040"/>
            <a:ext cx="3639960" cy="12160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HIDROLOGÍA FÍSICA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Fenómenos Componentes del ciclo hidrológico y sus interrel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72080" y="2975040"/>
            <a:ext cx="3786120" cy="21304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Tahoma"/>
              </a:rPr>
              <a:t>INVESTIGACIÓN DE SISTEMAS HIDROLÓGICOS</a:t>
            </a: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66"/>
                </a:solidFill>
                <a:latin typeface="Tahoma"/>
              </a:rPr>
              <a:t>Determinación de las relaciones de "entrada y salida" de los sistemas hidrológicos para la reconstitución y predicción de series y procesos hidrológic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190656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6560" y="2147760"/>
            <a:ext cx="465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6040" y="2147760"/>
            <a:ext cx="1440" cy="8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81F-DA35-4863-A122-54DA02C9EC42}" type="slidenum">
              <a:t>12</a:t>
            </a:fld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752480" y="2881440"/>
            <a:ext cx="2011320" cy="1736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Meteor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Climat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Transferencias d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nerg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Física de Suel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Agronomí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Bio-Sistem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Ecolog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100" spc="-1" strike="noStrike">
                <a:solidFill>
                  <a:srgbClr val="000066"/>
                </a:solidFill>
                <a:latin typeface="Verdana"/>
              </a:rPr>
              <a:t>Hidráulica de Cuenc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48120" y="2259000"/>
            <a:ext cx="1554120" cy="6397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ARAMÉTRICA O DETERMIN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19720" y="2982960"/>
            <a:ext cx="1646280" cy="45864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66"/>
                </a:solidFill>
                <a:latin typeface="Verdana"/>
              </a:rPr>
              <a:t>HIDROLOGÍA PROBABILÍST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752480" y="152280"/>
            <a:ext cx="4938840" cy="1729080"/>
            <a:chOff x="1752480" y="152280"/>
            <a:chExt cx="4938840" cy="1729080"/>
          </a:xfrm>
        </p:grpSpPr>
        <p:sp>
          <p:nvSpPr>
            <p:cNvPr id="90" name=""/>
            <p:cNvSpPr/>
            <p:nvPr/>
          </p:nvSpPr>
          <p:spPr>
            <a:xfrm>
              <a:off x="3216240" y="152280"/>
              <a:ext cx="1919160" cy="54936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ESTUDIO DEL CICLO  HIDROLÓGI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752480" y="1149480"/>
              <a:ext cx="1828800" cy="3664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Tahoma"/>
                </a:rPr>
                <a:t>HIDROLOGÍA FÍSIC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8200" y="1149480"/>
              <a:ext cx="2013120" cy="731880"/>
            </a:xfrm>
            <a:prstGeom prst="rect">
              <a:avLst/>
            </a:prstGeom>
            <a:solidFill>
              <a:srgbClr val="ccecff">
                <a:alpha val="50000"/>
              </a:srgbClr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100" spc="-1" strike="noStrike">
                  <a:solidFill>
                    <a:srgbClr val="000066"/>
                  </a:solidFill>
                  <a:latin typeface="Verdana"/>
                </a:rPr>
                <a:t>INVESTIGACIÓN DE SISTEMAS HIDROLÓGICO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130640" y="692280"/>
              <a:ext cx="0" cy="27468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6880" y="968400"/>
              <a:ext cx="29257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66688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92600" y="968400"/>
              <a:ext cx="0" cy="18252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2759040" y="1533600"/>
            <a:ext cx="0" cy="136044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84760" y="1895400"/>
            <a:ext cx="0" cy="182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8200" y="2074680"/>
            <a:ext cx="0" cy="183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678200" y="2077920"/>
            <a:ext cx="146376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41960" y="2077920"/>
            <a:ext cx="0" cy="9144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801960" y="4857840"/>
            <a:ext cx="9144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05040" y="5315040"/>
            <a:ext cx="2103480" cy="100476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ANALISIS DE REGR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Verdana"/>
              </a:rPr>
              <a:t>SINTESIS GRAL.SIST. SINTESIS PARCIAL CON ANALISIS LINEAL ANALISIS NO LINE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83200" y="5315040"/>
            <a:ext cx="228600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FRECUENCIA ANALISIS ESPEC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ETODOS DE MONTE CARL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MODELOS AR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ANALISIS DE INCERTIDUMBR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000" spc="-1" strike="noStrike">
                <a:solidFill>
                  <a:srgbClr val="000066"/>
                </a:solidFill>
                <a:latin typeface="Tahoma"/>
              </a:rPr>
              <a:t>TEORIA DE DECISI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80120" y="3486240"/>
            <a:ext cx="0" cy="18288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1960" y="4857840"/>
            <a:ext cx="0" cy="4572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936880"/>
            <a:ext cx="0" cy="1920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5715000"/>
            <a:ext cx="381240" cy="380880"/>
          </a:xfrm>
          <a:prstGeom prst="leftArrow">
            <a:avLst>
              <a:gd name="adj1" fmla="val 50000"/>
              <a:gd name="adj2" fmla="val 250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5257800"/>
            <a:ext cx="1828800" cy="91692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ahoma"/>
              </a:rPr>
              <a:t>Reconstruir o predecir series hidrolog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909800">
            <a:off x="7238880" y="4876560"/>
            <a:ext cx="304920" cy="380880"/>
          </a:xfrm>
          <a:prstGeom prst="upArrow">
            <a:avLst>
              <a:gd name="adj1" fmla="val 50000"/>
              <a:gd name="adj2" fmla="val 312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886200"/>
            <a:ext cx="2057400" cy="119124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redecir y simular comportamiento siste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6D1-3EAB-41A1-91AB-193B57F93FD2}" type="slidenum">
              <a:t>13</a:t>
            </a:fld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09480" y="990720"/>
            <a:ext cx="7772400" cy="5039280"/>
          </a:xfrm>
          <a:prstGeom prst="rect">
            <a:avLst/>
          </a:prstGeom>
          <a:solidFill>
            <a:srgbClr val="ccecff">
              <a:alpha val="50000"/>
            </a:srgbClr>
          </a:solidFill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Los diferentes enfoques y métodos hidrológicos tienen claras diferencias entre sí, pero todos ellos comparten dos importantes caracte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u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ependencia de los dato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y los registros históricos de los valores de los parámetros y variables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b)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Se basan en la hipótesis de </a:t>
            </a: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nvarianci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n el tiempo de los sistemas hidr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D6B-6A32-4CF3-AF76-884CAC7E5AFC}" type="slidenum">
              <a:t>14</a:t>
            </a:fld>
          </a:p>
        </p:txBody>
      </p:sp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533520"/>
            <a:ext cx="36576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SPECTOS LEG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6002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Consuntivos y No Consun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76520" y="24382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Usos Permanentes y Eve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DERECHOS DE AGUA son entregados en Prop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41972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3333cc"/>
                </a:solidFill>
                <a:latin typeface="Verdana"/>
              </a:rPr>
              <a:t>En CHILE de la VIII Región al norte las aguas superficiales han sido entregadas en su totalidad y también las aguas subterráneas en muchas cuen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6095880"/>
            <a:ext cx="74674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Los derechos de agua se pueden tran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543A-5CFB-40F9-A732-6D3700A60BB9}" type="slidenum">
              <a:t>15</a:t>
            </a:fld>
          </a:p>
        </p:txBody>
      </p:sp>
    </p:spTree>
  </p:cSld>
  <p:transition spd="slow"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43000" y="457200"/>
            <a:ext cx="4114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BALANCE HIDROLO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1295280"/>
            <a:ext cx="7391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a Hidrología estudia y evalúa científicamente cada una de las partes y las interrelaciones de los distintos procesos que componen el ciclo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Ciclo Hidrológico es un proceso continuo desde punto de vista global pero localmente contiene elementos de azar y variaciones no continuas (ejemplo: precipit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2A3-62EA-4519-9C3E-C4EF84789982}" type="slidenum">
              <a:t>16</a:t>
            </a:fld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ciclo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74160" cy="5343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0849-4A3C-48D9-8153-23FDF16A1D3B}" type="slidenum">
              <a:t>17</a:t>
            </a:fld>
          </a:p>
        </p:txBody>
      </p:sp>
    </p:spTree>
  </p:cSld>
  <p:transition spd="slow"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0" y="1676520"/>
            <a:ext cx="8839080" cy="3736800"/>
            <a:chOff x="0" y="1676520"/>
            <a:chExt cx="8839080" cy="3736800"/>
          </a:xfrm>
        </p:grpSpPr>
        <p:pic>
          <p:nvPicPr>
            <p:cNvPr id="124" name="Detention" descr=""/>
            <p:cNvPicPr/>
            <p:nvPr/>
          </p:nvPicPr>
          <p:blipFill>
            <a:blip r:embed="rId1"/>
            <a:stretch/>
          </p:blipFill>
          <p:spPr>
            <a:xfrm>
              <a:off x="0" y="1676520"/>
              <a:ext cx="883908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914400" y="1676520"/>
              <a:ext cx="34290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Detención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2057400"/>
              <a:ext cx="342900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Verdana"/>
                </a:rPr>
                <a:t>Almacenamiento superfici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00400" y="3124080"/>
              <a:ext cx="8380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Cau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05520" y="2666880"/>
              <a:ext cx="243828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Planicies inund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58000" y="3200400"/>
              <a:ext cx="762120" cy="33732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Verdana"/>
                </a:rPr>
                <a:t>La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19720" y="3124080"/>
              <a:ext cx="1066680" cy="3682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Times New Roman"/>
                </a:rPr>
                <a:t>Panta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49E-ADF1-472A-8C18-D014C1FC45FC}" type="slidenum">
              <a:t>18</a:t>
            </a:fld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838080"/>
            <a:ext cx="8001000" cy="518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62240" y="3317760"/>
            <a:ext cx="6715080" cy="2549520"/>
          </a:xfrm>
          <a:custGeom>
            <a:avLst/>
            <a:gdLst/>
            <a:ahLst/>
            <a:rect l="l" t="t" r="r" b="b"/>
            <a:pathLst>
              <a:path w="4168" h="1562">
                <a:moveTo>
                  <a:pt x="0" y="304"/>
                </a:moveTo>
                <a:cubicBezTo>
                  <a:pt x="30" y="260"/>
                  <a:pt x="23" y="245"/>
                  <a:pt x="68" y="214"/>
                </a:cubicBezTo>
                <a:cubicBezTo>
                  <a:pt x="86" y="159"/>
                  <a:pt x="119" y="119"/>
                  <a:pt x="158" y="78"/>
                </a:cubicBezTo>
                <a:cubicBezTo>
                  <a:pt x="162" y="67"/>
                  <a:pt x="162" y="53"/>
                  <a:pt x="170" y="45"/>
                </a:cubicBezTo>
                <a:cubicBezTo>
                  <a:pt x="200" y="16"/>
                  <a:pt x="252" y="46"/>
                  <a:pt x="283" y="56"/>
                </a:cubicBezTo>
                <a:cubicBezTo>
                  <a:pt x="319" y="166"/>
                  <a:pt x="259" y="0"/>
                  <a:pt x="328" y="124"/>
                </a:cubicBezTo>
                <a:cubicBezTo>
                  <a:pt x="339" y="145"/>
                  <a:pt x="337" y="172"/>
                  <a:pt x="350" y="191"/>
                </a:cubicBezTo>
                <a:cubicBezTo>
                  <a:pt x="381" y="236"/>
                  <a:pt x="411" y="282"/>
                  <a:pt x="441" y="327"/>
                </a:cubicBezTo>
                <a:cubicBezTo>
                  <a:pt x="443" y="329"/>
                  <a:pt x="484" y="393"/>
                  <a:pt x="486" y="395"/>
                </a:cubicBezTo>
                <a:cubicBezTo>
                  <a:pt x="497" y="402"/>
                  <a:pt x="510" y="408"/>
                  <a:pt x="520" y="417"/>
                </a:cubicBezTo>
                <a:cubicBezTo>
                  <a:pt x="532" y="427"/>
                  <a:pt x="540" y="443"/>
                  <a:pt x="554" y="451"/>
                </a:cubicBezTo>
                <a:cubicBezTo>
                  <a:pt x="602" y="478"/>
                  <a:pt x="680" y="493"/>
                  <a:pt x="734" y="508"/>
                </a:cubicBezTo>
                <a:cubicBezTo>
                  <a:pt x="764" y="516"/>
                  <a:pt x="825" y="530"/>
                  <a:pt x="825" y="530"/>
                </a:cubicBezTo>
                <a:cubicBezTo>
                  <a:pt x="840" y="538"/>
                  <a:pt x="854" y="547"/>
                  <a:pt x="870" y="553"/>
                </a:cubicBezTo>
                <a:cubicBezTo>
                  <a:pt x="892" y="562"/>
                  <a:pt x="938" y="575"/>
                  <a:pt x="938" y="575"/>
                </a:cubicBezTo>
                <a:cubicBezTo>
                  <a:pt x="990" y="653"/>
                  <a:pt x="957" y="635"/>
                  <a:pt x="1017" y="654"/>
                </a:cubicBezTo>
                <a:cubicBezTo>
                  <a:pt x="1078" y="748"/>
                  <a:pt x="998" y="639"/>
                  <a:pt x="1073" y="700"/>
                </a:cubicBezTo>
                <a:cubicBezTo>
                  <a:pt x="1134" y="749"/>
                  <a:pt x="1055" y="723"/>
                  <a:pt x="1130" y="756"/>
                </a:cubicBezTo>
                <a:cubicBezTo>
                  <a:pt x="1259" y="813"/>
                  <a:pt x="1427" y="806"/>
                  <a:pt x="1559" y="813"/>
                </a:cubicBezTo>
                <a:cubicBezTo>
                  <a:pt x="1671" y="804"/>
                  <a:pt x="1766" y="786"/>
                  <a:pt x="1875" y="767"/>
                </a:cubicBezTo>
                <a:cubicBezTo>
                  <a:pt x="1879" y="756"/>
                  <a:pt x="1877" y="741"/>
                  <a:pt x="1886" y="734"/>
                </a:cubicBezTo>
                <a:cubicBezTo>
                  <a:pt x="1915" y="713"/>
                  <a:pt x="1989" y="705"/>
                  <a:pt x="2022" y="700"/>
                </a:cubicBezTo>
                <a:cubicBezTo>
                  <a:pt x="2063" y="672"/>
                  <a:pt x="2105" y="671"/>
                  <a:pt x="2146" y="643"/>
                </a:cubicBezTo>
                <a:cubicBezTo>
                  <a:pt x="2154" y="632"/>
                  <a:pt x="2156" y="614"/>
                  <a:pt x="2169" y="609"/>
                </a:cubicBezTo>
                <a:cubicBezTo>
                  <a:pt x="2229" y="585"/>
                  <a:pt x="2297" y="594"/>
                  <a:pt x="2361" y="587"/>
                </a:cubicBezTo>
                <a:cubicBezTo>
                  <a:pt x="2410" y="591"/>
                  <a:pt x="2460" y="589"/>
                  <a:pt x="2508" y="598"/>
                </a:cubicBezTo>
                <a:cubicBezTo>
                  <a:pt x="2565" y="609"/>
                  <a:pt x="2527" y="662"/>
                  <a:pt x="2587" y="666"/>
                </a:cubicBezTo>
                <a:cubicBezTo>
                  <a:pt x="2700" y="673"/>
                  <a:pt x="2813" y="673"/>
                  <a:pt x="2926" y="677"/>
                </a:cubicBezTo>
                <a:cubicBezTo>
                  <a:pt x="3008" y="705"/>
                  <a:pt x="2970" y="694"/>
                  <a:pt x="3038" y="711"/>
                </a:cubicBezTo>
                <a:cubicBezTo>
                  <a:pt x="3092" y="748"/>
                  <a:pt x="3147" y="747"/>
                  <a:pt x="3208" y="767"/>
                </a:cubicBezTo>
                <a:cubicBezTo>
                  <a:pt x="3215" y="778"/>
                  <a:pt x="3224" y="789"/>
                  <a:pt x="3230" y="801"/>
                </a:cubicBezTo>
                <a:cubicBezTo>
                  <a:pt x="3235" y="812"/>
                  <a:pt x="3233" y="827"/>
                  <a:pt x="3242" y="835"/>
                </a:cubicBezTo>
                <a:cubicBezTo>
                  <a:pt x="3261" y="854"/>
                  <a:pt x="3310" y="880"/>
                  <a:pt x="3310" y="880"/>
                </a:cubicBezTo>
                <a:cubicBezTo>
                  <a:pt x="3339" y="968"/>
                  <a:pt x="3296" y="867"/>
                  <a:pt x="3355" y="926"/>
                </a:cubicBezTo>
                <a:cubicBezTo>
                  <a:pt x="3416" y="987"/>
                  <a:pt x="3308" y="938"/>
                  <a:pt x="3400" y="971"/>
                </a:cubicBezTo>
                <a:cubicBezTo>
                  <a:pt x="3442" y="1036"/>
                  <a:pt x="3468" y="1005"/>
                  <a:pt x="3535" y="1027"/>
                </a:cubicBezTo>
                <a:cubicBezTo>
                  <a:pt x="3546" y="1035"/>
                  <a:pt x="3557" y="1044"/>
                  <a:pt x="3569" y="1050"/>
                </a:cubicBezTo>
                <a:cubicBezTo>
                  <a:pt x="3580" y="1055"/>
                  <a:pt x="3595" y="1053"/>
                  <a:pt x="3603" y="1061"/>
                </a:cubicBezTo>
                <a:cubicBezTo>
                  <a:pt x="3622" y="1080"/>
                  <a:pt x="3633" y="1106"/>
                  <a:pt x="3648" y="1129"/>
                </a:cubicBezTo>
                <a:cubicBezTo>
                  <a:pt x="3661" y="1149"/>
                  <a:pt x="3716" y="1151"/>
                  <a:pt x="3716" y="1151"/>
                </a:cubicBezTo>
                <a:cubicBezTo>
                  <a:pt x="3743" y="1234"/>
                  <a:pt x="3704" y="1137"/>
                  <a:pt x="3761" y="1208"/>
                </a:cubicBezTo>
                <a:cubicBezTo>
                  <a:pt x="3823" y="1285"/>
                  <a:pt x="3713" y="1202"/>
                  <a:pt x="3806" y="1264"/>
                </a:cubicBezTo>
                <a:cubicBezTo>
                  <a:pt x="3859" y="1342"/>
                  <a:pt x="3826" y="1324"/>
                  <a:pt x="3886" y="1343"/>
                </a:cubicBezTo>
                <a:cubicBezTo>
                  <a:pt x="3893" y="1354"/>
                  <a:pt x="3898" y="1368"/>
                  <a:pt x="3908" y="1377"/>
                </a:cubicBezTo>
                <a:cubicBezTo>
                  <a:pt x="3919" y="1386"/>
                  <a:pt x="3993" y="1417"/>
                  <a:pt x="4010" y="1422"/>
                </a:cubicBezTo>
                <a:cubicBezTo>
                  <a:pt x="4044" y="1445"/>
                  <a:pt x="4073" y="1454"/>
                  <a:pt x="4111" y="1468"/>
                </a:cubicBezTo>
                <a:cubicBezTo>
                  <a:pt x="4119" y="1480"/>
                  <a:pt x="4168" y="1562"/>
                  <a:pt x="4168" y="1490"/>
                </a:cubicBez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8120" y="4421160"/>
            <a:ext cx="1355760" cy="203400"/>
          </a:xfrm>
          <a:custGeom>
            <a:avLst/>
            <a:gdLst/>
            <a:ahLst/>
            <a:rect l="l" t="t" r="r" b="b"/>
            <a:pathLst>
              <a:path w="854" h="128">
                <a:moveTo>
                  <a:pt x="0" y="15"/>
                </a:moveTo>
                <a:cubicBezTo>
                  <a:pt x="122" y="15"/>
                  <a:pt x="614" y="0"/>
                  <a:pt x="734" y="16"/>
                </a:cubicBezTo>
                <a:cubicBezTo>
                  <a:pt x="854" y="32"/>
                  <a:pt x="793" y="94"/>
                  <a:pt x="720" y="111"/>
                </a:cubicBezTo>
                <a:cubicBezTo>
                  <a:pt x="647" y="128"/>
                  <a:pt x="406" y="126"/>
                  <a:pt x="294" y="118"/>
                </a:cubicBezTo>
                <a:cubicBezTo>
                  <a:pt x="182" y="110"/>
                  <a:pt x="99" y="74"/>
                  <a:pt x="48" y="63"/>
                </a:cubicBezTo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267080" y="4191120"/>
            <a:ext cx="228600" cy="380880"/>
          </a:xfrm>
          <a:custGeom>
            <a:avLst/>
            <a:gdLst/>
            <a:ahLst/>
            <a:rect l="l" t="t" r="r" b="b"/>
            <a:pathLst>
              <a:path w="144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  <a:lnTo>
                  <a:pt x="144" y="240"/>
                </a:lnTo>
                <a:lnTo>
                  <a:pt x="0" y="24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267080"/>
            <a:ext cx="45720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29400" y="51055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75240" y="5473800"/>
            <a:ext cx="1727280" cy="266760"/>
          </a:xfrm>
          <a:custGeom>
            <a:avLst/>
            <a:gdLst/>
            <a:ahLst/>
            <a:rect l="l" t="t" r="r" b="b"/>
            <a:pathLst>
              <a:path w="1088" h="168">
                <a:moveTo>
                  <a:pt x="352" y="8"/>
                </a:moveTo>
                <a:cubicBezTo>
                  <a:pt x="464" y="8"/>
                  <a:pt x="656" y="0"/>
                  <a:pt x="736" y="8"/>
                </a:cubicBezTo>
                <a:cubicBezTo>
                  <a:pt x="816" y="16"/>
                  <a:pt x="800" y="40"/>
                  <a:pt x="832" y="56"/>
                </a:cubicBezTo>
                <a:cubicBezTo>
                  <a:pt x="864" y="72"/>
                  <a:pt x="904" y="88"/>
                  <a:pt x="928" y="104"/>
                </a:cubicBezTo>
                <a:cubicBezTo>
                  <a:pt x="952" y="120"/>
                  <a:pt x="1088" y="144"/>
                  <a:pt x="976" y="152"/>
                </a:cubicBezTo>
                <a:cubicBezTo>
                  <a:pt x="864" y="160"/>
                  <a:pt x="392" y="168"/>
                  <a:pt x="256" y="152"/>
                </a:cubicBezTo>
                <a:cubicBezTo>
                  <a:pt x="120" y="136"/>
                  <a:pt x="200" y="72"/>
                  <a:pt x="160" y="56"/>
                </a:cubicBezTo>
                <a:cubicBezTo>
                  <a:pt x="120" y="40"/>
                  <a:pt x="32" y="64"/>
                  <a:pt x="16" y="56"/>
                </a:cubicBezTo>
                <a:cubicBezTo>
                  <a:pt x="0" y="48"/>
                  <a:pt x="0" y="16"/>
                  <a:pt x="64" y="8"/>
                </a:cubicBezTo>
                <a:cubicBezTo>
                  <a:pt x="128" y="0"/>
                  <a:pt x="240" y="8"/>
                  <a:pt x="352" y="8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29400" y="4559400"/>
            <a:ext cx="1981080" cy="164880"/>
          </a:xfrm>
          <a:custGeom>
            <a:avLst/>
            <a:gdLst/>
            <a:ahLst/>
            <a:rect l="l" t="t" r="r" b="b"/>
            <a:pathLst>
              <a:path w="1040" h="152">
                <a:moveTo>
                  <a:pt x="0" y="152"/>
                </a:moveTo>
                <a:cubicBezTo>
                  <a:pt x="12" y="108"/>
                  <a:pt x="24" y="64"/>
                  <a:pt x="48" y="56"/>
                </a:cubicBezTo>
                <a:cubicBezTo>
                  <a:pt x="72" y="48"/>
                  <a:pt x="112" y="104"/>
                  <a:pt x="144" y="104"/>
                </a:cubicBezTo>
                <a:cubicBezTo>
                  <a:pt x="176" y="104"/>
                  <a:pt x="208" y="56"/>
                  <a:pt x="240" y="56"/>
                </a:cubicBezTo>
                <a:cubicBezTo>
                  <a:pt x="272" y="56"/>
                  <a:pt x="304" y="96"/>
                  <a:pt x="336" y="104"/>
                </a:cubicBezTo>
                <a:cubicBezTo>
                  <a:pt x="368" y="112"/>
                  <a:pt x="392" y="112"/>
                  <a:pt x="432" y="104"/>
                </a:cubicBezTo>
                <a:cubicBezTo>
                  <a:pt x="472" y="96"/>
                  <a:pt x="536" y="56"/>
                  <a:pt x="576" y="56"/>
                </a:cubicBezTo>
                <a:cubicBezTo>
                  <a:pt x="616" y="56"/>
                  <a:pt x="648" y="104"/>
                  <a:pt x="672" y="104"/>
                </a:cubicBezTo>
                <a:cubicBezTo>
                  <a:pt x="696" y="104"/>
                  <a:pt x="696" y="56"/>
                  <a:pt x="720" y="56"/>
                </a:cubicBezTo>
                <a:cubicBezTo>
                  <a:pt x="744" y="56"/>
                  <a:pt x="768" y="96"/>
                  <a:pt x="816" y="104"/>
                </a:cubicBezTo>
                <a:cubicBezTo>
                  <a:pt x="864" y="112"/>
                  <a:pt x="976" y="120"/>
                  <a:pt x="1008" y="104"/>
                </a:cubicBezTo>
                <a:cubicBezTo>
                  <a:pt x="1040" y="88"/>
                  <a:pt x="1008" y="0"/>
                  <a:pt x="1008" y="8"/>
                </a:cubicBezTo>
                <a:cubicBezTo>
                  <a:pt x="1008" y="16"/>
                  <a:pt x="1008" y="84"/>
                  <a:pt x="1008" y="152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6217400">
            <a:off x="6553080" y="25905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rot="5205600">
            <a:off x="7353000" y="1866960"/>
            <a:ext cx="1143000" cy="7621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rot="5266200">
            <a:off x="2437920" y="2361960"/>
            <a:ext cx="1143000" cy="68580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12644400">
            <a:off x="6400800" y="16761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12644400">
            <a:off x="5105520" y="990360"/>
            <a:ext cx="838080" cy="533160"/>
          </a:xfrm>
          <a:custGeom>
            <a:avLst/>
            <a:gdLst>
              <a:gd name="textAreaLeft" fmla="*/ 146520 w 838080"/>
              <a:gd name="textAreaRight" fmla="*/ 607680 w 8380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Cloud"/>
          <p:cNvSpPr/>
          <p:nvPr/>
        </p:nvSpPr>
        <p:spPr>
          <a:xfrm>
            <a:off x="4876920" y="1828800"/>
            <a:ext cx="1523880" cy="102060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rot="16217400">
            <a:off x="3885840" y="1904760"/>
            <a:ext cx="1447920" cy="685800"/>
          </a:xfrm>
          <a:custGeom>
            <a:avLst/>
            <a:gdLst>
              <a:gd name="textAreaLeft" fmla="*/ 180720 w 1447920"/>
              <a:gd name="textAreaRight" fmla="*/ 1267200 w 14479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2644400">
            <a:off x="3580920" y="990000"/>
            <a:ext cx="838440" cy="533160"/>
          </a:xfrm>
          <a:custGeom>
            <a:avLst/>
            <a:gdLst>
              <a:gd name="textAreaLeft" fmla="*/ 146520 w 838440"/>
              <a:gd name="textAreaRight" fmla="*/ 608040 w 83844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Cloud"/>
          <p:cNvSpPr/>
          <p:nvPr/>
        </p:nvSpPr>
        <p:spPr>
          <a:xfrm>
            <a:off x="1905120" y="1066680"/>
            <a:ext cx="1523880" cy="1020960"/>
          </a:xfrm>
          <a:prstGeom prst="pi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438280" y="32004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4120" y="388620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p=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15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Fsubt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20120" y="2895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P=3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36576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=4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867280" y="9907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Humedad sobre tierra= 3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5029200"/>
            <a:ext cx="312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30% ÁREA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955-FC23-44A6-8C6D-A34D0F36FB1B}" type="slidenum">
              <a:t>19</a:t>
            </a:fld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924600" y="0"/>
            <a:ext cx="2219400" cy="166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62120" y="762120"/>
            <a:ext cx="228600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14479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mpetencia entre los diversos sectores productivos por el uso del recur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2971800"/>
            <a:ext cx="78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Expansión urban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ntensificación del aprovechamiento de fuentes na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blemas de dren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uso del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1947960" cy="2590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852F-A3A5-48B1-A8AD-462119E05314}" type="slidenum">
              <a:t>2</a:t>
            </a:fld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-22860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304920"/>
            <a:ext cx="891540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Times New Roman"/>
              </a:rPr>
              <a:t>ATMÓSFERA: AGUA COMO VAPOR, SÓLIDA O LÍQU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520" y="5853240"/>
            <a:ext cx="4876560" cy="1015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43800" y="5943600"/>
            <a:ext cx="160020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OCÉ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6324480"/>
            <a:ext cx="3124080" cy="457200"/>
          </a:xfrm>
          <a:custGeom>
            <a:avLst/>
            <a:gdLst>
              <a:gd name="textAreaLeft" fmla="*/ 390240 w 3124080"/>
              <a:gd name="textAreaRight" fmla="*/ 2733840 w 31240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15000" y="609588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. sub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20" y="4419720"/>
            <a:ext cx="335268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29200" y="3505320"/>
            <a:ext cx="2666880" cy="13816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ARROYOS, LAGOS, RÍ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3352680"/>
            <a:ext cx="4267440" cy="45972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SUPERFICI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581280"/>
            <a:ext cx="1218960" cy="304920"/>
          </a:xfrm>
          <a:prstGeom prst="rightArrow">
            <a:avLst>
              <a:gd name="adj1" fmla="val 50000"/>
              <a:gd name="adj2" fmla="val 999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4343400"/>
            <a:ext cx="1676520" cy="228600"/>
          </a:xfrm>
          <a:prstGeom prst="rightArrow">
            <a:avLst>
              <a:gd name="adj1" fmla="val 50000"/>
              <a:gd name="adj2" fmla="val 183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52680" y="4724280"/>
            <a:ext cx="1524240" cy="228600"/>
          </a:xfrm>
          <a:prstGeom prst="leftArrow">
            <a:avLst>
              <a:gd name="adj1" fmla="val 50000"/>
              <a:gd name="adj2" fmla="val 16669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00400" y="4876920"/>
            <a:ext cx="228600" cy="914400"/>
          </a:xfrm>
          <a:prstGeom prst="upArrow">
            <a:avLst>
              <a:gd name="adj1" fmla="val 50000"/>
              <a:gd name="adj2" fmla="val 10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876920"/>
            <a:ext cx="304920" cy="990360"/>
          </a:xfrm>
          <a:prstGeom prst="downArrow">
            <a:avLst>
              <a:gd name="adj1" fmla="val 50000"/>
              <a:gd name="adj2" fmla="val 8119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809880"/>
            <a:ext cx="304920" cy="609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0" y="38098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685800"/>
            <a:ext cx="228600" cy="2743200"/>
          </a:xfrm>
          <a:prstGeom prst="downArrow">
            <a:avLst>
              <a:gd name="adj1" fmla="val 50000"/>
              <a:gd name="adj2" fmla="val 300000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685800"/>
            <a:ext cx="228600" cy="1676520"/>
          </a:xfrm>
          <a:prstGeom prst="downArrow">
            <a:avLst>
              <a:gd name="adj1" fmla="val 50000"/>
              <a:gd name="adj2" fmla="val 183346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8480" y="6858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733920" y="2209680"/>
            <a:ext cx="304560" cy="1143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48120" y="1752480"/>
            <a:ext cx="1676160" cy="459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VE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190512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10666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4800" y="914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362320"/>
            <a:ext cx="17528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NIEVE Y H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2209680"/>
            <a:ext cx="0" cy="114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2209680"/>
            <a:ext cx="0" cy="152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28800" y="685800"/>
            <a:ext cx="189000" cy="1650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13716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609480"/>
            <a:ext cx="152640" cy="114300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066680"/>
            <a:ext cx="609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762120"/>
            <a:ext cx="228600" cy="25653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320" y="205740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324480" y="685800"/>
            <a:ext cx="228600" cy="2895480"/>
          </a:xfrm>
          <a:prstGeom prst="downArrow">
            <a:avLst>
              <a:gd name="adj1" fmla="val 50000"/>
              <a:gd name="adj2" fmla="val 316654"/>
            </a:avLst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162920" y="685800"/>
            <a:ext cx="228600" cy="279396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763120" y="685800"/>
            <a:ext cx="304560" cy="52322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noFill/>
          <a:ln w="57240">
            <a:solidFill>
              <a:srgbClr val="cc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34320" y="19810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610480" y="2438280"/>
            <a:ext cx="38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99"/>
                </a:solidFill>
                <a:latin typeface="Verdan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1295280"/>
            <a:ext cx="380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Verdan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971800" y="3809880"/>
            <a:ext cx="152280" cy="609840"/>
          </a:xfrm>
          <a:custGeom>
            <a:avLst/>
            <a:gdLst/>
            <a:ahLst/>
            <a:rect l="l" t="t" r="r" b="b"/>
            <a:pathLst>
              <a:path w="119" h="1040">
                <a:moveTo>
                  <a:pt x="10" y="1040"/>
                </a:moveTo>
                <a:cubicBezTo>
                  <a:pt x="55" y="1024"/>
                  <a:pt x="63" y="1004"/>
                  <a:pt x="77" y="960"/>
                </a:cubicBezTo>
                <a:cubicBezTo>
                  <a:pt x="73" y="941"/>
                  <a:pt x="73" y="922"/>
                  <a:pt x="66" y="904"/>
                </a:cubicBezTo>
                <a:cubicBezTo>
                  <a:pt x="61" y="891"/>
                  <a:pt x="40" y="883"/>
                  <a:pt x="43" y="870"/>
                </a:cubicBezTo>
                <a:cubicBezTo>
                  <a:pt x="46" y="858"/>
                  <a:pt x="66" y="863"/>
                  <a:pt x="77" y="859"/>
                </a:cubicBezTo>
                <a:cubicBezTo>
                  <a:pt x="81" y="847"/>
                  <a:pt x="119" y="780"/>
                  <a:pt x="89" y="757"/>
                </a:cubicBezTo>
                <a:cubicBezTo>
                  <a:pt x="77" y="747"/>
                  <a:pt x="58" y="750"/>
                  <a:pt x="43" y="746"/>
                </a:cubicBezTo>
                <a:cubicBezTo>
                  <a:pt x="9" y="693"/>
                  <a:pt x="15" y="689"/>
                  <a:pt x="66" y="656"/>
                </a:cubicBezTo>
                <a:cubicBezTo>
                  <a:pt x="82" y="610"/>
                  <a:pt x="109" y="588"/>
                  <a:pt x="66" y="554"/>
                </a:cubicBezTo>
                <a:cubicBezTo>
                  <a:pt x="57" y="547"/>
                  <a:pt x="43" y="547"/>
                  <a:pt x="32" y="543"/>
                </a:cubicBezTo>
                <a:cubicBezTo>
                  <a:pt x="16" y="493"/>
                  <a:pt x="23" y="481"/>
                  <a:pt x="66" y="452"/>
                </a:cubicBezTo>
                <a:cubicBezTo>
                  <a:pt x="82" y="402"/>
                  <a:pt x="76" y="390"/>
                  <a:pt x="32" y="362"/>
                </a:cubicBezTo>
                <a:cubicBezTo>
                  <a:pt x="10" y="328"/>
                  <a:pt x="0" y="332"/>
                  <a:pt x="21" y="294"/>
                </a:cubicBezTo>
                <a:cubicBezTo>
                  <a:pt x="34" y="270"/>
                  <a:pt x="66" y="226"/>
                  <a:pt x="66" y="226"/>
                </a:cubicBezTo>
                <a:cubicBezTo>
                  <a:pt x="62" y="211"/>
                  <a:pt x="65" y="193"/>
                  <a:pt x="55" y="181"/>
                </a:cubicBezTo>
                <a:cubicBezTo>
                  <a:pt x="48" y="172"/>
                  <a:pt x="24" y="182"/>
                  <a:pt x="21" y="170"/>
                </a:cubicBezTo>
                <a:cubicBezTo>
                  <a:pt x="11" y="125"/>
                  <a:pt x="43" y="50"/>
                  <a:pt x="43" y="0"/>
                </a:cubicBezTo>
              </a:path>
            </a:pathLst>
          </a:custGeom>
          <a:solidFill>
            <a:srgbClr val="ff3300"/>
          </a:solidFill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In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00200" y="3886200"/>
            <a:ext cx="685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Ex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3886200"/>
            <a:ext cx="1371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281952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5105520"/>
            <a:ext cx="10670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4876920"/>
            <a:ext cx="152280" cy="990360"/>
          </a:xfrm>
          <a:prstGeom prst="downArrow">
            <a:avLst>
              <a:gd name="adj1" fmla="val 50000"/>
              <a:gd name="adj2" fmla="val 16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43800" y="4876920"/>
            <a:ext cx="152280" cy="1143000"/>
          </a:xfrm>
          <a:prstGeom prst="downArrow">
            <a:avLst>
              <a:gd name="adj1" fmla="val 50000"/>
              <a:gd name="adj2" fmla="val 18764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96080" y="5029200"/>
            <a:ext cx="1143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F s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76520" y="5029200"/>
            <a:ext cx="144756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3300"/>
                </a:solidFill>
                <a:latin typeface="Verdana"/>
              </a:rPr>
              <a:t>Ascenso Capi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181480"/>
            <a:ext cx="1219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Verdana"/>
              </a:rPr>
              <a:t>Per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3E8-F643-4E44-8E0C-146DE99B9CCD}" type="slidenum">
              <a:t>20</a:t>
            </a:fld>
          </a:p>
        </p:txBody>
      </p:sp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>
            <a:hlinkClick r:id="rId1" action="ppaction://hlinksldjump"/>
          </p:cNvPr>
          <p:cNvSpPr/>
          <p:nvPr/>
        </p:nvSpPr>
        <p:spPr>
          <a:xfrm>
            <a:off x="0" y="0"/>
            <a:ext cx="9144000" cy="708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762120"/>
            <a:ext cx="243828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Condensación de la humedad y formación de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457200" y="685800"/>
            <a:ext cx="380880" cy="337320"/>
            <a:chOff x="457200" y="685800"/>
            <a:chExt cx="380880" cy="337320"/>
          </a:xfrm>
        </p:grpSpPr>
        <p:sp>
          <p:nvSpPr>
            <p:cNvPr id="209" name=""/>
            <p:cNvSpPr/>
            <p:nvPr/>
          </p:nvSpPr>
          <p:spPr>
            <a:xfrm>
              <a:off x="457200" y="685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3160" y="68580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6781680" y="762120"/>
            <a:ext cx="1981440" cy="520200"/>
          </a:xfrm>
          <a:prstGeom prst="rect">
            <a:avLst/>
          </a:prstGeom>
          <a:solidFill>
            <a:srgbClr val="ff9933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Almacenamiento de la Humedad Atmosfé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8763120" y="609480"/>
            <a:ext cx="380880" cy="337320"/>
            <a:chOff x="8763120" y="609480"/>
            <a:chExt cx="380880" cy="337320"/>
          </a:xfrm>
        </p:grpSpPr>
        <p:sp>
          <p:nvSpPr>
            <p:cNvPr id="213" name=""/>
            <p:cNvSpPr/>
            <p:nvPr/>
          </p:nvSpPr>
          <p:spPr>
            <a:xfrm>
              <a:off x="8763120" y="6094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839080" y="6094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5" name=""/>
          <p:cNvSpPr/>
          <p:nvPr/>
        </p:nvSpPr>
        <p:spPr>
          <a:xfrm flipH="1">
            <a:off x="3200400" y="990720"/>
            <a:ext cx="3581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62520" y="762120"/>
            <a:ext cx="2133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Circulación y transferencia del  vapor de agua en la atmósf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791320" y="990720"/>
            <a:ext cx="380880" cy="304560"/>
            <a:chOff x="5791320" y="990720"/>
            <a:chExt cx="380880" cy="304560"/>
          </a:xfrm>
        </p:grpSpPr>
        <p:sp>
          <p:nvSpPr>
            <p:cNvPr id="218" name=""/>
            <p:cNvSpPr/>
            <p:nvPr/>
          </p:nvSpPr>
          <p:spPr>
            <a:xfrm>
              <a:off x="5791320" y="99072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67280" y="990720"/>
              <a:ext cx="228600" cy="2764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3399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143000" y="2057400"/>
            <a:ext cx="1219320" cy="520200"/>
          </a:xfrm>
          <a:prstGeom prst="rect">
            <a:avLst/>
          </a:prstGeom>
          <a:solidFill>
            <a:srgbClr val="ff9933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recipitación de las go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1295280"/>
            <a:ext cx="0" cy="7621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2362320"/>
            <a:ext cx="4952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7315200" y="1295280"/>
            <a:ext cx="0" cy="1067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13372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Re-evaporación de la precipi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5410080" y="2057400"/>
            <a:ext cx="380880" cy="307080"/>
            <a:chOff x="5410080" y="2057400"/>
            <a:chExt cx="380880" cy="307080"/>
          </a:xfrm>
        </p:grpSpPr>
        <p:sp>
          <p:nvSpPr>
            <p:cNvPr id="226" name=""/>
            <p:cNvSpPr/>
            <p:nvPr/>
          </p:nvSpPr>
          <p:spPr>
            <a:xfrm>
              <a:off x="5410080" y="20574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486040" y="20574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76520" y="1371600"/>
            <a:ext cx="380880" cy="307080"/>
            <a:chOff x="1676520" y="1371600"/>
            <a:chExt cx="380880" cy="307080"/>
          </a:xfrm>
        </p:grpSpPr>
        <p:sp>
          <p:nvSpPr>
            <p:cNvPr id="229" name=""/>
            <p:cNvSpPr/>
            <p:nvPr/>
          </p:nvSpPr>
          <p:spPr>
            <a:xfrm>
              <a:off x="1676520" y="13716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52480" y="13716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838080" y="1981080"/>
            <a:ext cx="380880" cy="337320"/>
            <a:chOff x="838080" y="1981080"/>
            <a:chExt cx="380880" cy="337320"/>
          </a:xfrm>
        </p:grpSpPr>
        <p:sp>
          <p:nvSpPr>
            <p:cNvPr id="232" name=""/>
            <p:cNvSpPr/>
            <p:nvPr/>
          </p:nvSpPr>
          <p:spPr>
            <a:xfrm>
              <a:off x="838080" y="198108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4040" y="1981080"/>
              <a:ext cx="228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09480" y="3733920"/>
            <a:ext cx="1295640" cy="1086840"/>
            <a:chOff x="609480" y="3733920"/>
            <a:chExt cx="1295640" cy="1086840"/>
          </a:xfrm>
        </p:grpSpPr>
        <p:sp>
          <p:nvSpPr>
            <p:cNvPr id="235" name=""/>
            <p:cNvSpPr/>
            <p:nvPr/>
          </p:nvSpPr>
          <p:spPr>
            <a:xfrm>
              <a:off x="609480" y="3733920"/>
              <a:ext cx="1295640" cy="1086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09480" y="4419720"/>
              <a:ext cx="129564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0" y="3200400"/>
            <a:ext cx="304920" cy="38088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62120" y="3429000"/>
            <a:ext cx="456840" cy="371160"/>
            <a:chOff x="762120" y="3429000"/>
            <a:chExt cx="456840" cy="371160"/>
          </a:xfrm>
        </p:grpSpPr>
        <p:sp>
          <p:nvSpPr>
            <p:cNvPr id="239" name=""/>
            <p:cNvSpPr/>
            <p:nvPr/>
          </p:nvSpPr>
          <p:spPr>
            <a:xfrm>
              <a:off x="762120" y="3429000"/>
              <a:ext cx="456840" cy="371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3200" y="342900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609480" y="5257800"/>
            <a:ext cx="13716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6095880"/>
            <a:ext cx="129528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114800" y="3886200"/>
            <a:ext cx="129528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52280" y="3352680"/>
            <a:ext cx="1981440" cy="3353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52480" y="2590920"/>
            <a:ext cx="0" cy="11430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676520" y="4648320"/>
            <a:ext cx="456840" cy="337320"/>
            <a:chOff x="1676520" y="4648320"/>
            <a:chExt cx="456840" cy="337320"/>
          </a:xfrm>
        </p:grpSpPr>
        <p:sp>
          <p:nvSpPr>
            <p:cNvPr id="248" name=""/>
            <p:cNvSpPr/>
            <p:nvPr/>
          </p:nvSpPr>
          <p:spPr>
            <a:xfrm>
              <a:off x="1676520" y="46483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767600" y="46483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752480" y="5181480"/>
            <a:ext cx="533160" cy="251280"/>
            <a:chOff x="1752480" y="5181480"/>
            <a:chExt cx="533160" cy="251280"/>
          </a:xfrm>
        </p:grpSpPr>
        <p:sp>
          <p:nvSpPr>
            <p:cNvPr id="251" name=""/>
            <p:cNvSpPr/>
            <p:nvPr/>
          </p:nvSpPr>
          <p:spPr>
            <a:xfrm>
              <a:off x="1752480" y="5181480"/>
              <a:ext cx="533160" cy="2512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58680" y="51814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752480" y="5943600"/>
            <a:ext cx="533160" cy="246240"/>
            <a:chOff x="1752480" y="5943600"/>
            <a:chExt cx="533160" cy="246240"/>
          </a:xfrm>
        </p:grpSpPr>
        <p:sp>
          <p:nvSpPr>
            <p:cNvPr id="254" name=""/>
            <p:cNvSpPr/>
            <p:nvPr/>
          </p:nvSpPr>
          <p:spPr>
            <a:xfrm>
              <a:off x="1752480" y="5943600"/>
              <a:ext cx="533160" cy="1890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858680" y="594360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9144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4479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3520" y="5715000"/>
            <a:ext cx="456840" cy="304560"/>
            <a:chOff x="533520" y="5715000"/>
            <a:chExt cx="456840" cy="304560"/>
          </a:xfrm>
        </p:grpSpPr>
        <p:sp>
          <p:nvSpPr>
            <p:cNvPr id="259" name=""/>
            <p:cNvSpPr/>
            <p:nvPr/>
          </p:nvSpPr>
          <p:spPr>
            <a:xfrm>
              <a:off x="53352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2460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905120" y="41148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905120" y="457200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0" y="1295280"/>
            <a:ext cx="5410080" cy="3276720"/>
          </a:xfrm>
          <a:custGeom>
            <a:avLst/>
            <a:gdLst/>
            <a:ahLst/>
            <a:rect l="l" t="t" r="r" b="b"/>
            <a:pathLst>
              <a:path w="3408" h="2064">
                <a:moveTo>
                  <a:pt x="0" y="2064"/>
                </a:moveTo>
                <a:lnTo>
                  <a:pt x="0" y="1296"/>
                </a:lnTo>
                <a:lnTo>
                  <a:pt x="384" y="1296"/>
                </a:lnTo>
                <a:lnTo>
                  <a:pt x="384" y="864"/>
                </a:lnTo>
                <a:lnTo>
                  <a:pt x="3408" y="864"/>
                </a:lnTo>
                <a:lnTo>
                  <a:pt x="3408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3505320"/>
            <a:ext cx="5334120" cy="114300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200400"/>
            <a:ext cx="1447560" cy="320040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5486400"/>
            <a:ext cx="15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3200400"/>
            <a:ext cx="1440" cy="22860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2720" y="3886200"/>
            <a:ext cx="1143000" cy="55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962520"/>
            <a:ext cx="1143000" cy="3985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19810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44197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352680" y="5562720"/>
            <a:ext cx="13716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19920" y="4419720"/>
            <a:ext cx="0" cy="19047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980720" y="6324480"/>
            <a:ext cx="403884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238880" y="434340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419720"/>
            <a:ext cx="0" cy="121896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1980720" y="5638680"/>
            <a:ext cx="52578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05520" y="5638680"/>
            <a:ext cx="45720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52480" y="3200400"/>
            <a:ext cx="106704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3124080"/>
            <a:ext cx="5638680" cy="457200"/>
          </a:xfrm>
          <a:custGeom>
            <a:avLst/>
            <a:gdLst/>
            <a:ahLst/>
            <a:rect l="l" t="t" r="r" b="b"/>
            <a:pathLst>
              <a:path w="3552" h="288">
                <a:moveTo>
                  <a:pt x="0" y="48"/>
                </a:moveTo>
                <a:lnTo>
                  <a:pt x="0" y="0"/>
                </a:lnTo>
                <a:lnTo>
                  <a:pt x="48" y="0"/>
                </a:lnTo>
                <a:lnTo>
                  <a:pt x="96" y="0"/>
                </a:lnTo>
                <a:lnTo>
                  <a:pt x="96" y="48"/>
                </a:lnTo>
                <a:lnTo>
                  <a:pt x="3552" y="48"/>
                </a:lnTo>
                <a:lnTo>
                  <a:pt x="3552" y="288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9600" y="3581280"/>
            <a:ext cx="914400" cy="946440"/>
          </a:xfrm>
          <a:prstGeom prst="rect">
            <a:avLst/>
          </a:prstGeom>
          <a:solidFill>
            <a:srgbClr val="ff9933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Almace-namien-to en Océa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7391520" y="1828800"/>
            <a:ext cx="380880" cy="307080"/>
            <a:chOff x="7391520" y="1828800"/>
            <a:chExt cx="380880" cy="307080"/>
          </a:xfrm>
        </p:grpSpPr>
        <p:sp>
          <p:nvSpPr>
            <p:cNvPr id="284" name=""/>
            <p:cNvSpPr/>
            <p:nvPr/>
          </p:nvSpPr>
          <p:spPr>
            <a:xfrm>
              <a:off x="7391520" y="1828800"/>
              <a:ext cx="38088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67480" y="1828800"/>
              <a:ext cx="22860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3505320" y="1295280"/>
            <a:ext cx="4724280" cy="2590920"/>
          </a:xfrm>
          <a:custGeom>
            <a:avLst/>
            <a:gdLst/>
            <a:ahLst/>
            <a:rect l="l" t="t" r="r" b="b"/>
            <a:pathLst>
              <a:path w="2976" h="1632">
                <a:moveTo>
                  <a:pt x="48" y="1632"/>
                </a:moveTo>
                <a:lnTo>
                  <a:pt x="48" y="1248"/>
                </a:lnTo>
                <a:lnTo>
                  <a:pt x="0" y="1248"/>
                </a:lnTo>
                <a:lnTo>
                  <a:pt x="0" y="1152"/>
                </a:lnTo>
                <a:lnTo>
                  <a:pt x="48" y="1152"/>
                </a:lnTo>
                <a:lnTo>
                  <a:pt x="2976" y="1152"/>
                </a:lnTo>
                <a:lnTo>
                  <a:pt x="2976" y="0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848720" y="1905120"/>
            <a:ext cx="456840" cy="307080"/>
            <a:chOff x="7848720" y="1905120"/>
            <a:chExt cx="456840" cy="307080"/>
          </a:xfrm>
        </p:grpSpPr>
        <p:sp>
          <p:nvSpPr>
            <p:cNvPr id="288" name=""/>
            <p:cNvSpPr/>
            <p:nvPr/>
          </p:nvSpPr>
          <p:spPr>
            <a:xfrm>
              <a:off x="7848720" y="190512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939800" y="190512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 flipV="1">
            <a:off x="472428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6019920" y="312372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7391520" y="3123720"/>
            <a:ext cx="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4197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91320" y="3200400"/>
            <a:ext cx="0" cy="6858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86600" y="3200400"/>
            <a:ext cx="0" cy="76212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59440" y="4572000"/>
            <a:ext cx="3322440" cy="228600"/>
          </a:xfrm>
          <a:custGeom>
            <a:avLst/>
            <a:gdLst/>
            <a:ahLst/>
            <a:rect l="l" t="t" r="r" b="b"/>
            <a:pathLst>
              <a:path w="2093" h="288">
                <a:moveTo>
                  <a:pt x="0" y="70"/>
                </a:moveTo>
                <a:cubicBezTo>
                  <a:pt x="0" y="88"/>
                  <a:pt x="0" y="106"/>
                  <a:pt x="0" y="124"/>
                </a:cubicBezTo>
                <a:lnTo>
                  <a:pt x="0" y="288"/>
                </a:lnTo>
                <a:lnTo>
                  <a:pt x="557" y="288"/>
                </a:lnTo>
                <a:lnTo>
                  <a:pt x="557" y="240"/>
                </a:lnTo>
                <a:lnTo>
                  <a:pt x="653" y="240"/>
                </a:lnTo>
                <a:lnTo>
                  <a:pt x="653" y="288"/>
                </a:lnTo>
                <a:lnTo>
                  <a:pt x="797" y="288"/>
                </a:lnTo>
                <a:lnTo>
                  <a:pt x="797" y="240"/>
                </a:lnTo>
                <a:lnTo>
                  <a:pt x="941" y="240"/>
                </a:lnTo>
                <a:lnTo>
                  <a:pt x="941" y="288"/>
                </a:lnTo>
                <a:lnTo>
                  <a:pt x="1325" y="288"/>
                </a:lnTo>
                <a:lnTo>
                  <a:pt x="1325" y="240"/>
                </a:lnTo>
                <a:lnTo>
                  <a:pt x="1421" y="240"/>
                </a:lnTo>
                <a:lnTo>
                  <a:pt x="1421" y="288"/>
                </a:lnTo>
                <a:lnTo>
                  <a:pt x="1517" y="288"/>
                </a:lnTo>
                <a:lnTo>
                  <a:pt x="1517" y="240"/>
                </a:lnTo>
                <a:lnTo>
                  <a:pt x="1629" y="241"/>
                </a:lnTo>
                <a:lnTo>
                  <a:pt x="1629" y="288"/>
                </a:lnTo>
                <a:lnTo>
                  <a:pt x="2093" y="288"/>
                </a:lnTo>
                <a:lnTo>
                  <a:pt x="2093" y="0"/>
                </a:lnTo>
              </a:path>
            </a:pathLst>
          </a:custGeom>
          <a:noFill/>
          <a:ln w="9360">
            <a:solidFill>
              <a:srgbClr val="00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4800600"/>
            <a:ext cx="22860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19920" y="6324480"/>
            <a:ext cx="15238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7543800" y="4343040"/>
            <a:ext cx="0" cy="19810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3800" y="594360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7010280" y="4343400"/>
            <a:ext cx="0" cy="45720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080" y="4191120"/>
            <a:ext cx="15264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7057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962520" y="419112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7238880" y="4343040"/>
            <a:ext cx="0" cy="30492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914400" y="480060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1447920" y="4876920"/>
            <a:ext cx="0" cy="3808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520" y="4343400"/>
            <a:ext cx="15228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457200" y="4952880"/>
            <a:ext cx="380880" cy="246240"/>
            <a:chOff x="457200" y="4952880"/>
            <a:chExt cx="380880" cy="246240"/>
          </a:xfrm>
        </p:grpSpPr>
        <p:sp>
          <p:nvSpPr>
            <p:cNvPr id="311" name=""/>
            <p:cNvSpPr/>
            <p:nvPr/>
          </p:nvSpPr>
          <p:spPr>
            <a:xfrm>
              <a:off x="457200" y="4952880"/>
              <a:ext cx="380880" cy="2289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3160" y="4952880"/>
              <a:ext cx="22860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76320" y="2895480"/>
            <a:ext cx="8076960" cy="3895920"/>
          </a:xfrm>
          <a:custGeom>
            <a:avLst/>
            <a:gdLst/>
            <a:ahLst/>
            <a:rect l="l" t="t" r="r" b="b"/>
            <a:pathLst>
              <a:path w="5088" h="2454">
                <a:moveTo>
                  <a:pt x="0" y="2448"/>
                </a:moveTo>
                <a:lnTo>
                  <a:pt x="5087" y="2454"/>
                </a:lnTo>
                <a:lnTo>
                  <a:pt x="5088" y="0"/>
                </a:lnTo>
                <a:lnTo>
                  <a:pt x="0" y="0"/>
                </a:lnTo>
                <a:lnTo>
                  <a:pt x="0" y="2448"/>
                </a:lnTo>
                <a:close/>
              </a:path>
            </a:pathLst>
          </a:custGeom>
          <a:noFill/>
          <a:ln w="381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4038480"/>
            <a:ext cx="1522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>
            <a:hlinkClick r:id="rId2" action="ppaction://hlinksldjump"/>
          </p:cNvPr>
          <p:cNvSpPr/>
          <p:nvPr/>
        </p:nvSpPr>
        <p:spPr>
          <a:xfrm>
            <a:off x="2743200" y="4572000"/>
            <a:ext cx="152280" cy="2286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219320" y="3200400"/>
            <a:ext cx="3808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8610480" y="3352680"/>
            <a:ext cx="533160" cy="268560"/>
            <a:chOff x="8610480" y="3352680"/>
            <a:chExt cx="533160" cy="268560"/>
          </a:xfrm>
        </p:grpSpPr>
        <p:sp>
          <p:nvSpPr>
            <p:cNvPr id="318" name=""/>
            <p:cNvSpPr/>
            <p:nvPr/>
          </p:nvSpPr>
          <p:spPr>
            <a:xfrm>
              <a:off x="8610480" y="3352680"/>
              <a:ext cx="533160" cy="268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716680" y="3352680"/>
              <a:ext cx="32004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8001000" y="6553080"/>
            <a:ext cx="380880" cy="304920"/>
          </a:xfrm>
          <a:prstGeom prst="smileyFace">
            <a:avLst>
              <a:gd name="adj" fmla="val 9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F3C0-CD79-4B16-9998-E36BA81036D1}" type="slidenum">
              <a:t>21</a:t>
            </a:fld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95280" y="480060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Zonas no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82880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048120" y="5638680"/>
            <a:ext cx="0" cy="4572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981080" y="5715000"/>
            <a:ext cx="456840" cy="304560"/>
            <a:chOff x="1981080" y="5715000"/>
            <a:chExt cx="456840" cy="304560"/>
          </a:xfrm>
        </p:grpSpPr>
        <p:sp>
          <p:nvSpPr>
            <p:cNvPr id="326" name=""/>
            <p:cNvSpPr/>
            <p:nvPr/>
          </p:nvSpPr>
          <p:spPr>
            <a:xfrm>
              <a:off x="1981080" y="5715000"/>
              <a:ext cx="456840" cy="3045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72160" y="5715000"/>
              <a:ext cx="274320" cy="246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3399"/>
                  </a:solidFill>
                  <a:latin typeface="Times New Roman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838080" y="3352680"/>
            <a:ext cx="457200" cy="1905120"/>
          </a:xfrm>
          <a:custGeom>
            <a:avLst/>
            <a:gdLst/>
            <a:ahLst/>
            <a:rect l="l" t="t" r="r" b="b"/>
            <a:pathLst>
              <a:path w="96" h="1200">
                <a:moveTo>
                  <a:pt x="96" y="1200"/>
                </a:moveTo>
                <a:lnTo>
                  <a:pt x="0" y="1200"/>
                </a:lnTo>
                <a:lnTo>
                  <a:pt x="0" y="0"/>
                </a:lnTo>
                <a:lnTo>
                  <a:pt x="48" y="0"/>
                </a:lnTo>
              </a:path>
            </a:pathLst>
          </a:custGeom>
          <a:noFill/>
          <a:ln w="9360">
            <a:solidFill>
              <a:srgbClr val="00cc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066680" y="2655720"/>
            <a:ext cx="2590560" cy="1437840"/>
            <a:chOff x="1066680" y="2655720"/>
            <a:chExt cx="2590560" cy="1437840"/>
          </a:xfrm>
        </p:grpSpPr>
        <p:sp>
          <p:nvSpPr>
            <p:cNvPr id="330" name=""/>
            <p:cNvSpPr/>
            <p:nvPr/>
          </p:nvSpPr>
          <p:spPr>
            <a:xfrm>
              <a:off x="1066680" y="2655720"/>
              <a:ext cx="2590560" cy="143784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Intercepción de la vegetación y Almacenamiento en Follaj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Almacenamiento en Zona de raíc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66680" y="3609360"/>
              <a:ext cx="2590560" cy="0"/>
            </a:xfrm>
            <a:prstGeom prst="line">
              <a:avLst/>
            </a:prstGeom>
            <a:ln cap="rnd" w="9360">
              <a:solidFill>
                <a:srgbClr val="3333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2971800" y="2666880"/>
            <a:ext cx="913680" cy="515520"/>
            <a:chOff x="2971800" y="2666880"/>
            <a:chExt cx="913680" cy="515520"/>
          </a:xfrm>
        </p:grpSpPr>
        <p:sp>
          <p:nvSpPr>
            <p:cNvPr id="333" name=""/>
            <p:cNvSpPr/>
            <p:nvPr/>
          </p:nvSpPr>
          <p:spPr>
            <a:xfrm>
              <a:off x="2971800" y="2666880"/>
              <a:ext cx="913680" cy="515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153960" y="266688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1219320" y="6095880"/>
            <a:ext cx="2590560" cy="5806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Zonas Satur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352680" y="1066680"/>
            <a:ext cx="0" cy="1589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8120" y="2057400"/>
            <a:ext cx="609120" cy="337320"/>
            <a:chOff x="3048120" y="2057400"/>
            <a:chExt cx="609120" cy="337320"/>
          </a:xfrm>
        </p:grpSpPr>
        <p:sp>
          <p:nvSpPr>
            <p:cNvPr id="338" name=""/>
            <p:cNvSpPr/>
            <p:nvPr/>
          </p:nvSpPr>
          <p:spPr>
            <a:xfrm>
              <a:off x="3048120" y="2057400"/>
              <a:ext cx="609120" cy="3175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159720" y="2057400"/>
              <a:ext cx="38556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048120" y="3886200"/>
            <a:ext cx="913680" cy="423360"/>
            <a:chOff x="3048120" y="3886200"/>
            <a:chExt cx="913680" cy="423360"/>
          </a:xfrm>
        </p:grpSpPr>
        <p:sp>
          <p:nvSpPr>
            <p:cNvPr id="341" name=""/>
            <p:cNvSpPr/>
            <p:nvPr/>
          </p:nvSpPr>
          <p:spPr>
            <a:xfrm>
              <a:off x="3048120" y="3886200"/>
              <a:ext cx="91368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230280" y="3886200"/>
              <a:ext cx="55260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895480" y="4800600"/>
            <a:ext cx="685440" cy="347400"/>
            <a:chOff x="2895480" y="4800600"/>
            <a:chExt cx="685440" cy="347400"/>
          </a:xfrm>
        </p:grpSpPr>
        <p:sp>
          <p:nvSpPr>
            <p:cNvPr id="344" name=""/>
            <p:cNvSpPr/>
            <p:nvPr/>
          </p:nvSpPr>
          <p:spPr>
            <a:xfrm>
              <a:off x="2895480" y="4800600"/>
              <a:ext cx="685440" cy="3474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031920" y="48006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1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3200400" y="6508800"/>
            <a:ext cx="685440" cy="348840"/>
            <a:chOff x="3200400" y="6508800"/>
            <a:chExt cx="685440" cy="348840"/>
          </a:xfrm>
        </p:grpSpPr>
        <p:sp>
          <p:nvSpPr>
            <p:cNvPr id="347" name=""/>
            <p:cNvSpPr/>
            <p:nvPr/>
          </p:nvSpPr>
          <p:spPr>
            <a:xfrm>
              <a:off x="3200400" y="6508800"/>
              <a:ext cx="685440" cy="3488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336840" y="6508800"/>
              <a:ext cx="4111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1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3657600" y="318456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657600" y="381960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419720" y="1447920"/>
            <a:ext cx="685800" cy="2371680"/>
          </a:xfrm>
          <a:custGeom>
            <a:avLst/>
            <a:gdLst/>
            <a:ahLst/>
            <a:rect l="l" t="t" r="r" b="b"/>
            <a:pathLst>
              <a:path w="1116" h="1200">
                <a:moveTo>
                  <a:pt x="0" y="1200"/>
                </a:moveTo>
                <a:lnTo>
                  <a:pt x="0" y="432"/>
                </a:lnTo>
                <a:lnTo>
                  <a:pt x="384" y="432"/>
                </a:lnTo>
                <a:lnTo>
                  <a:pt x="384" y="0"/>
                </a:lnTo>
                <a:lnTo>
                  <a:pt x="1116" y="3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" y="1914480"/>
            <a:ext cx="2895480" cy="4446720"/>
          </a:xfrm>
          <a:custGeom>
            <a:avLst/>
            <a:gdLst/>
            <a:ahLst/>
            <a:rect l="l" t="t" r="r" b="b"/>
            <a:pathLst>
              <a:path w="912" h="2016">
                <a:moveTo>
                  <a:pt x="912" y="0"/>
                </a:moveTo>
                <a:lnTo>
                  <a:pt x="3" y="2"/>
                </a:lnTo>
                <a:lnTo>
                  <a:pt x="0" y="2013"/>
                </a:lnTo>
                <a:lnTo>
                  <a:pt x="249" y="2016"/>
                </a:ln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85800" y="1905120"/>
            <a:ext cx="0" cy="35049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200400" y="5257800"/>
            <a:ext cx="990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3809880" y="6477120"/>
            <a:ext cx="106704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3809520" y="61722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5029200" y="1295280"/>
            <a:ext cx="456840" cy="423720"/>
            <a:chOff x="5029200" y="1295280"/>
            <a:chExt cx="456840" cy="423720"/>
          </a:xfrm>
        </p:grpSpPr>
        <p:sp>
          <p:nvSpPr>
            <p:cNvPr id="358" name=""/>
            <p:cNvSpPr/>
            <p:nvPr/>
          </p:nvSpPr>
          <p:spPr>
            <a:xfrm>
              <a:off x="5029200" y="1295280"/>
              <a:ext cx="456840" cy="4237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20280" y="1295280"/>
              <a:ext cx="27432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2133720"/>
            <a:ext cx="456840" cy="423360"/>
            <a:chOff x="533520" y="2133720"/>
            <a:chExt cx="456840" cy="423360"/>
          </a:xfrm>
        </p:grpSpPr>
        <p:sp>
          <p:nvSpPr>
            <p:cNvPr id="361" name=""/>
            <p:cNvSpPr/>
            <p:nvPr/>
          </p:nvSpPr>
          <p:spPr>
            <a:xfrm>
              <a:off x="533520" y="2133720"/>
              <a:ext cx="45684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600" y="2133720"/>
              <a:ext cx="27432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228600" y="5791320"/>
            <a:ext cx="533160" cy="423360"/>
            <a:chOff x="228600" y="5791320"/>
            <a:chExt cx="533160" cy="423360"/>
          </a:xfrm>
        </p:grpSpPr>
        <p:sp>
          <p:nvSpPr>
            <p:cNvPr id="364" name=""/>
            <p:cNvSpPr/>
            <p:nvPr/>
          </p:nvSpPr>
          <p:spPr>
            <a:xfrm>
              <a:off x="228600" y="5791320"/>
              <a:ext cx="533160" cy="423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37320" y="5791320"/>
              <a:ext cx="320040" cy="3373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99"/>
                  </a:solidFill>
                  <a:latin typeface="Times New Roman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676520" y="4137120"/>
            <a:ext cx="0" cy="6364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743200" y="4114800"/>
            <a:ext cx="0" cy="6588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295280" y="4267080"/>
            <a:ext cx="533160" cy="317160"/>
            <a:chOff x="1295280" y="4267080"/>
            <a:chExt cx="533160" cy="317160"/>
          </a:xfrm>
        </p:grpSpPr>
        <p:sp>
          <p:nvSpPr>
            <p:cNvPr id="369" name=""/>
            <p:cNvSpPr/>
            <p:nvPr/>
          </p:nvSpPr>
          <p:spPr>
            <a:xfrm>
              <a:off x="1295280" y="42670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401480" y="42670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4114800" y="6324480"/>
            <a:ext cx="533160" cy="317160"/>
            <a:chOff x="4114800" y="6324480"/>
            <a:chExt cx="533160" cy="317160"/>
          </a:xfrm>
        </p:grpSpPr>
        <p:sp>
          <p:nvSpPr>
            <p:cNvPr id="372" name=""/>
            <p:cNvSpPr/>
            <p:nvPr/>
          </p:nvSpPr>
          <p:spPr>
            <a:xfrm>
              <a:off x="4114800" y="63244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21000" y="63244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4952880" y="6095880"/>
            <a:ext cx="533160" cy="317160"/>
            <a:chOff x="4952880" y="6095880"/>
            <a:chExt cx="533160" cy="317160"/>
          </a:xfrm>
        </p:grpSpPr>
        <p:sp>
          <p:nvSpPr>
            <p:cNvPr id="375" name=""/>
            <p:cNvSpPr/>
            <p:nvPr/>
          </p:nvSpPr>
          <p:spPr>
            <a:xfrm>
              <a:off x="4952880" y="609588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59080" y="609588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114800" y="5105520"/>
            <a:ext cx="533160" cy="317160"/>
            <a:chOff x="4114800" y="5105520"/>
            <a:chExt cx="533160" cy="317160"/>
          </a:xfrm>
        </p:grpSpPr>
        <p:sp>
          <p:nvSpPr>
            <p:cNvPr id="378" name=""/>
            <p:cNvSpPr/>
            <p:nvPr/>
          </p:nvSpPr>
          <p:spPr>
            <a:xfrm>
              <a:off x="4114800" y="51055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221000" y="51055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 flipH="1">
            <a:off x="3200040" y="5486400"/>
            <a:ext cx="2057400" cy="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257800" y="5334120"/>
            <a:ext cx="533160" cy="317160"/>
            <a:chOff x="5257800" y="5334120"/>
            <a:chExt cx="533160" cy="317160"/>
          </a:xfrm>
        </p:grpSpPr>
        <p:sp>
          <p:nvSpPr>
            <p:cNvPr id="382" name=""/>
            <p:cNvSpPr/>
            <p:nvPr/>
          </p:nvSpPr>
          <p:spPr>
            <a:xfrm>
              <a:off x="5257800" y="5334120"/>
              <a:ext cx="533160" cy="3171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364000" y="5334120"/>
              <a:ext cx="320040" cy="3070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99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685800" y="5410080"/>
            <a:ext cx="609480" cy="0"/>
          </a:xfrm>
          <a:prstGeom prst="line">
            <a:avLst/>
          </a:prstGeom>
          <a:ln w="936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15000" y="5335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C: Flujo de Pp hacia vege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172200" y="1066680"/>
            <a:ext cx="251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E: Flujo de Pp a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715000" y="1828800"/>
            <a:ext cx="2666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F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_tradnl" sz="1400" spc="-1" strike="noStrike">
                <a:solidFill>
                  <a:srgbClr val="003399"/>
                </a:solidFill>
                <a:latin typeface="Times New Roman"/>
              </a:rPr>
              <a:t> Flujo de Pp a zonas saturadas y embalse subterrán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638680" y="2666880"/>
            <a:ext cx="28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P: Evaporación desde el follaje y evapotranspi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181480" y="3352680"/>
            <a:ext cx="304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T: Flujo de agua entre Zona No saturada y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403848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U: Flujo de agua entre Zona de raíces y zona no satu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4800600"/>
            <a:ext cx="228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V: Infiltración desde escorrentía super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51680" y="557388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W, X: Infiltración desde lag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05400" y="6031080"/>
            <a:ext cx="245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Z: Intercambio con e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previousslide"/>
          </p:cNvPr>
          <p:cNvSpPr/>
          <p:nvPr/>
        </p:nvSpPr>
        <p:spPr>
          <a:xfrm>
            <a:off x="8381880" y="66294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148B-E02D-4E95-A9BA-A077510281E9}" type="slidenum">
              <a:t>22</a:t>
            </a:fld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0" y="1600200"/>
            <a:ext cx="9144000" cy="441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28600" y="2895480"/>
            <a:ext cx="190512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Depresiones Superfic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00400" y="2666880"/>
            <a:ext cx="129528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Retención temporal de la escorrentía superfi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34120" y="2666880"/>
            <a:ext cx="1143000" cy="13107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Lagos, embals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391520" y="3048120"/>
            <a:ext cx="1143000" cy="82404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Almacenamiento en los cau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18288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1600200"/>
            <a:ext cx="0" cy="10666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620120" y="1981080"/>
            <a:ext cx="0" cy="10670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143000" y="3809880"/>
            <a:ext cx="0" cy="10670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962520"/>
            <a:ext cx="0" cy="91440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638680" y="3962520"/>
            <a:ext cx="0" cy="16761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772400" y="3886200"/>
            <a:ext cx="0" cy="121932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133720" y="3276720"/>
            <a:ext cx="106668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495680" y="3352680"/>
            <a:ext cx="83844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676520" y="1741320"/>
            <a:ext cx="6611760" cy="1154160"/>
          </a:xfrm>
          <a:custGeom>
            <a:avLst/>
            <a:gdLst/>
            <a:ahLst/>
            <a:rect l="l" t="t" r="r" b="b"/>
            <a:pathLst>
              <a:path w="4165" h="727">
                <a:moveTo>
                  <a:pt x="0" y="727"/>
                </a:moveTo>
                <a:lnTo>
                  <a:pt x="0" y="103"/>
                </a:lnTo>
                <a:lnTo>
                  <a:pt x="4146" y="101"/>
                </a:lnTo>
                <a:lnTo>
                  <a:pt x="4165" y="0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41148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172200" y="1905120"/>
            <a:ext cx="0" cy="7617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8077320" y="1904760"/>
            <a:ext cx="0" cy="1143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14479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1523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91520" y="213372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914400" y="19051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80880" y="46483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85440" y="4876920"/>
            <a:ext cx="29718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267080" y="4038480"/>
            <a:ext cx="0" cy="3812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839080" y="41148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5880" y="3962520"/>
            <a:ext cx="0" cy="114300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333760" y="5105520"/>
            <a:ext cx="243828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9200" y="495288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76920" y="548640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1880" y="38862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5334120" y="5638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4419720"/>
            <a:ext cx="4572000" cy="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7620120" y="3886200"/>
            <a:ext cx="0" cy="5335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924680" y="1447920"/>
            <a:ext cx="3812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3429000"/>
            <a:ext cx="91440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590920" y="312408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0060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781680" y="327672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3429000"/>
            <a:ext cx="38088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191120" y="3200400"/>
            <a:ext cx="3045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248520" y="3733920"/>
            <a:ext cx="2286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534520" y="373392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839080" y="3429000"/>
            <a:ext cx="3049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153280" y="2819520"/>
            <a:ext cx="4572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228600"/>
            <a:ext cx="5029200" cy="33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Times New Roman"/>
              </a:rPr>
              <a:t>G, H, I, J: Flujo de Pp a elementos de almacen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520" y="762120"/>
            <a:ext cx="7010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 M,V,Y: Agua almacenada temporalmente como escorrentía superficial (8) puede escurrir hacia depresiones superficiales, lagos, zonas no saturadas, cauces u océanos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400800" y="228600"/>
            <a:ext cx="2743200" cy="9464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L,V: Agua almacenada en Depresiones Superficiales (7) puede incorporarse a escorrentía superficial o zonas n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8600" y="6019920"/>
            <a:ext cx="525780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X, W:Agua almacenada en Lagos (9) y cauces (10) puede incorporarse a Zonas No saturadas o satu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62720" y="5867280"/>
            <a:ext cx="3581280" cy="520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00"/>
                </a:solidFill>
                <a:latin typeface="Times New Roman"/>
              </a:rPr>
              <a:t>O: Agua almacenada en los cauces (10) puede incorporarse al Océa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rId1" action="ppaction://hlinksldjump"/>
          </p:cNvPr>
          <p:cNvSpPr/>
          <p:nvPr/>
        </p:nvSpPr>
        <p:spPr>
          <a:xfrm>
            <a:off x="8305920" y="64771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10800"/>
                </a:moveTo>
                <a:lnTo>
                  <a:pt x="22120" y="3794"/>
                </a:lnTo>
                <a:lnTo>
                  <a:pt x="22120" y="17806"/>
                </a:lnTo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86F-3E5A-498A-BBE9-C4B6A66A201E}" type="slidenum">
              <a:t>23</a:t>
            </a:fld>
          </a:p>
        </p:txBody>
      </p:sp>
    </p:spTree>
  </p:cSld>
  <p:transition spd="slow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457200" y="1143000"/>
            <a:ext cx="8381880" cy="7038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bstracción: se considera sólo aquellos elementos del ciclo que son posibles de cuant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7312200">
            <a:off x="4342680" y="1828440"/>
            <a:ext cx="685800" cy="762120"/>
          </a:xfrm>
          <a:custGeom>
            <a:avLst/>
            <a:gdLst>
              <a:gd name="textAreaLeft" fmla="*/ 85680 w 685800"/>
              <a:gd name="textAreaRight" fmla="*/ 600120 w 685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828800" y="2666880"/>
            <a:ext cx="396252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124080" y="4495680"/>
            <a:ext cx="2819520" cy="2022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OCESOS CIC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DE ESCORRENT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143000" y="4648320"/>
            <a:ext cx="1828800" cy="457200"/>
            <a:chOff x="1143000" y="4648320"/>
            <a:chExt cx="1828800" cy="457200"/>
          </a:xfrm>
        </p:grpSpPr>
        <p:sp>
          <p:nvSpPr>
            <p:cNvPr id="453" name=""/>
            <p:cNvSpPr/>
            <p:nvPr/>
          </p:nvSpPr>
          <p:spPr>
            <a:xfrm>
              <a:off x="1143000" y="4648320"/>
              <a:ext cx="1828800" cy="457200"/>
            </a:xfrm>
            <a:custGeom>
              <a:avLst/>
              <a:gdLst>
                <a:gd name="textAreaLeft" fmla="*/ 285480 w 1828800"/>
                <a:gd name="textAreaRight" fmla="*/ 1600200 w 18288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3880" y="472428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ecipi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5" name=""/>
          <p:cNvGrpSpPr/>
          <p:nvPr/>
        </p:nvGrpSpPr>
        <p:grpSpPr>
          <a:xfrm>
            <a:off x="762120" y="5257800"/>
            <a:ext cx="2361960" cy="533520"/>
            <a:chOff x="762120" y="5257800"/>
            <a:chExt cx="2361960" cy="533520"/>
          </a:xfrm>
        </p:grpSpPr>
        <p:sp>
          <p:nvSpPr>
            <p:cNvPr id="456" name=""/>
            <p:cNvSpPr/>
            <p:nvPr/>
          </p:nvSpPr>
          <p:spPr>
            <a:xfrm>
              <a:off x="762120" y="5257800"/>
              <a:ext cx="2361960" cy="533520"/>
            </a:xfrm>
            <a:custGeom>
              <a:avLst/>
              <a:gdLst>
                <a:gd name="textAreaLeft" fmla="*/ 369000 w 2361960"/>
                <a:gd name="textAreaRight" fmla="*/ 2066760 w 236196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95280" y="541008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3300"/>
                  </a:solidFill>
                  <a:latin typeface="Times New Roman"/>
                </a:rPr>
                <a:t>Radiación Sol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533520" y="5867280"/>
            <a:ext cx="2514600" cy="457200"/>
            <a:chOff x="533520" y="5867280"/>
            <a:chExt cx="2514600" cy="457200"/>
          </a:xfrm>
        </p:grpSpPr>
        <p:sp>
          <p:nvSpPr>
            <p:cNvPr id="459" name=""/>
            <p:cNvSpPr/>
            <p:nvPr/>
          </p:nvSpPr>
          <p:spPr>
            <a:xfrm>
              <a:off x="533520" y="5867280"/>
              <a:ext cx="2514600" cy="4572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23880" y="5943600"/>
              <a:ext cx="114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Graved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5943600" y="4419720"/>
            <a:ext cx="2590920" cy="761760"/>
            <a:chOff x="5943600" y="4419720"/>
            <a:chExt cx="2590920" cy="761760"/>
          </a:xfrm>
        </p:grpSpPr>
        <p:sp>
          <p:nvSpPr>
            <p:cNvPr id="462" name=""/>
            <p:cNvSpPr/>
            <p:nvPr/>
          </p:nvSpPr>
          <p:spPr>
            <a:xfrm>
              <a:off x="5943600" y="4419720"/>
              <a:ext cx="2590920" cy="761760"/>
            </a:xfrm>
            <a:custGeom>
              <a:avLst/>
              <a:gdLst>
                <a:gd name="textAreaLeft" fmla="*/ 404640 w 2590920"/>
                <a:gd name="textAreaRight" fmla="*/ 2267280 w 2590920"/>
                <a:gd name="textAreaTop" fmla="*/ 190440 h 761760"/>
                <a:gd name="textAreaBottom" fmla="*/ 571320 h 76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53080" y="4572000"/>
              <a:ext cx="1828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Evaporación y Evapotranspir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5943600" y="5257800"/>
            <a:ext cx="2514600" cy="685800"/>
            <a:chOff x="5943600" y="5257800"/>
            <a:chExt cx="2514600" cy="685800"/>
          </a:xfrm>
        </p:grpSpPr>
        <p:sp>
          <p:nvSpPr>
            <p:cNvPr id="465" name=""/>
            <p:cNvSpPr/>
            <p:nvPr/>
          </p:nvSpPr>
          <p:spPr>
            <a:xfrm>
              <a:off x="5943600" y="5257800"/>
              <a:ext cx="2514600" cy="685800"/>
            </a:xfrm>
            <a:custGeom>
              <a:avLst/>
              <a:gdLst>
                <a:gd name="textAreaLeft" fmla="*/ 392760 w 2514600"/>
                <a:gd name="textAreaRight" fmla="*/ 2200320 w 2514600"/>
                <a:gd name="textAreaTop" fmla="*/ 171360 h 685800"/>
                <a:gd name="textAreaBottom" fmla="*/ 51444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9933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24480" y="5410080"/>
              <a:ext cx="2057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3333cc"/>
                  </a:solidFill>
                  <a:latin typeface="Times New Roman"/>
                </a:rPr>
                <a:t>Escorrentía Superfic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7" name=""/>
          <p:cNvGrpSpPr/>
          <p:nvPr/>
        </p:nvGrpSpPr>
        <p:grpSpPr>
          <a:xfrm>
            <a:off x="6019920" y="5867280"/>
            <a:ext cx="2819160" cy="762120"/>
            <a:chOff x="6019920" y="5867280"/>
            <a:chExt cx="2819160" cy="762120"/>
          </a:xfrm>
        </p:grpSpPr>
        <p:sp>
          <p:nvSpPr>
            <p:cNvPr id="468" name=""/>
            <p:cNvSpPr/>
            <p:nvPr/>
          </p:nvSpPr>
          <p:spPr>
            <a:xfrm>
              <a:off x="6019920" y="5867280"/>
              <a:ext cx="2819160" cy="762120"/>
            </a:xfrm>
            <a:custGeom>
              <a:avLst/>
              <a:gdLst>
                <a:gd name="textAreaLeft" fmla="*/ 440280 w 2819160"/>
                <a:gd name="textAreaRight" fmla="*/ 2467080 w 2819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3399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53080" y="6095880"/>
              <a:ext cx="221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00"/>
                  </a:solidFill>
                  <a:latin typeface="Times New Roman"/>
                </a:rPr>
                <a:t>Escorrentía Subterráne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60B-398D-4C10-A971-E30C749A1BE9}" type="slidenum">
              <a:t>24</a:t>
            </a:fld>
          </a:p>
        </p:txBody>
      </p:sp>
    </p:spTree>
  </p:cSld>
  <p:transition spd="slow">
    <p:randomBa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685800" y="533520"/>
            <a:ext cx="7924680" cy="19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: Estructura, mecanismo, esquema o procedimiento (real o abstracto) que relaciona en el tiempo y espacio, una causa entrada o estímulo de materia, energía o información, con un efecto salida, o respuesta de información, energía o mate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01000" y="2133720"/>
            <a:ext cx="914400" cy="1143000"/>
          </a:xfrm>
          <a:custGeom>
            <a:avLst/>
            <a:gdLst>
              <a:gd name="textAreaLeft" fmla="*/ 122400 w 914400"/>
              <a:gd name="textAreaRight" fmla="*/ 792000 w 91440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3733920" y="2971800"/>
            <a:ext cx="426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e elige subsistema a estud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590920" y="4724280"/>
            <a:ext cx="3124080" cy="82548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SISTEMA HIDRO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600200" y="4952880"/>
            <a:ext cx="990720" cy="457200"/>
          </a:xfrm>
          <a:custGeom>
            <a:avLst/>
            <a:gdLst>
              <a:gd name="textAreaLeft" fmla="*/ 123840 w 990720"/>
              <a:gd name="textAreaRight" fmla="*/ 866880 w 9907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867280" y="5029200"/>
            <a:ext cx="990720" cy="533520"/>
          </a:xfrm>
          <a:custGeom>
            <a:avLst/>
            <a:gdLst>
              <a:gd name="textAreaLeft" fmla="*/ 12384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5374800">
            <a:off x="3962160" y="411480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5335800">
            <a:off x="3733200" y="5714640"/>
            <a:ext cx="609480" cy="609480"/>
          </a:xfrm>
          <a:custGeom>
            <a:avLst/>
            <a:gdLst>
              <a:gd name="textAreaLeft" fmla="*/ 75960 w 609480"/>
              <a:gd name="textAreaRight" fmla="*/ 533520 w 6094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52280" y="50292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Estím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010280" y="5105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Resp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048120" y="3733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Ley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514600" y="6400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Naturaleza y estado del Sist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97B-36B3-4993-A293-77E7947F2E8B}" type="slidenum">
              <a:t>25</a:t>
            </a:fld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905120" y="762120"/>
            <a:ext cx="2286000" cy="1143000"/>
          </a:xfrm>
          <a:custGeom>
            <a:avLst/>
            <a:gdLst>
              <a:gd name="textAreaLeft" fmla="*/ 285480 w 2286000"/>
              <a:gd name="textAreaRight" fmla="*/ 2000520 w 22860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12193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Verdana"/>
              </a:rPr>
              <a:t>Análisis de Sist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5326800">
            <a:off x="3124080" y="2514600"/>
            <a:ext cx="1600200" cy="1828800"/>
          </a:xfrm>
          <a:custGeom>
            <a:avLst/>
            <a:gdLst>
              <a:gd name="textAreaLeft" fmla="*/ 199800 w 1600200"/>
              <a:gd name="textAreaRight" fmla="*/ 1400400 w 160020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181480" y="27432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Verdana"/>
              </a:rPr>
              <a:t>Hidrología Fí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2F2-CFEC-4537-865D-01C09910CBBC}" type="slidenum">
              <a:t>26</a:t>
            </a:fld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1219320" y="762120"/>
            <a:ext cx="70866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rebuchet MS"/>
              </a:rPr>
              <a:t>CUENCA</a:t>
            </a:r>
            <a:r>
              <a:rPr b="1" lang="es-ES_tradnl" sz="2400" spc="-1" strike="noStrike">
                <a:solidFill>
                  <a:srgbClr val="3333cc"/>
                </a:solidFill>
                <a:latin typeface="Trebuchet MS"/>
              </a:rPr>
              <a:t>: UNIDAD BÁSICA, DEFINIDA TOPOGRÁFICAMENTE Y DRENADA POR UN SISTEMA DE CAUCES SUPERFICIALES DE TAL MANERA QUE TODA LA ESCORRENTÍA QUE SE GENERA  EN LA SUPERFICIE ENCERRADA POR LA LÍNEA DIVISORIA DE LAS AGUAS, SE DESCARGA A TRAVÉS DE UNA SALIDA ÚNICA E IDENTIFI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B3AF-6A6E-465F-900A-95A2692C1CB0}" type="slidenum">
              <a:t>27</a:t>
            </a:fld>
          </a:p>
        </p:txBody>
      </p:sp>
    </p:spTree>
  </p:cSld>
  <p:transition spd="slow">
    <p:randomBa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cuenca" descr=""/>
          <p:cNvPicPr/>
          <p:nvPr/>
        </p:nvPicPr>
        <p:blipFill>
          <a:blip r:embed="rId1"/>
          <a:stretch/>
        </p:blipFill>
        <p:spPr>
          <a:xfrm>
            <a:off x="228600" y="795240"/>
            <a:ext cx="8915400" cy="457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DD5E-025F-4EA2-A488-ACFD2CC40B05}" type="slidenum">
              <a:t>28</a:t>
            </a:fld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/>
          <p:nvPr/>
        </p:nvSpPr>
        <p:spPr>
          <a:xfrm>
            <a:off x="2133720" y="291960"/>
            <a:ext cx="5638680" cy="4623120"/>
          </a:xfrm>
          <a:custGeom>
            <a:avLst/>
            <a:gdLst/>
            <a:ahLst/>
            <a:rect l="l" t="t" r="r" b="b"/>
            <a:pathLst>
              <a:path w="3552" h="2912">
                <a:moveTo>
                  <a:pt x="0" y="2552"/>
                </a:moveTo>
                <a:cubicBezTo>
                  <a:pt x="60" y="2536"/>
                  <a:pt x="120" y="2520"/>
                  <a:pt x="192" y="2552"/>
                </a:cubicBezTo>
                <a:cubicBezTo>
                  <a:pt x="264" y="2584"/>
                  <a:pt x="344" y="2688"/>
                  <a:pt x="432" y="2744"/>
                </a:cubicBezTo>
                <a:cubicBezTo>
                  <a:pt x="520" y="2800"/>
                  <a:pt x="584" y="2864"/>
                  <a:pt x="720" y="2888"/>
                </a:cubicBezTo>
                <a:cubicBezTo>
                  <a:pt x="856" y="2912"/>
                  <a:pt x="1104" y="2904"/>
                  <a:pt x="1248" y="2888"/>
                </a:cubicBezTo>
                <a:cubicBezTo>
                  <a:pt x="1392" y="2872"/>
                  <a:pt x="1336" y="2832"/>
                  <a:pt x="1584" y="2792"/>
                </a:cubicBezTo>
                <a:cubicBezTo>
                  <a:pt x="1832" y="2752"/>
                  <a:pt x="2496" y="2744"/>
                  <a:pt x="2736" y="2648"/>
                </a:cubicBezTo>
                <a:cubicBezTo>
                  <a:pt x="2976" y="2552"/>
                  <a:pt x="2928" y="2392"/>
                  <a:pt x="3024" y="2216"/>
                </a:cubicBezTo>
                <a:cubicBezTo>
                  <a:pt x="3120" y="2040"/>
                  <a:pt x="3240" y="1816"/>
                  <a:pt x="3312" y="1592"/>
                </a:cubicBezTo>
                <a:cubicBezTo>
                  <a:pt x="3384" y="1368"/>
                  <a:pt x="3424" y="1072"/>
                  <a:pt x="3456" y="872"/>
                </a:cubicBezTo>
                <a:cubicBezTo>
                  <a:pt x="3488" y="672"/>
                  <a:pt x="3552" y="480"/>
                  <a:pt x="3504" y="392"/>
                </a:cubicBezTo>
                <a:cubicBezTo>
                  <a:pt x="3456" y="304"/>
                  <a:pt x="3312" y="360"/>
                  <a:pt x="3168" y="344"/>
                </a:cubicBezTo>
                <a:cubicBezTo>
                  <a:pt x="3024" y="328"/>
                  <a:pt x="2816" y="328"/>
                  <a:pt x="2640" y="296"/>
                </a:cubicBezTo>
                <a:cubicBezTo>
                  <a:pt x="2464" y="264"/>
                  <a:pt x="2224" y="192"/>
                  <a:pt x="2112" y="152"/>
                </a:cubicBezTo>
                <a:cubicBezTo>
                  <a:pt x="2000" y="112"/>
                  <a:pt x="2120" y="64"/>
                  <a:pt x="1968" y="56"/>
                </a:cubicBezTo>
                <a:cubicBezTo>
                  <a:pt x="1816" y="48"/>
                  <a:pt x="1312" y="0"/>
                  <a:pt x="1200" y="104"/>
                </a:cubicBezTo>
                <a:cubicBezTo>
                  <a:pt x="1088" y="208"/>
                  <a:pt x="1280" y="528"/>
                  <a:pt x="1296" y="680"/>
                </a:cubicBezTo>
                <a:cubicBezTo>
                  <a:pt x="1312" y="832"/>
                  <a:pt x="1376" y="856"/>
                  <a:pt x="1296" y="1016"/>
                </a:cubicBezTo>
                <a:cubicBezTo>
                  <a:pt x="1216" y="1176"/>
                  <a:pt x="960" y="1464"/>
                  <a:pt x="816" y="1640"/>
                </a:cubicBezTo>
                <a:cubicBezTo>
                  <a:pt x="672" y="1816"/>
                  <a:pt x="560" y="1928"/>
                  <a:pt x="432" y="2072"/>
                </a:cubicBezTo>
                <a:cubicBezTo>
                  <a:pt x="304" y="2216"/>
                  <a:pt x="176" y="2360"/>
                  <a:pt x="48" y="2504"/>
                </a:cubicBez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133720" y="1295280"/>
            <a:ext cx="2552760" cy="3048120"/>
          </a:xfrm>
          <a:custGeom>
            <a:avLst/>
            <a:gdLst/>
            <a:ahLst/>
            <a:rect l="l" t="t" r="r" b="b"/>
            <a:pathLst>
              <a:path w="1608" h="1920">
                <a:moveTo>
                  <a:pt x="1584" y="0"/>
                </a:moveTo>
                <a:cubicBezTo>
                  <a:pt x="1596" y="248"/>
                  <a:pt x="1608" y="496"/>
                  <a:pt x="1584" y="624"/>
                </a:cubicBezTo>
                <a:cubicBezTo>
                  <a:pt x="1560" y="752"/>
                  <a:pt x="1496" y="680"/>
                  <a:pt x="1440" y="768"/>
                </a:cubicBezTo>
                <a:cubicBezTo>
                  <a:pt x="1384" y="856"/>
                  <a:pt x="1312" y="1056"/>
                  <a:pt x="1248" y="1152"/>
                </a:cubicBezTo>
                <a:cubicBezTo>
                  <a:pt x="1184" y="1248"/>
                  <a:pt x="1160" y="1280"/>
                  <a:pt x="1056" y="1344"/>
                </a:cubicBezTo>
                <a:cubicBezTo>
                  <a:pt x="952" y="1408"/>
                  <a:pt x="800" y="1440"/>
                  <a:pt x="624" y="1536"/>
                </a:cubicBezTo>
                <a:cubicBezTo>
                  <a:pt x="448" y="1632"/>
                  <a:pt x="224" y="1776"/>
                  <a:pt x="0" y="192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38480" y="1523880"/>
            <a:ext cx="2286000" cy="175284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1440" y="0"/>
                </a:moveTo>
                <a:cubicBezTo>
                  <a:pt x="1360" y="52"/>
                  <a:pt x="1280" y="104"/>
                  <a:pt x="1248" y="192"/>
                </a:cubicBezTo>
                <a:cubicBezTo>
                  <a:pt x="1216" y="280"/>
                  <a:pt x="1376" y="408"/>
                  <a:pt x="1248" y="528"/>
                </a:cubicBezTo>
                <a:cubicBezTo>
                  <a:pt x="1120" y="648"/>
                  <a:pt x="688" y="816"/>
                  <a:pt x="480" y="912"/>
                </a:cubicBezTo>
                <a:cubicBezTo>
                  <a:pt x="272" y="1008"/>
                  <a:pt x="136" y="1056"/>
                  <a:pt x="0" y="11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648320" y="14479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286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724280" y="3048120"/>
            <a:ext cx="838440" cy="1155600"/>
          </a:xfrm>
          <a:custGeom>
            <a:avLst/>
            <a:gdLst/>
            <a:ahLst/>
            <a:rect l="l" t="t" r="r" b="b"/>
            <a:pathLst>
              <a:path w="528" h="728">
                <a:moveTo>
                  <a:pt x="0" y="0"/>
                </a:moveTo>
                <a:cubicBezTo>
                  <a:pt x="104" y="24"/>
                  <a:pt x="208" y="48"/>
                  <a:pt x="240" y="96"/>
                </a:cubicBezTo>
                <a:cubicBezTo>
                  <a:pt x="272" y="144"/>
                  <a:pt x="160" y="192"/>
                  <a:pt x="192" y="288"/>
                </a:cubicBezTo>
                <a:cubicBezTo>
                  <a:pt x="224" y="384"/>
                  <a:pt x="376" y="616"/>
                  <a:pt x="432" y="672"/>
                </a:cubicBezTo>
                <a:cubicBezTo>
                  <a:pt x="488" y="728"/>
                  <a:pt x="508" y="676"/>
                  <a:pt x="528" y="624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57800" y="37339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91120" y="3276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429000" y="37339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80880" y="54100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ff"/>
                </a:solidFill>
                <a:latin typeface="Trebuchet MS"/>
              </a:rPr>
              <a:t>Tiempo de concentración: tiempo que demora en alcanzar la salida la partícula de agua que cae en el punto más al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587-1BA2-4B9B-8BFB-E7A8C7836850}" type="slidenum">
              <a:t>29</a:t>
            </a:fld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HIDROLOGIA participa en la solución de estos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219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Búsqueda de nuevos y mejores conocimientos sobre la distribución, existencia y comportamiento del agua en la 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7091400">
            <a:off x="4190760" y="2514240"/>
            <a:ext cx="990360" cy="6858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3352680"/>
            <a:ext cx="5943600" cy="825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VALUACION Y UTILIZACION EFICIENTE DEL RECUR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4648320"/>
            <a:ext cx="7010280" cy="1557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Aporte de antecedentes para el diseño óptimo y seguro de las obras hidráulicas necesarias para un aprovechamiento del recurso acorde a necesidades actuales y FUTU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962520"/>
            <a:ext cx="2062080" cy="15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858-8012-4312-B0AB-0653DF8BFDBD}" type="slidenum">
              <a:t>3</a:t>
            </a:fld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1362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457200"/>
            <a:ext cx="7543800" cy="247896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idrología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es la ciencia que tiene relación con el agu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IAH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Asociación Internacional de Ciencias Hidrológicas : Ciencia de la Tierra y parte de la Geografía Física, por cuanto trata principalmente con el agua en la corteza terres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3581280"/>
            <a:ext cx="8610480" cy="2288520"/>
          </a:xfrm>
          <a:prstGeom prst="rect">
            <a:avLst/>
          </a:prstGeom>
          <a:noFill/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Mead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04): "la ciencia del agua que constituye la base de todos los problemas de ingeniería hidráulica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Horto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31): "como una ciencia pura, la Hidrología trata de la existencia, distribución y circulación del agua dentro y sobre las capas superficiales de la corteza terrestr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CA9C-AB5C-400C-AAB1-51588093334C}" type="slidenum">
              <a:t>4</a:t>
            </a:fld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3816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609480"/>
            <a:ext cx="8153280" cy="52146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Dicc. Merriam-Webster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1): "Hidrología es la ciencia que trata de las propiedades, distribución, existencia y circulación del agua; específicamente, el estudio del agua en la superficie de la tierra, en el suelo, estratos rocosos y en la atmósfera, particularmente en relación con los procesos de evaporación y precipitación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Consejo Federal para la Ciencia y la Tecnología de E.E.U.U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1962) "La Hidrología es la ciencia que trata de las aguas de la Tierra, su existencia, circulación y distribución, sus propiedades físicas, químicas y sus reacciones con el medio ambiente, incluyendo su relación con los organismos vivos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117-6506-45F6-9257-EDF12AB465E4}" type="slidenum">
              <a:t>5</a:t>
            </a:fld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66680" y="914400"/>
            <a:ext cx="716292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Meteorología, Climatología, Geografía Física, Geología, Geomorfología, Oceanografía, Limnología,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3049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ciencias de la tier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8080" y="4648320"/>
            <a:ext cx="7162920" cy="155700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gronomía, Mecánica y Física de Suelos, Hidráulica y Mecánica de Fluidos, Estadística Matemática, Análisis Matemático, Análisis de Sistemas y la Ingenierí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280" y="35053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Relacionada con disciplin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19920" y="2438280"/>
            <a:ext cx="2628720" cy="188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A9D-CE8D-4970-815F-09D18C11D922}" type="slidenum">
              <a:t>6</a:t>
            </a:fld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inundacion%201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6019560" cy="1765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762120" y="0"/>
            <a:ext cx="7315200" cy="119124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Verdana"/>
              </a:rPr>
              <a:t>principal aplicación de la Hidrología es a la Ingeniería en general y a la Ingeniería Hidráulica en parti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124080"/>
            <a:ext cx="8305920" cy="33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Análisis y estudios hidrológicos relacionados por ejemplo con: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caudales medios disponible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(diarios, mensuales, anuales),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magnitud y distribución en el tiempo y el espacio de las crecidas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, previsión de caudales a corto y mediano plazo, </a:t>
            </a:r>
            <a:r>
              <a:rPr b="0" lang="es-CL" sz="2400" spc="-1" strike="noStrike">
                <a:solidFill>
                  <a:srgbClr val="ff0000"/>
                </a:solidFill>
                <a:latin typeface="Verdana"/>
              </a:rPr>
              <a:t>estimación y métodos de control de la evaporación y evapotranspirac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, determinación de caudales subterráneos e identificación de zonas de recarga de agua subterránea y su respectiva magnitud, etc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457200"/>
            <a:ext cx="457200" cy="2514600"/>
          </a:xfrm>
          <a:custGeom>
            <a:avLst/>
            <a:gdLst>
              <a:gd name="textAreaLeft" fmla="*/ 61200 w 457200"/>
              <a:gd name="textAreaRight" fmla="*/ 396000 w 457200"/>
              <a:gd name="textAreaTop" fmla="*/ 439920 h 2514600"/>
              <a:gd name="textAreaBottom" fmla="*/ 182304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924680" y="6553080"/>
            <a:ext cx="1219320" cy="304920"/>
          </a:xfrm>
          <a:custGeom>
            <a:avLst/>
            <a:gdLst>
              <a:gd name="textAreaLeft" fmla="*/ 152280 w 1219320"/>
              <a:gd name="textAreaRight" fmla="*/ 1067040 w 12193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3BD00-F874-4836-BDB9-C3312F5A720E}" type="slidenum">
              <a:t>7</a:t>
            </a:fld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4920" y="4513320"/>
            <a:ext cx="8839080" cy="1983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diseño y dimensionamiento de obras hidráulicas (o de obras civiles afectadas por el agua como caminos, puentes, puertos, algunos edificios, etc.) establecer sus condiciones de construcción, operación y explotación, y conocer y elegir la </a:t>
            </a:r>
            <a:r>
              <a:rPr b="0" i="1" lang="es-CL" sz="2800" spc="-1" strike="noStrike">
                <a:solidFill>
                  <a:srgbClr val="ccecff"/>
                </a:solidFill>
                <a:latin typeface="Verdana"/>
              </a:rPr>
              <a:t>seguridad hidrológica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oxb_small%20embalse" descr=""/>
          <p:cNvPicPr/>
          <p:nvPr/>
        </p:nvPicPr>
        <p:blipFill>
          <a:blip r:embed="rId1"/>
          <a:stretch/>
        </p:blipFill>
        <p:spPr>
          <a:xfrm>
            <a:off x="4267080" y="1295280"/>
            <a:ext cx="4267440" cy="28148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33520" y="228600"/>
            <a:ext cx="3504960" cy="250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4FE2-4EF1-4E08-89CF-F2FDB7EC0108}" type="slidenum">
              <a:t>8</a:t>
            </a:fld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80880" y="1066680"/>
            <a:ext cx="8534520" cy="41173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recursos hídricos de una hoya hidrográfica o reg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; son ellos adecuados en cuanto a su distribución espacial, temporal y grado de probabilidad de ocurrencia, para permitir el desarrollo agrícola, urbano e industrial de la zon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¿</a:t>
            </a:r>
            <a:r>
              <a:rPr b="1" lang="es-CL" sz="2400" spc="-1" strike="noStrike">
                <a:solidFill>
                  <a:srgbClr val="ff0000"/>
                </a:solidFill>
                <a:latin typeface="Verdana"/>
              </a:rPr>
              <a:t>Cuáles son los factores y características hidrológicas de una región</a:t>
            </a:r>
            <a:r>
              <a:rPr b="0" lang="es-CL" sz="2400" spc="-1" strike="noStrike">
                <a:solidFill>
                  <a:srgbClr val="000066"/>
                </a:solidFill>
                <a:latin typeface="Verdana"/>
              </a:rPr>
              <a:t> que determinan y posibilitan la evaluación económica, el diseño, construcción, operación y mantención de obras de aprovechamiento, control y evacuación de los recursos de agua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CI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9664-14BC-43A9-B892-9AB0353ED7B9}" type="slidenum">
              <a:t>9</a:t>
            </a:fld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4T16:09:08Z</dcterms:created>
  <dc:creator>Ximena Vargas</dc:creator>
  <dc:description/>
  <dc:language>en-US</dc:language>
  <cp:lastModifiedBy>xv</cp:lastModifiedBy>
  <dcterms:modified xsi:type="dcterms:W3CDTF">2006-03-07T16:05:49Z</dcterms:modified>
  <cp:revision>13</cp:revision>
  <dc:subject/>
  <dc:title>Sin título de diapositiva</dc:title>
</cp:coreProperties>
</file>