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176-0EE8-4783-A798-F4B8D3C0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953-E54B-42CA-AC1B-0514C461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A09-D627-418D-9AA6-92DD48BA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0BA-0B18-4413-8942-929F1B1C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245-08AC-4ACB-BBCE-155B2A15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260-4DB2-4E97-8044-C209DDF2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EC1-1598-4D62-AE3E-9CCC8D79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DC7-5783-4864-96C3-4D4676D6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E04E-10DD-457A-9C84-7852FFAD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482-4AA9-4F68-B4C1-BAB498BA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E83E-E555-48A8-B0C6-E54184CA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E15-2255-47E4-941E-43AA5582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659E-F903-404B-AE22-815381686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4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41148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erdana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28800"/>
            <a:ext cx="7010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l agua es uno de los recursos naturales mas preciados por el homb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ital para la existencia de vida en l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segura desarrollo social y económico    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e los pueb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464832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umento de la dema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ayor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ejor calidad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8640" y="152280"/>
            <a:ext cx="2295360" cy="34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C65-2AF0-4D33-8665-A1D9FACB07D5}" type="slidenum">
              <a:t>1</a:t>
            </a:fld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762120"/>
            <a:ext cx="8736120" cy="50392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uáles son los efectos físicos, económicos, legales y de calidad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de ciertos cambios en el uso de la tierra (re o deforestación, obras de riego y drenaje, urbanización, explotación intensiva de acuíferos) y sus efectos en la circulación y disponibilidad de agua en la región considera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Qué tipos de obras hidráulicas y qué característica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deben tener, para aprovechar los recursos de agua económicamente disponibles y para satisfacer demandas competitivas en el tiempo y en el espacio y en cantidad y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3AE-4A5E-47C6-B1C8-0BB546CEC3CE}" type="slidenum">
              <a:t>10</a:t>
            </a:fld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6858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CAMPOS Y METODO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        </a:t>
            </a: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ESTUDIO E INVESTIGACION HIDR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743200"/>
            <a:ext cx="7467480" cy="247896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iclo hidrológico: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idealización del movimiento, distribución y circulación del agua en la Tierra, entre la atmósfera-litósfera-hidrósfera y nuevamente a la atmósf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816-A548-4AA0-AAE0-D8D9049360D1}" type="slidenum">
              <a:t>11</a:t>
            </a:fld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89040" y="609480"/>
            <a:ext cx="3494160" cy="99072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UDIO D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975040"/>
            <a:ext cx="3639960" cy="1216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HIDROLOGÍA FÍSICA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Fenómenos Componentes del ciclo hidrológico y sus interrel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2080" y="2975040"/>
            <a:ext cx="3786120" cy="21304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INVESTIGACIÓN DE SISTEMAS HIDROLÓGICOS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Determinación de las relaciones de "entrada y salida" de los sistemas hidrológicos para la reconstitución y predicción de series y procesos hidrológ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0656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6560" y="2147760"/>
            <a:ext cx="4659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604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FFC-3E0C-44D8-9A86-8ADD0330C73F}" type="slidenum">
              <a:t>12</a:t>
            </a:fld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52480" y="2881440"/>
            <a:ext cx="2011320" cy="1736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Meteor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Climat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Transferencias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nerg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Física de Sue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Agronom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Bio-Sistem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c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Hidráulica de Cuenc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8120" y="2259000"/>
            <a:ext cx="1554120" cy="6397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ARAMÉTRICA O DETERMIN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19720" y="2982960"/>
            <a:ext cx="1646280" cy="458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ROBABIL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52480" y="152280"/>
            <a:ext cx="4938840" cy="1729080"/>
            <a:chOff x="1752480" y="152280"/>
            <a:chExt cx="4938840" cy="1729080"/>
          </a:xfrm>
        </p:grpSpPr>
        <p:sp>
          <p:nvSpPr>
            <p:cNvPr id="90" name=""/>
            <p:cNvSpPr/>
            <p:nvPr/>
          </p:nvSpPr>
          <p:spPr>
            <a:xfrm>
              <a:off x="3216240" y="152280"/>
              <a:ext cx="1919160" cy="54936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ESTUDIO DEL CICLO  HIDROLÓGI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1149480"/>
              <a:ext cx="1828800" cy="3664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HIDROLOGÍA FÍSI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8200" y="1149480"/>
              <a:ext cx="2013120" cy="731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Verdana"/>
                </a:rPr>
                <a:t>INVESTIGACIÓN DE SISTEMAS HIDROLÓG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30640" y="692280"/>
              <a:ext cx="0" cy="274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6880" y="968400"/>
              <a:ext cx="2925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9260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759040" y="1533600"/>
            <a:ext cx="0" cy="13604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84760" y="1895400"/>
            <a:ext cx="0" cy="182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8200" y="2074680"/>
            <a:ext cx="0" cy="183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78200" y="2077920"/>
            <a:ext cx="1463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41960" y="207792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801960" y="4857840"/>
            <a:ext cx="914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5040" y="5315040"/>
            <a:ext cx="2103480" cy="100476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ANALISIS DE REGRE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SINTESIS GRAL.SIST. SINTESIS PARCIAL CON ANALISIS LINEAL ANALISIS NO LINE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3200" y="5315040"/>
            <a:ext cx="228600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FRECUENCIA ANALISIS ESPEC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ETODOS DE MONTE CAR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ODELOS AR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INCERTIDUMB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TEORIA DE DECIS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0120" y="3486240"/>
            <a:ext cx="0" cy="1828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1960" y="48578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2936880"/>
            <a:ext cx="0" cy="1920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571500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257800"/>
            <a:ext cx="1828800" cy="9169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Reconstruir o predecir series hidrolo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09800">
            <a:off x="7238880" y="487656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886200"/>
            <a:ext cx="205740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edecir y simular comportamiento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909F-7E98-4883-ACE4-FB38AC2440AD}" type="slidenum">
              <a:t>13</a:t>
            </a:fld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990720"/>
            <a:ext cx="7772400" cy="50392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Los diferentes enfoques y métodos hidrológicos tienen claras diferencias entre sí, pero todos ellos comparten dos importantes 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u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ependencia de los dato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y los registros históricos de los valores de los parámetros y variables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b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e basan en la hipótesis de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nvarianci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n el tiempo de los sistemas hidr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BBB-EB41-472A-8E37-7F56A3282511}" type="slidenum">
              <a:t>14</a:t>
            </a:fld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533520"/>
            <a:ext cx="3657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SPECTOS LE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Consuntivos y No Consu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Permanentes y Ev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RECHOS DE AGUA son entregados en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4197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En CHILE de la VIII Región al norte las aguas superficiales han sido entregadas en su totalidad y también las aguas subterráneas en muchas cue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6095880"/>
            <a:ext cx="74674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os derechos de agua se pueden tra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7D1-B846-4C48-8497-7CA5E7225C13}" type="slidenum">
              <a:t>15</a:t>
            </a:fld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457200"/>
            <a:ext cx="4114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LANCE HIDR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295280"/>
            <a:ext cx="7391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Hidrología estudia y evalúa científicamente cada una de las partes y las interrelaciones de los distintos procesos que componen 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200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iclo Hidrológico es un proceso continuo desde punto de vista global pero localmente contiene elementos de azar y variaciones no continuas (ejemplo: precip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C00-7C3D-4A62-8F96-6AB8265E0602}" type="slidenum">
              <a:t>16</a:t>
            </a:fld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iclo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74160" cy="53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908-893B-4E8A-BD2E-4D34502FC508}" type="slidenum">
              <a:t>17</a:t>
            </a:fld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1676520"/>
            <a:ext cx="8839080" cy="3736800"/>
            <a:chOff x="0" y="1676520"/>
            <a:chExt cx="8839080" cy="3736800"/>
          </a:xfrm>
        </p:grpSpPr>
        <p:pic>
          <p:nvPicPr>
            <p:cNvPr id="124" name="Detention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883908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14400" y="1676520"/>
              <a:ext cx="34290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Detención superfi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6680" y="2057400"/>
              <a:ext cx="34290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Almacenamiento superfi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3124080"/>
              <a:ext cx="838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Verdana"/>
                </a:rPr>
                <a:t>Ca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2666880"/>
              <a:ext cx="24382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Verdana"/>
                </a:rPr>
                <a:t>Planicies inund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3200400"/>
              <a:ext cx="7621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Verdana"/>
                </a:rPr>
                <a:t>L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9720" y="3124080"/>
              <a:ext cx="10666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Pant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17C6-C69E-4CA3-915D-44B0EE428FB9}" type="slidenum">
              <a:t>18</a:t>
            </a:fld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838080"/>
            <a:ext cx="800100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62240" y="3317760"/>
            <a:ext cx="6715080" cy="2549520"/>
          </a:xfrm>
          <a:custGeom>
            <a:avLst/>
            <a:gdLst/>
            <a:ahLst/>
            <a:rect l="l" t="t" r="r" b="b"/>
            <a:pathLst>
              <a:path w="4168" h="1562">
                <a:moveTo>
                  <a:pt x="0" y="304"/>
                </a:moveTo>
                <a:cubicBezTo>
                  <a:pt x="30" y="260"/>
                  <a:pt x="23" y="245"/>
                  <a:pt x="68" y="214"/>
                </a:cubicBezTo>
                <a:cubicBezTo>
                  <a:pt x="86" y="159"/>
                  <a:pt x="119" y="119"/>
                  <a:pt x="158" y="78"/>
                </a:cubicBezTo>
                <a:cubicBezTo>
                  <a:pt x="162" y="67"/>
                  <a:pt x="162" y="53"/>
                  <a:pt x="170" y="45"/>
                </a:cubicBezTo>
                <a:cubicBezTo>
                  <a:pt x="200" y="16"/>
                  <a:pt x="252" y="46"/>
                  <a:pt x="283" y="56"/>
                </a:cubicBezTo>
                <a:cubicBezTo>
                  <a:pt x="319" y="166"/>
                  <a:pt x="259" y="0"/>
                  <a:pt x="328" y="124"/>
                </a:cubicBezTo>
                <a:cubicBezTo>
                  <a:pt x="339" y="145"/>
                  <a:pt x="337" y="172"/>
                  <a:pt x="350" y="191"/>
                </a:cubicBezTo>
                <a:cubicBezTo>
                  <a:pt x="381" y="236"/>
                  <a:pt x="411" y="282"/>
                  <a:pt x="441" y="327"/>
                </a:cubicBezTo>
                <a:cubicBezTo>
                  <a:pt x="443" y="329"/>
                  <a:pt x="484" y="393"/>
                  <a:pt x="486" y="395"/>
                </a:cubicBezTo>
                <a:cubicBezTo>
                  <a:pt x="497" y="402"/>
                  <a:pt x="510" y="408"/>
                  <a:pt x="520" y="417"/>
                </a:cubicBezTo>
                <a:cubicBezTo>
                  <a:pt x="532" y="427"/>
                  <a:pt x="540" y="443"/>
                  <a:pt x="554" y="451"/>
                </a:cubicBezTo>
                <a:cubicBezTo>
                  <a:pt x="602" y="478"/>
                  <a:pt x="680" y="493"/>
                  <a:pt x="734" y="508"/>
                </a:cubicBezTo>
                <a:cubicBezTo>
                  <a:pt x="764" y="516"/>
                  <a:pt x="825" y="530"/>
                  <a:pt x="825" y="530"/>
                </a:cubicBezTo>
                <a:cubicBezTo>
                  <a:pt x="840" y="538"/>
                  <a:pt x="854" y="547"/>
                  <a:pt x="870" y="553"/>
                </a:cubicBezTo>
                <a:cubicBezTo>
                  <a:pt x="892" y="562"/>
                  <a:pt x="938" y="575"/>
                  <a:pt x="938" y="575"/>
                </a:cubicBezTo>
                <a:cubicBezTo>
                  <a:pt x="990" y="653"/>
                  <a:pt x="957" y="635"/>
                  <a:pt x="1017" y="654"/>
                </a:cubicBezTo>
                <a:cubicBezTo>
                  <a:pt x="1078" y="748"/>
                  <a:pt x="998" y="639"/>
                  <a:pt x="1073" y="700"/>
                </a:cubicBezTo>
                <a:cubicBezTo>
                  <a:pt x="1134" y="749"/>
                  <a:pt x="1055" y="723"/>
                  <a:pt x="1130" y="756"/>
                </a:cubicBezTo>
                <a:cubicBezTo>
                  <a:pt x="1259" y="813"/>
                  <a:pt x="1427" y="806"/>
                  <a:pt x="1559" y="813"/>
                </a:cubicBezTo>
                <a:cubicBezTo>
                  <a:pt x="1671" y="804"/>
                  <a:pt x="1766" y="786"/>
                  <a:pt x="1875" y="767"/>
                </a:cubicBezTo>
                <a:cubicBezTo>
                  <a:pt x="1879" y="756"/>
                  <a:pt x="1877" y="741"/>
                  <a:pt x="1886" y="734"/>
                </a:cubicBezTo>
                <a:cubicBezTo>
                  <a:pt x="1915" y="713"/>
                  <a:pt x="1989" y="705"/>
                  <a:pt x="2022" y="700"/>
                </a:cubicBezTo>
                <a:cubicBezTo>
                  <a:pt x="2063" y="672"/>
                  <a:pt x="2105" y="671"/>
                  <a:pt x="2146" y="643"/>
                </a:cubicBezTo>
                <a:cubicBezTo>
                  <a:pt x="2154" y="632"/>
                  <a:pt x="2156" y="614"/>
                  <a:pt x="2169" y="609"/>
                </a:cubicBezTo>
                <a:cubicBezTo>
                  <a:pt x="2229" y="585"/>
                  <a:pt x="2297" y="594"/>
                  <a:pt x="2361" y="587"/>
                </a:cubicBezTo>
                <a:cubicBezTo>
                  <a:pt x="2410" y="591"/>
                  <a:pt x="2460" y="589"/>
                  <a:pt x="2508" y="598"/>
                </a:cubicBezTo>
                <a:cubicBezTo>
                  <a:pt x="2565" y="609"/>
                  <a:pt x="2527" y="662"/>
                  <a:pt x="2587" y="666"/>
                </a:cubicBezTo>
                <a:cubicBezTo>
                  <a:pt x="2700" y="673"/>
                  <a:pt x="2813" y="673"/>
                  <a:pt x="2926" y="677"/>
                </a:cubicBezTo>
                <a:cubicBezTo>
                  <a:pt x="3008" y="705"/>
                  <a:pt x="2970" y="694"/>
                  <a:pt x="3038" y="711"/>
                </a:cubicBezTo>
                <a:cubicBezTo>
                  <a:pt x="3092" y="748"/>
                  <a:pt x="3147" y="747"/>
                  <a:pt x="3208" y="767"/>
                </a:cubicBezTo>
                <a:cubicBezTo>
                  <a:pt x="3215" y="778"/>
                  <a:pt x="3224" y="789"/>
                  <a:pt x="3230" y="801"/>
                </a:cubicBezTo>
                <a:cubicBezTo>
                  <a:pt x="3235" y="812"/>
                  <a:pt x="3233" y="827"/>
                  <a:pt x="3242" y="835"/>
                </a:cubicBezTo>
                <a:cubicBezTo>
                  <a:pt x="3261" y="854"/>
                  <a:pt x="3310" y="880"/>
                  <a:pt x="3310" y="880"/>
                </a:cubicBezTo>
                <a:cubicBezTo>
                  <a:pt x="3339" y="968"/>
                  <a:pt x="3296" y="867"/>
                  <a:pt x="3355" y="926"/>
                </a:cubicBezTo>
                <a:cubicBezTo>
                  <a:pt x="3416" y="987"/>
                  <a:pt x="3308" y="938"/>
                  <a:pt x="3400" y="971"/>
                </a:cubicBezTo>
                <a:cubicBezTo>
                  <a:pt x="3442" y="1036"/>
                  <a:pt x="3468" y="1005"/>
                  <a:pt x="3535" y="1027"/>
                </a:cubicBezTo>
                <a:cubicBezTo>
                  <a:pt x="3546" y="1035"/>
                  <a:pt x="3557" y="1044"/>
                  <a:pt x="3569" y="1050"/>
                </a:cubicBezTo>
                <a:cubicBezTo>
                  <a:pt x="3580" y="1055"/>
                  <a:pt x="3595" y="1053"/>
                  <a:pt x="3603" y="1061"/>
                </a:cubicBezTo>
                <a:cubicBezTo>
                  <a:pt x="3622" y="1080"/>
                  <a:pt x="3633" y="1106"/>
                  <a:pt x="3648" y="1129"/>
                </a:cubicBezTo>
                <a:cubicBezTo>
                  <a:pt x="3661" y="1149"/>
                  <a:pt x="3716" y="1151"/>
                  <a:pt x="3716" y="1151"/>
                </a:cubicBezTo>
                <a:cubicBezTo>
                  <a:pt x="3743" y="1234"/>
                  <a:pt x="3704" y="1137"/>
                  <a:pt x="3761" y="1208"/>
                </a:cubicBezTo>
                <a:cubicBezTo>
                  <a:pt x="3823" y="1285"/>
                  <a:pt x="3713" y="1202"/>
                  <a:pt x="3806" y="1264"/>
                </a:cubicBezTo>
                <a:cubicBezTo>
                  <a:pt x="3859" y="1342"/>
                  <a:pt x="3826" y="1324"/>
                  <a:pt x="3886" y="1343"/>
                </a:cubicBezTo>
                <a:cubicBezTo>
                  <a:pt x="3893" y="1354"/>
                  <a:pt x="3898" y="1368"/>
                  <a:pt x="3908" y="1377"/>
                </a:cubicBezTo>
                <a:cubicBezTo>
                  <a:pt x="3919" y="1386"/>
                  <a:pt x="3993" y="1417"/>
                  <a:pt x="4010" y="1422"/>
                </a:cubicBezTo>
                <a:cubicBezTo>
                  <a:pt x="4044" y="1445"/>
                  <a:pt x="4073" y="1454"/>
                  <a:pt x="4111" y="1468"/>
                </a:cubicBezTo>
                <a:cubicBezTo>
                  <a:pt x="4119" y="1480"/>
                  <a:pt x="4168" y="1562"/>
                  <a:pt x="4168" y="1490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4421160"/>
            <a:ext cx="1355760" cy="203400"/>
          </a:xfrm>
          <a:custGeom>
            <a:avLst/>
            <a:gdLst/>
            <a:ahLst/>
            <a:rect l="l" t="t" r="r" b="b"/>
            <a:pathLst>
              <a:path w="854" h="128">
                <a:moveTo>
                  <a:pt x="0" y="15"/>
                </a:moveTo>
                <a:cubicBezTo>
                  <a:pt x="122" y="15"/>
                  <a:pt x="614" y="0"/>
                  <a:pt x="734" y="16"/>
                </a:cubicBezTo>
                <a:cubicBezTo>
                  <a:pt x="854" y="32"/>
                  <a:pt x="793" y="94"/>
                  <a:pt x="720" y="111"/>
                </a:cubicBezTo>
                <a:cubicBezTo>
                  <a:pt x="647" y="128"/>
                  <a:pt x="406" y="126"/>
                  <a:pt x="294" y="118"/>
                </a:cubicBezTo>
                <a:cubicBezTo>
                  <a:pt x="182" y="110"/>
                  <a:pt x="99" y="74"/>
                  <a:pt x="48" y="63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419112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  <a:lnTo>
                  <a:pt x="144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267080"/>
            <a:ext cx="4572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1055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75240" y="5473800"/>
            <a:ext cx="1727280" cy="266760"/>
          </a:xfrm>
          <a:custGeom>
            <a:avLst/>
            <a:gdLst/>
            <a:ahLst/>
            <a:rect l="l" t="t" r="r" b="b"/>
            <a:pathLst>
              <a:path w="1088" h="168">
                <a:moveTo>
                  <a:pt x="352" y="8"/>
                </a:moveTo>
                <a:cubicBezTo>
                  <a:pt x="464" y="8"/>
                  <a:pt x="656" y="0"/>
                  <a:pt x="736" y="8"/>
                </a:cubicBezTo>
                <a:cubicBezTo>
                  <a:pt x="816" y="16"/>
                  <a:pt x="800" y="40"/>
                  <a:pt x="832" y="56"/>
                </a:cubicBezTo>
                <a:cubicBezTo>
                  <a:pt x="864" y="72"/>
                  <a:pt x="904" y="88"/>
                  <a:pt x="928" y="104"/>
                </a:cubicBezTo>
                <a:cubicBezTo>
                  <a:pt x="952" y="120"/>
                  <a:pt x="1088" y="144"/>
                  <a:pt x="976" y="152"/>
                </a:cubicBezTo>
                <a:cubicBezTo>
                  <a:pt x="864" y="160"/>
                  <a:pt x="392" y="168"/>
                  <a:pt x="256" y="152"/>
                </a:cubicBezTo>
                <a:cubicBezTo>
                  <a:pt x="120" y="136"/>
                  <a:pt x="200" y="72"/>
                  <a:pt x="160" y="56"/>
                </a:cubicBezTo>
                <a:cubicBezTo>
                  <a:pt x="120" y="40"/>
                  <a:pt x="32" y="64"/>
                  <a:pt x="16" y="56"/>
                </a:cubicBezTo>
                <a:cubicBezTo>
                  <a:pt x="0" y="48"/>
                  <a:pt x="0" y="16"/>
                  <a:pt x="64" y="8"/>
                </a:cubicBezTo>
                <a:cubicBezTo>
                  <a:pt x="128" y="0"/>
                  <a:pt x="240" y="8"/>
                  <a:pt x="352" y="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4559400"/>
            <a:ext cx="1981080" cy="164880"/>
          </a:xfrm>
          <a:custGeom>
            <a:avLst/>
            <a:gdLst/>
            <a:ahLst/>
            <a:rect l="l" t="t" r="r" b="b"/>
            <a:pathLst>
              <a:path w="1040" h="152">
                <a:moveTo>
                  <a:pt x="0" y="152"/>
                </a:moveTo>
                <a:cubicBezTo>
                  <a:pt x="12" y="108"/>
                  <a:pt x="24" y="64"/>
                  <a:pt x="48" y="56"/>
                </a:cubicBezTo>
                <a:cubicBezTo>
                  <a:pt x="72" y="48"/>
                  <a:pt x="112" y="104"/>
                  <a:pt x="144" y="104"/>
                </a:cubicBezTo>
                <a:cubicBezTo>
                  <a:pt x="176" y="104"/>
                  <a:pt x="208" y="56"/>
                  <a:pt x="240" y="56"/>
                </a:cubicBezTo>
                <a:cubicBezTo>
                  <a:pt x="272" y="56"/>
                  <a:pt x="304" y="96"/>
                  <a:pt x="336" y="104"/>
                </a:cubicBezTo>
                <a:cubicBezTo>
                  <a:pt x="368" y="112"/>
                  <a:pt x="392" y="112"/>
                  <a:pt x="432" y="104"/>
                </a:cubicBezTo>
                <a:cubicBezTo>
                  <a:pt x="472" y="96"/>
                  <a:pt x="536" y="56"/>
                  <a:pt x="576" y="56"/>
                </a:cubicBezTo>
                <a:cubicBezTo>
                  <a:pt x="616" y="56"/>
                  <a:pt x="648" y="104"/>
                  <a:pt x="672" y="104"/>
                </a:cubicBezTo>
                <a:cubicBezTo>
                  <a:pt x="696" y="104"/>
                  <a:pt x="696" y="56"/>
                  <a:pt x="720" y="56"/>
                </a:cubicBezTo>
                <a:cubicBezTo>
                  <a:pt x="744" y="56"/>
                  <a:pt x="768" y="96"/>
                  <a:pt x="816" y="104"/>
                </a:cubicBezTo>
                <a:cubicBezTo>
                  <a:pt x="864" y="112"/>
                  <a:pt x="976" y="120"/>
                  <a:pt x="1008" y="104"/>
                </a:cubicBezTo>
                <a:cubicBezTo>
                  <a:pt x="1040" y="88"/>
                  <a:pt x="1008" y="0"/>
                  <a:pt x="1008" y="8"/>
                </a:cubicBezTo>
                <a:cubicBezTo>
                  <a:pt x="1008" y="16"/>
                  <a:pt x="1008" y="84"/>
                  <a:pt x="1008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17400">
            <a:off x="6553080" y="25905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205600">
            <a:off x="7353000" y="186696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266200">
            <a:off x="2437920" y="2361960"/>
            <a:ext cx="1143000" cy="6858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2644400">
            <a:off x="6400800" y="16761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2644400">
            <a:off x="5105520" y="9903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loud"/>
          <p:cNvSpPr/>
          <p:nvPr/>
        </p:nvSpPr>
        <p:spPr>
          <a:xfrm>
            <a:off x="4876920" y="1828800"/>
            <a:ext cx="1523880" cy="102060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17400">
            <a:off x="3885840" y="19047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2644400">
            <a:off x="3580920" y="990000"/>
            <a:ext cx="838440" cy="533160"/>
          </a:xfrm>
          <a:custGeom>
            <a:avLst/>
            <a:gdLst>
              <a:gd name="textAreaLeft" fmla="*/ 146520 w 838440"/>
              <a:gd name="textAreaRight" fmla="*/ 608040 w 8384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loud"/>
          <p:cNvSpPr/>
          <p:nvPr/>
        </p:nvSpPr>
        <p:spPr>
          <a:xfrm>
            <a:off x="1905120" y="1066680"/>
            <a:ext cx="1523880" cy="102096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p=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b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3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umedad sobre tierra=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029200"/>
            <a:ext cx="312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30% ÁRE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A54-3167-4660-8D62-CFE5DD03846C}" type="slidenum">
              <a:t>19</a:t>
            </a:fld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166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762120"/>
            <a:ext cx="2286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4479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mpetencia entre los diversos sectores productivos por el uso del recu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97180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xpansión urb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intensificación del aprovechamiento de fuent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roblemas de dre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us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5880" y="4038480"/>
            <a:ext cx="194796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66E-90C7-4E2C-94A9-A7F4388ECFAC}" type="slidenum">
              <a:t>2</a:t>
            </a:fld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04920"/>
            <a:ext cx="8915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TMÓSFERA: AGUA COMO VAPOR, SÓLIDA 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853240"/>
            <a:ext cx="48765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5943600"/>
            <a:ext cx="16002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6324480"/>
            <a:ext cx="3124080" cy="45720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6095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. su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4419720"/>
            <a:ext cx="335268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505320"/>
            <a:ext cx="266688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RROYOS, LAGOS,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3352680"/>
            <a:ext cx="42674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PERFICI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5812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343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47242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48769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876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809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3809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685800"/>
            <a:ext cx="228600" cy="2743200"/>
          </a:xfrm>
          <a:prstGeom prst="downArrow">
            <a:avLst>
              <a:gd name="adj1" fmla="val 50000"/>
              <a:gd name="adj2" fmla="val 300000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68580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858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209680"/>
            <a:ext cx="304560" cy="1143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175248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9051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10666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914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36232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NIEVE Y 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2209680"/>
            <a:ext cx="0" cy="152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685800"/>
            <a:ext cx="189000" cy="1650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1371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609480"/>
            <a:ext cx="152640" cy="114300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066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762120"/>
            <a:ext cx="228600" cy="25653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2057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685800"/>
            <a:ext cx="228600" cy="2895480"/>
          </a:xfrm>
          <a:prstGeom prst="downArrow">
            <a:avLst>
              <a:gd name="adj1" fmla="val 50000"/>
              <a:gd name="adj2" fmla="val 3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685800"/>
            <a:ext cx="228600" cy="2793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763120" y="685800"/>
            <a:ext cx="304560" cy="52322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19810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10480" y="2438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12952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809880"/>
            <a:ext cx="152280" cy="6098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Ex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862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2819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48769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3800" y="4876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50292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5029200"/>
            <a:ext cx="144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Ascenso 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181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790-6C2E-45F2-BD91-F5C25EEF526E}" type="slidenum">
              <a:t>20</a:t>
            </a:fld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762120"/>
            <a:ext cx="243828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Condensación de la humedad y formación de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685800"/>
            <a:ext cx="380880" cy="337320"/>
            <a:chOff x="457200" y="685800"/>
            <a:chExt cx="380880" cy="337320"/>
          </a:xfrm>
        </p:grpSpPr>
        <p:sp>
          <p:nvSpPr>
            <p:cNvPr id="209" name=""/>
            <p:cNvSpPr/>
            <p:nvPr/>
          </p:nvSpPr>
          <p:spPr>
            <a:xfrm>
              <a:off x="457200" y="685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160" y="68580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781680" y="762120"/>
            <a:ext cx="198144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Almacenamiento de la Humedad Atmosf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763120" y="609480"/>
            <a:ext cx="380880" cy="337320"/>
            <a:chOff x="8763120" y="609480"/>
            <a:chExt cx="380880" cy="337320"/>
          </a:xfrm>
        </p:grpSpPr>
        <p:sp>
          <p:nvSpPr>
            <p:cNvPr id="213" name=""/>
            <p:cNvSpPr/>
            <p:nvPr/>
          </p:nvSpPr>
          <p:spPr>
            <a:xfrm>
              <a:off x="8763120" y="6094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839080" y="6094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3200400" y="990720"/>
            <a:ext cx="3581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762120"/>
            <a:ext cx="2133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Circulación y transferencia del  vapor de agua en la atmósf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91320" y="990720"/>
            <a:ext cx="380880" cy="304560"/>
            <a:chOff x="5791320" y="990720"/>
            <a:chExt cx="380880" cy="304560"/>
          </a:xfrm>
        </p:grpSpPr>
        <p:sp>
          <p:nvSpPr>
            <p:cNvPr id="218" name=""/>
            <p:cNvSpPr/>
            <p:nvPr/>
          </p:nvSpPr>
          <p:spPr>
            <a:xfrm>
              <a:off x="5791320" y="99072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990720"/>
              <a:ext cx="228600" cy="276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43000" y="2057400"/>
            <a:ext cx="1219320" cy="5202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Precipitación de las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12952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23623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15200" y="12952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21337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Re-evaporación de la precipi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410080" y="2057400"/>
            <a:ext cx="380880" cy="307080"/>
            <a:chOff x="5410080" y="2057400"/>
            <a:chExt cx="380880" cy="307080"/>
          </a:xfrm>
        </p:grpSpPr>
        <p:sp>
          <p:nvSpPr>
            <p:cNvPr id="226" name=""/>
            <p:cNvSpPr/>
            <p:nvPr/>
          </p:nvSpPr>
          <p:spPr>
            <a:xfrm>
              <a:off x="5410080" y="20574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040" y="20574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76520" y="1371600"/>
            <a:ext cx="380880" cy="307080"/>
            <a:chOff x="1676520" y="1371600"/>
            <a:chExt cx="380880" cy="307080"/>
          </a:xfrm>
        </p:grpSpPr>
        <p:sp>
          <p:nvSpPr>
            <p:cNvPr id="229" name=""/>
            <p:cNvSpPr/>
            <p:nvPr/>
          </p:nvSpPr>
          <p:spPr>
            <a:xfrm>
              <a:off x="1676520" y="13716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2480" y="13716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838080" y="1981080"/>
            <a:ext cx="380880" cy="337320"/>
            <a:chOff x="838080" y="1981080"/>
            <a:chExt cx="380880" cy="337320"/>
          </a:xfrm>
        </p:grpSpPr>
        <p:sp>
          <p:nvSpPr>
            <p:cNvPr id="232" name=""/>
            <p:cNvSpPr/>
            <p:nvPr/>
          </p:nvSpPr>
          <p:spPr>
            <a:xfrm>
              <a:off x="838080" y="19810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040" y="19810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09480" y="3733920"/>
            <a:ext cx="1295640" cy="1086840"/>
            <a:chOff x="609480" y="3733920"/>
            <a:chExt cx="1295640" cy="1086840"/>
          </a:xfrm>
        </p:grpSpPr>
        <p:sp>
          <p:nvSpPr>
            <p:cNvPr id="235" name=""/>
            <p:cNvSpPr/>
            <p:nvPr/>
          </p:nvSpPr>
          <p:spPr>
            <a:xfrm>
              <a:off x="609480" y="3733920"/>
              <a:ext cx="1295640" cy="1086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480" y="4419720"/>
              <a:ext cx="129564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0" y="3200400"/>
            <a:ext cx="304920" cy="3808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62120" y="3429000"/>
            <a:ext cx="456840" cy="371160"/>
            <a:chOff x="762120" y="3429000"/>
            <a:chExt cx="456840" cy="371160"/>
          </a:xfrm>
        </p:grpSpPr>
        <p:sp>
          <p:nvSpPr>
            <p:cNvPr id="239" name=""/>
            <p:cNvSpPr/>
            <p:nvPr/>
          </p:nvSpPr>
          <p:spPr>
            <a:xfrm>
              <a:off x="762120" y="3429000"/>
              <a:ext cx="456840" cy="371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3200" y="342900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09480" y="5257800"/>
            <a:ext cx="13716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6095880"/>
            <a:ext cx="129528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3886200"/>
            <a:ext cx="129528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3352680"/>
            <a:ext cx="1981440" cy="3353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259092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76520" y="4648320"/>
            <a:ext cx="456840" cy="337320"/>
            <a:chOff x="1676520" y="4648320"/>
            <a:chExt cx="456840" cy="337320"/>
          </a:xfrm>
        </p:grpSpPr>
        <p:sp>
          <p:nvSpPr>
            <p:cNvPr id="248" name=""/>
            <p:cNvSpPr/>
            <p:nvPr/>
          </p:nvSpPr>
          <p:spPr>
            <a:xfrm>
              <a:off x="1676520" y="46483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67600" y="46483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752480" y="5181480"/>
            <a:ext cx="533160" cy="251280"/>
            <a:chOff x="1752480" y="5181480"/>
            <a:chExt cx="533160" cy="251280"/>
          </a:xfrm>
        </p:grpSpPr>
        <p:sp>
          <p:nvSpPr>
            <p:cNvPr id="251" name=""/>
            <p:cNvSpPr/>
            <p:nvPr/>
          </p:nvSpPr>
          <p:spPr>
            <a:xfrm>
              <a:off x="1752480" y="5181480"/>
              <a:ext cx="533160" cy="251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58680" y="51814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752480" y="5943600"/>
            <a:ext cx="533160" cy="246240"/>
            <a:chOff x="1752480" y="5943600"/>
            <a:chExt cx="533160" cy="246240"/>
          </a:xfrm>
        </p:grpSpPr>
        <p:sp>
          <p:nvSpPr>
            <p:cNvPr id="254" name=""/>
            <p:cNvSpPr/>
            <p:nvPr/>
          </p:nvSpPr>
          <p:spPr>
            <a:xfrm>
              <a:off x="1752480" y="5943600"/>
              <a:ext cx="533160" cy="1890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58680" y="594360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9144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4479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33520" y="5715000"/>
            <a:ext cx="456840" cy="304560"/>
            <a:chOff x="533520" y="5715000"/>
            <a:chExt cx="456840" cy="304560"/>
          </a:xfrm>
        </p:grpSpPr>
        <p:sp>
          <p:nvSpPr>
            <p:cNvPr id="259" name=""/>
            <p:cNvSpPr/>
            <p:nvPr/>
          </p:nvSpPr>
          <p:spPr>
            <a:xfrm>
              <a:off x="53352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60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905120" y="41148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5120" y="4572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295280"/>
            <a:ext cx="5410080" cy="3276720"/>
          </a:xfrm>
          <a:custGeom>
            <a:avLst/>
            <a:gdLst/>
            <a:ahLst/>
            <a:rect l="l" t="t" r="r" b="b"/>
            <a:pathLst>
              <a:path w="3408" h="2064">
                <a:moveTo>
                  <a:pt x="0" y="2064"/>
                </a:moveTo>
                <a:lnTo>
                  <a:pt x="0" y="1296"/>
                </a:lnTo>
                <a:lnTo>
                  <a:pt x="384" y="1296"/>
                </a:lnTo>
                <a:lnTo>
                  <a:pt x="384" y="864"/>
                </a:lnTo>
                <a:lnTo>
                  <a:pt x="3408" y="864"/>
                </a:lnTo>
                <a:lnTo>
                  <a:pt x="340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3505320"/>
            <a:ext cx="533412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200400"/>
            <a:ext cx="1447560" cy="320040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486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3200400"/>
            <a:ext cx="144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3962520"/>
            <a:ext cx="11430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9810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3526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4419720"/>
            <a:ext cx="0" cy="19047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980720" y="6324480"/>
            <a:ext cx="40388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434340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419720"/>
            <a:ext cx="0" cy="1218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5638680"/>
            <a:ext cx="52578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56386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3200400"/>
            <a:ext cx="1067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3124080"/>
            <a:ext cx="5638680" cy="457200"/>
          </a:xfrm>
          <a:custGeom>
            <a:avLst/>
            <a:gdLst/>
            <a:ahLst/>
            <a:rect l="l" t="t" r="r" b="b"/>
            <a:pathLst>
              <a:path w="3552" h="288">
                <a:moveTo>
                  <a:pt x="0" y="48"/>
                </a:moveTo>
                <a:lnTo>
                  <a:pt x="0" y="0"/>
                </a:ln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3552" y="48"/>
                </a:lnTo>
                <a:lnTo>
                  <a:pt x="3552" y="288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3581280"/>
            <a:ext cx="914400" cy="946440"/>
          </a:xfrm>
          <a:prstGeom prst="rect">
            <a:avLst/>
          </a:prstGeom>
          <a:solidFill>
            <a:srgbClr val="ff993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-namien-to en Océ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391520" y="1828800"/>
            <a:ext cx="380880" cy="307080"/>
            <a:chOff x="7391520" y="1828800"/>
            <a:chExt cx="380880" cy="307080"/>
          </a:xfrm>
        </p:grpSpPr>
        <p:sp>
          <p:nvSpPr>
            <p:cNvPr id="284" name=""/>
            <p:cNvSpPr/>
            <p:nvPr/>
          </p:nvSpPr>
          <p:spPr>
            <a:xfrm>
              <a:off x="7391520" y="1828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67480" y="18288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505320" y="1295280"/>
            <a:ext cx="4724280" cy="2590920"/>
          </a:xfrm>
          <a:custGeom>
            <a:avLst/>
            <a:gdLst/>
            <a:ahLst/>
            <a:rect l="l" t="t" r="r" b="b"/>
            <a:pathLst>
              <a:path w="2976" h="1632">
                <a:moveTo>
                  <a:pt x="48" y="1632"/>
                </a:move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52"/>
                </a:lnTo>
                <a:lnTo>
                  <a:pt x="2976" y="1152"/>
                </a:lnTo>
                <a:lnTo>
                  <a:pt x="297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848720" y="1905120"/>
            <a:ext cx="456840" cy="307080"/>
            <a:chOff x="7848720" y="1905120"/>
            <a:chExt cx="456840" cy="307080"/>
          </a:xfrm>
        </p:grpSpPr>
        <p:sp>
          <p:nvSpPr>
            <p:cNvPr id="288" name=""/>
            <p:cNvSpPr/>
            <p:nvPr/>
          </p:nvSpPr>
          <p:spPr>
            <a:xfrm>
              <a:off x="7848720" y="19051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39800" y="190512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V="1">
            <a:off x="472428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01992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391520" y="31237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197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866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59440" y="4572000"/>
            <a:ext cx="3322440" cy="228600"/>
          </a:xfrm>
          <a:custGeom>
            <a:avLst/>
            <a:gdLst/>
            <a:ahLst/>
            <a:rect l="l" t="t" r="r" b="b"/>
            <a:pathLst>
              <a:path w="2093" h="288">
                <a:moveTo>
                  <a:pt x="0" y="70"/>
                </a:moveTo>
                <a:cubicBezTo>
                  <a:pt x="0" y="88"/>
                  <a:pt x="0" y="106"/>
                  <a:pt x="0" y="124"/>
                </a:cubicBezTo>
                <a:lnTo>
                  <a:pt x="0" y="288"/>
                </a:lnTo>
                <a:lnTo>
                  <a:pt x="557" y="288"/>
                </a:lnTo>
                <a:lnTo>
                  <a:pt x="557" y="240"/>
                </a:lnTo>
                <a:lnTo>
                  <a:pt x="653" y="240"/>
                </a:lnTo>
                <a:lnTo>
                  <a:pt x="653" y="288"/>
                </a:lnTo>
                <a:lnTo>
                  <a:pt x="797" y="288"/>
                </a:lnTo>
                <a:lnTo>
                  <a:pt x="797" y="240"/>
                </a:lnTo>
                <a:lnTo>
                  <a:pt x="941" y="240"/>
                </a:lnTo>
                <a:lnTo>
                  <a:pt x="941" y="288"/>
                </a:lnTo>
                <a:lnTo>
                  <a:pt x="1325" y="288"/>
                </a:lnTo>
                <a:lnTo>
                  <a:pt x="1325" y="240"/>
                </a:lnTo>
                <a:lnTo>
                  <a:pt x="1421" y="240"/>
                </a:lnTo>
                <a:lnTo>
                  <a:pt x="1421" y="288"/>
                </a:lnTo>
                <a:lnTo>
                  <a:pt x="1517" y="288"/>
                </a:lnTo>
                <a:lnTo>
                  <a:pt x="1517" y="240"/>
                </a:lnTo>
                <a:lnTo>
                  <a:pt x="1629" y="241"/>
                </a:lnTo>
                <a:lnTo>
                  <a:pt x="1629" y="288"/>
                </a:lnTo>
                <a:lnTo>
                  <a:pt x="2093" y="288"/>
                </a:lnTo>
                <a:lnTo>
                  <a:pt x="2093" y="0"/>
                </a:ln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480060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6324480"/>
            <a:ext cx="15238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543800" y="4343040"/>
            <a:ext cx="0" cy="19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594360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010280" y="4343400"/>
            <a:ext cx="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4191120"/>
            <a:ext cx="1526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238880" y="434304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480060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4343400"/>
            <a:ext cx="15228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57200" y="4952880"/>
            <a:ext cx="380880" cy="246240"/>
            <a:chOff x="457200" y="4952880"/>
            <a:chExt cx="380880" cy="246240"/>
          </a:xfrm>
        </p:grpSpPr>
        <p:sp>
          <p:nvSpPr>
            <p:cNvPr id="311" name=""/>
            <p:cNvSpPr/>
            <p:nvPr/>
          </p:nvSpPr>
          <p:spPr>
            <a:xfrm>
              <a:off x="457200" y="4952880"/>
              <a:ext cx="380880" cy="228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160" y="4952880"/>
              <a:ext cx="22860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6320" y="2895480"/>
            <a:ext cx="8076960" cy="3895920"/>
          </a:xfrm>
          <a:custGeom>
            <a:avLst/>
            <a:gdLst/>
            <a:ahLst/>
            <a:rect l="l" t="t" r="r" b="b"/>
            <a:pathLst>
              <a:path w="5088" h="2454">
                <a:moveTo>
                  <a:pt x="0" y="2448"/>
                </a:moveTo>
                <a:lnTo>
                  <a:pt x="5087" y="2454"/>
                </a:lnTo>
                <a:lnTo>
                  <a:pt x="5088" y="0"/>
                </a:lnTo>
                <a:lnTo>
                  <a:pt x="0" y="0"/>
                </a:lnTo>
                <a:lnTo>
                  <a:pt x="0" y="2448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403848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2743200" y="4572000"/>
            <a:ext cx="152280" cy="228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219320" y="3200400"/>
            <a:ext cx="3808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610480" y="3352680"/>
            <a:ext cx="533160" cy="268560"/>
            <a:chOff x="8610480" y="3352680"/>
            <a:chExt cx="533160" cy="268560"/>
          </a:xfrm>
        </p:grpSpPr>
        <p:sp>
          <p:nvSpPr>
            <p:cNvPr id="318" name=""/>
            <p:cNvSpPr/>
            <p:nvPr/>
          </p:nvSpPr>
          <p:spPr>
            <a:xfrm>
              <a:off x="8610480" y="3352680"/>
              <a:ext cx="533160" cy="268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16680" y="33526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>
            <a:hlinkClick r:id="rId3" action="ppaction://hlinksldjump"/>
          </p:cNvPr>
          <p:cNvSpPr/>
          <p:nvPr/>
        </p:nvSpPr>
        <p:spPr>
          <a:xfrm>
            <a:off x="8001000" y="655308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2A9-EFE8-4137-8DC3-5A1EEF183BFF}" type="slidenum">
              <a:t>21</a:t>
            </a:fld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480060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0481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81080" y="5715000"/>
            <a:ext cx="456840" cy="304560"/>
            <a:chOff x="1981080" y="5715000"/>
            <a:chExt cx="456840" cy="304560"/>
          </a:xfrm>
        </p:grpSpPr>
        <p:sp>
          <p:nvSpPr>
            <p:cNvPr id="326" name=""/>
            <p:cNvSpPr/>
            <p:nvPr/>
          </p:nvSpPr>
          <p:spPr>
            <a:xfrm>
              <a:off x="198108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7216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838080" y="3352680"/>
            <a:ext cx="45720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66680" y="2655720"/>
            <a:ext cx="2590560" cy="1437840"/>
            <a:chOff x="1066680" y="2655720"/>
            <a:chExt cx="2590560" cy="1437840"/>
          </a:xfrm>
        </p:grpSpPr>
        <p:sp>
          <p:nvSpPr>
            <p:cNvPr id="330" name=""/>
            <p:cNvSpPr/>
            <p:nvPr/>
          </p:nvSpPr>
          <p:spPr>
            <a:xfrm>
              <a:off x="1066680" y="2655720"/>
              <a:ext cx="2590560" cy="143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6680" y="3609360"/>
              <a:ext cx="259056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971800" y="2666880"/>
            <a:ext cx="913680" cy="515520"/>
            <a:chOff x="2971800" y="2666880"/>
            <a:chExt cx="913680" cy="515520"/>
          </a:xfrm>
        </p:grpSpPr>
        <p:sp>
          <p:nvSpPr>
            <p:cNvPr id="333" name=""/>
            <p:cNvSpPr/>
            <p:nvPr/>
          </p:nvSpPr>
          <p:spPr>
            <a:xfrm>
              <a:off x="2971800" y="2666880"/>
              <a:ext cx="913680" cy="515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53960" y="266688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19320" y="6095880"/>
            <a:ext cx="2590560" cy="580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1066680"/>
            <a:ext cx="0" cy="1589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48120" y="2057400"/>
            <a:ext cx="609120" cy="337320"/>
            <a:chOff x="3048120" y="2057400"/>
            <a:chExt cx="609120" cy="337320"/>
          </a:xfrm>
        </p:grpSpPr>
        <p:sp>
          <p:nvSpPr>
            <p:cNvPr id="338" name=""/>
            <p:cNvSpPr/>
            <p:nvPr/>
          </p:nvSpPr>
          <p:spPr>
            <a:xfrm>
              <a:off x="3048120" y="2057400"/>
              <a:ext cx="609120" cy="317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59720" y="2057400"/>
              <a:ext cx="38556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48120" y="3886200"/>
            <a:ext cx="913680" cy="423360"/>
            <a:chOff x="3048120" y="3886200"/>
            <a:chExt cx="913680" cy="423360"/>
          </a:xfrm>
        </p:grpSpPr>
        <p:sp>
          <p:nvSpPr>
            <p:cNvPr id="341" name=""/>
            <p:cNvSpPr/>
            <p:nvPr/>
          </p:nvSpPr>
          <p:spPr>
            <a:xfrm>
              <a:off x="3048120" y="3886200"/>
              <a:ext cx="91368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30280" y="388620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895480" y="4800600"/>
            <a:ext cx="685440" cy="347400"/>
            <a:chOff x="2895480" y="4800600"/>
            <a:chExt cx="685440" cy="347400"/>
          </a:xfrm>
        </p:grpSpPr>
        <p:sp>
          <p:nvSpPr>
            <p:cNvPr id="344" name=""/>
            <p:cNvSpPr/>
            <p:nvPr/>
          </p:nvSpPr>
          <p:spPr>
            <a:xfrm>
              <a:off x="2895480" y="4800600"/>
              <a:ext cx="685440" cy="347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31920" y="48006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200400" y="6508800"/>
            <a:ext cx="685440" cy="348840"/>
            <a:chOff x="3200400" y="6508800"/>
            <a:chExt cx="685440" cy="348840"/>
          </a:xfrm>
        </p:grpSpPr>
        <p:sp>
          <p:nvSpPr>
            <p:cNvPr id="347" name=""/>
            <p:cNvSpPr/>
            <p:nvPr/>
          </p:nvSpPr>
          <p:spPr>
            <a:xfrm>
              <a:off x="3200400" y="6508800"/>
              <a:ext cx="685440" cy="348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36840" y="65088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657600" y="318456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38196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1447920"/>
            <a:ext cx="685800" cy="2371680"/>
          </a:xfrm>
          <a:custGeom>
            <a:avLst/>
            <a:gdLst/>
            <a:ahLst/>
            <a:rect l="l" t="t" r="r" b="b"/>
            <a:pathLst>
              <a:path w="1116" h="1200">
                <a:moveTo>
                  <a:pt x="0" y="1200"/>
                </a:moveTo>
                <a:lnTo>
                  <a:pt x="0" y="432"/>
                </a:lnTo>
                <a:lnTo>
                  <a:pt x="384" y="432"/>
                </a:lnTo>
                <a:lnTo>
                  <a:pt x="384" y="0"/>
                </a:lnTo>
                <a:lnTo>
                  <a:pt x="1116" y="3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1914480"/>
            <a:ext cx="2895480" cy="444672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905120"/>
            <a:ext cx="0" cy="350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200400" y="5257800"/>
            <a:ext cx="990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809880" y="6477120"/>
            <a:ext cx="106704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809520" y="61722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29200" y="1295280"/>
            <a:ext cx="456840" cy="423720"/>
            <a:chOff x="5029200" y="1295280"/>
            <a:chExt cx="456840" cy="423720"/>
          </a:xfrm>
        </p:grpSpPr>
        <p:sp>
          <p:nvSpPr>
            <p:cNvPr id="358" name=""/>
            <p:cNvSpPr/>
            <p:nvPr/>
          </p:nvSpPr>
          <p:spPr>
            <a:xfrm>
              <a:off x="5029200" y="1295280"/>
              <a:ext cx="456840" cy="423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20280" y="129528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2133720"/>
            <a:ext cx="456840" cy="423360"/>
            <a:chOff x="533520" y="2133720"/>
            <a:chExt cx="456840" cy="423360"/>
          </a:xfrm>
        </p:grpSpPr>
        <p:sp>
          <p:nvSpPr>
            <p:cNvPr id="361" name=""/>
            <p:cNvSpPr/>
            <p:nvPr/>
          </p:nvSpPr>
          <p:spPr>
            <a:xfrm>
              <a:off x="533520" y="2133720"/>
              <a:ext cx="45684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600" y="21337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" y="5791320"/>
            <a:ext cx="533160" cy="423360"/>
            <a:chOff x="228600" y="5791320"/>
            <a:chExt cx="533160" cy="423360"/>
          </a:xfrm>
        </p:grpSpPr>
        <p:sp>
          <p:nvSpPr>
            <p:cNvPr id="364" name=""/>
            <p:cNvSpPr/>
            <p:nvPr/>
          </p:nvSpPr>
          <p:spPr>
            <a:xfrm>
              <a:off x="228600" y="5791320"/>
              <a:ext cx="53316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7320" y="5791320"/>
              <a:ext cx="32004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676520" y="4137120"/>
            <a:ext cx="0" cy="6364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743200" y="4114800"/>
            <a:ext cx="0" cy="65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295280" y="4267080"/>
            <a:ext cx="533160" cy="317160"/>
            <a:chOff x="1295280" y="4267080"/>
            <a:chExt cx="533160" cy="317160"/>
          </a:xfrm>
        </p:grpSpPr>
        <p:sp>
          <p:nvSpPr>
            <p:cNvPr id="369" name=""/>
            <p:cNvSpPr/>
            <p:nvPr/>
          </p:nvSpPr>
          <p:spPr>
            <a:xfrm>
              <a:off x="1295280" y="42670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01480" y="42670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114800" y="6324480"/>
            <a:ext cx="533160" cy="317160"/>
            <a:chOff x="4114800" y="6324480"/>
            <a:chExt cx="533160" cy="317160"/>
          </a:xfrm>
        </p:grpSpPr>
        <p:sp>
          <p:nvSpPr>
            <p:cNvPr id="372" name=""/>
            <p:cNvSpPr/>
            <p:nvPr/>
          </p:nvSpPr>
          <p:spPr>
            <a:xfrm>
              <a:off x="4114800" y="63244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21000" y="63244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952880" y="6095880"/>
            <a:ext cx="533160" cy="317160"/>
            <a:chOff x="4952880" y="6095880"/>
            <a:chExt cx="533160" cy="317160"/>
          </a:xfrm>
        </p:grpSpPr>
        <p:sp>
          <p:nvSpPr>
            <p:cNvPr id="375" name=""/>
            <p:cNvSpPr/>
            <p:nvPr/>
          </p:nvSpPr>
          <p:spPr>
            <a:xfrm>
              <a:off x="4952880" y="60958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59080" y="60958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114800" y="5105520"/>
            <a:ext cx="533160" cy="317160"/>
            <a:chOff x="4114800" y="5105520"/>
            <a:chExt cx="533160" cy="317160"/>
          </a:xfrm>
        </p:grpSpPr>
        <p:sp>
          <p:nvSpPr>
            <p:cNvPr id="378" name=""/>
            <p:cNvSpPr/>
            <p:nvPr/>
          </p:nvSpPr>
          <p:spPr>
            <a:xfrm>
              <a:off x="4114800" y="51055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21000" y="51055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>
            <a:off x="3200040" y="54864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257800" y="5334120"/>
            <a:ext cx="533160" cy="317160"/>
            <a:chOff x="5257800" y="5334120"/>
            <a:chExt cx="533160" cy="317160"/>
          </a:xfrm>
        </p:grpSpPr>
        <p:sp>
          <p:nvSpPr>
            <p:cNvPr id="382" name=""/>
            <p:cNvSpPr/>
            <p:nvPr/>
          </p:nvSpPr>
          <p:spPr>
            <a:xfrm>
              <a:off x="5257800" y="53341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64000" y="53341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5410080"/>
            <a:ext cx="6094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533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: Flujo de Pp hacia vege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2200" y="1066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E: Flujo de Pp a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15000" y="1828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 Flujo de Pp a zonas saturadas y embalse subterrán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38680" y="26668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P: Evaporación desde el follaje y evapotranspi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1480" y="335268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T: Flujo de agua entre Zona No saturada y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40384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U: Flujo de agua entre Zona de raíces y zona no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4800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V: Infiltración desde escorrentía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51680" y="557388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W, X: Infiltración desde la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05400" y="6031080"/>
            <a:ext cx="24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Z: Intercambio con e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previousslide"/>
          </p:cNvPr>
          <p:cNvSpPr/>
          <p:nvPr/>
        </p:nvSpPr>
        <p:spPr>
          <a:xfrm>
            <a:off x="8381880" y="66294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ECB-0DBA-4DFF-BC00-8CA49CF1D8AE}" type="slidenum">
              <a:t>22</a:t>
            </a:fld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289548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2666880"/>
            <a:ext cx="129528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4120" y="2666880"/>
            <a:ext cx="114300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1520" y="3048120"/>
            <a:ext cx="114300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18288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0120" y="19810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3809880"/>
            <a:ext cx="0" cy="10670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962520"/>
            <a:ext cx="0" cy="91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962520"/>
            <a:ext cx="0" cy="1676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72400" y="3886200"/>
            <a:ext cx="0" cy="121932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32767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3352680"/>
            <a:ext cx="83844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1741320"/>
            <a:ext cx="6611760" cy="1154160"/>
          </a:xfrm>
          <a:custGeom>
            <a:avLst/>
            <a:gdLst/>
            <a:ahLst/>
            <a:rect l="l" t="t" r="r" b="b"/>
            <a:pathLst>
              <a:path w="4165" h="727">
                <a:moveTo>
                  <a:pt x="0" y="727"/>
                </a:moveTo>
                <a:lnTo>
                  <a:pt x="0" y="103"/>
                </a:lnTo>
                <a:lnTo>
                  <a:pt x="4146" y="101"/>
                </a:lnTo>
                <a:lnTo>
                  <a:pt x="4165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1148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1722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8077320" y="190476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4479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1523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91520" y="21337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46483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85440" y="4876920"/>
            <a:ext cx="29718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67080" y="4038480"/>
            <a:ext cx="0" cy="3812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839080" y="41148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5880" y="39625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333760" y="5105520"/>
            <a:ext cx="2438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9200" y="4952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548640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188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5334120" y="5638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4419720"/>
            <a:ext cx="4572000" cy="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620120" y="3886200"/>
            <a:ext cx="0" cy="5335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924680" y="1447920"/>
            <a:ext cx="3812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342900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90920" y="312408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060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8168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320040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733920"/>
            <a:ext cx="228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534520" y="37339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839080" y="34290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153280" y="281952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28600"/>
            <a:ext cx="502920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G, H, I, J: Flujo de Pp a elementos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762120"/>
            <a:ext cx="7010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 M,V,Y: Agua almacenada temporalmente como escorrentía superficial (8) puede escurrir hacia depresiones superficiales, lagos, zonas no saturadas, cauces u océano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00800" y="228600"/>
            <a:ext cx="2743200" cy="946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V: Agua almacenada en Depresiones Superficiales (7) puede incorporarse a escorrentía superficial o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6019920"/>
            <a:ext cx="52578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X, W:Agua almacenada en Lagos (9) y cauces (10) puede incorporarse a Zonas No saturadas 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62720" y="5867280"/>
            <a:ext cx="3581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O: Agua almacenada en los cauces (10) puede incorporarse a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83059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665-4328-4A81-BAE5-C8A566B616FB}" type="slidenum">
              <a:t>23</a:t>
            </a:fld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7200" y="1143000"/>
            <a:ext cx="83818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bstracción: se considera sólo aquellos elementos del ciclo que son posibles de cuant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7312200">
            <a:off x="4342680" y="1828440"/>
            <a:ext cx="685800" cy="762120"/>
          </a:xfrm>
          <a:custGeom>
            <a:avLst/>
            <a:gdLst>
              <a:gd name="textAreaLeft" fmla="*/ 8568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28800" y="2666880"/>
            <a:ext cx="39625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4495680"/>
            <a:ext cx="2819520" cy="2022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ESCORREN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143000" y="4648320"/>
            <a:ext cx="1828800" cy="457200"/>
            <a:chOff x="1143000" y="4648320"/>
            <a:chExt cx="1828800" cy="457200"/>
          </a:xfrm>
        </p:grpSpPr>
        <p:sp>
          <p:nvSpPr>
            <p:cNvPr id="453" name=""/>
            <p:cNvSpPr/>
            <p:nvPr/>
          </p:nvSpPr>
          <p:spPr>
            <a:xfrm>
              <a:off x="1143000" y="4648320"/>
              <a:ext cx="1828800" cy="457200"/>
            </a:xfrm>
            <a:custGeom>
              <a:avLst/>
              <a:gdLst>
                <a:gd name="textAreaLeft" fmla="*/ 285480 w 1828800"/>
                <a:gd name="textAreaRight" fmla="*/ 1600200 w 18288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3880" y="47242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Precip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2120" y="5257800"/>
            <a:ext cx="2361960" cy="533520"/>
            <a:chOff x="762120" y="5257800"/>
            <a:chExt cx="2361960" cy="533520"/>
          </a:xfrm>
        </p:grpSpPr>
        <p:sp>
          <p:nvSpPr>
            <p:cNvPr id="456" name=""/>
            <p:cNvSpPr/>
            <p:nvPr/>
          </p:nvSpPr>
          <p:spPr>
            <a:xfrm>
              <a:off x="762120" y="5257800"/>
              <a:ext cx="2361960" cy="533520"/>
            </a:xfrm>
            <a:custGeom>
              <a:avLst/>
              <a:gdLst>
                <a:gd name="textAreaLeft" fmla="*/ 369000 w 2361960"/>
                <a:gd name="textAreaRight" fmla="*/ 2066760 w 23619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95280" y="54100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Radiación So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33520" y="5867280"/>
            <a:ext cx="2514600" cy="457200"/>
            <a:chOff x="533520" y="5867280"/>
            <a:chExt cx="2514600" cy="457200"/>
          </a:xfrm>
        </p:grpSpPr>
        <p:sp>
          <p:nvSpPr>
            <p:cNvPr id="459" name=""/>
            <p:cNvSpPr/>
            <p:nvPr/>
          </p:nvSpPr>
          <p:spPr>
            <a:xfrm>
              <a:off x="533520" y="5867280"/>
              <a:ext cx="2514600" cy="4572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59436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Grav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943600" y="4419720"/>
            <a:ext cx="2590920" cy="761760"/>
            <a:chOff x="5943600" y="4419720"/>
            <a:chExt cx="2590920" cy="761760"/>
          </a:xfrm>
        </p:grpSpPr>
        <p:sp>
          <p:nvSpPr>
            <p:cNvPr id="462" name=""/>
            <p:cNvSpPr/>
            <p:nvPr/>
          </p:nvSpPr>
          <p:spPr>
            <a:xfrm>
              <a:off x="5943600" y="4419720"/>
              <a:ext cx="2590920" cy="76176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53080" y="45720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Evaporación y Evapotranspir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943600" y="5257800"/>
            <a:ext cx="2514600" cy="685800"/>
            <a:chOff x="5943600" y="5257800"/>
            <a:chExt cx="2514600" cy="685800"/>
          </a:xfrm>
        </p:grpSpPr>
        <p:sp>
          <p:nvSpPr>
            <p:cNvPr id="465" name=""/>
            <p:cNvSpPr/>
            <p:nvPr/>
          </p:nvSpPr>
          <p:spPr>
            <a:xfrm>
              <a:off x="5943600" y="5257800"/>
              <a:ext cx="2514600" cy="6858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24480" y="54100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Escorrentía Superf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019920" y="5867280"/>
            <a:ext cx="2819160" cy="762120"/>
            <a:chOff x="6019920" y="5867280"/>
            <a:chExt cx="2819160" cy="762120"/>
          </a:xfrm>
        </p:grpSpPr>
        <p:sp>
          <p:nvSpPr>
            <p:cNvPr id="468" name=""/>
            <p:cNvSpPr/>
            <p:nvPr/>
          </p:nvSpPr>
          <p:spPr>
            <a:xfrm>
              <a:off x="6019920" y="5867280"/>
              <a:ext cx="2819160" cy="762120"/>
            </a:xfrm>
            <a:custGeom>
              <a:avLst/>
              <a:gdLst>
                <a:gd name="textAreaLeft" fmla="*/ 440280 w 2819160"/>
                <a:gd name="textAreaRight" fmla="*/ 2467080 w 2819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53080" y="6095880"/>
              <a:ext cx="22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imes New Roman"/>
                </a:rPr>
                <a:t>Escorrentía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539-7C54-468E-ADB2-75951A0E876A}" type="slidenum">
              <a:t>24</a:t>
            </a:fld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85800" y="533520"/>
            <a:ext cx="79246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: Estructura, mecanismo, esquema o procedimiento (real o abstracto) que relaciona en el tiempo y espacio, una causa entrada o estímulo de materia, energía o información, con un efecto salida, o respuesta de información, energía o ma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01000" y="21337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733920" y="297180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e elige subsistema a 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90920" y="4724280"/>
            <a:ext cx="3124080" cy="825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0200" y="4952880"/>
            <a:ext cx="990720" cy="457200"/>
          </a:xfrm>
          <a:custGeom>
            <a:avLst/>
            <a:gdLst>
              <a:gd name="textAreaLeft" fmla="*/ 123840 w 990720"/>
              <a:gd name="textAreaRight" fmla="*/ 866880 w 9907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67280" y="5029200"/>
            <a:ext cx="990720" cy="533520"/>
          </a:xfrm>
          <a:custGeom>
            <a:avLst/>
            <a:gdLst>
              <a:gd name="textAreaLeft" fmla="*/ 12384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5374800">
            <a:off x="3962160" y="411480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5335800">
            <a:off x="3733200" y="571464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22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í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102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481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ey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14600" y="6400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aturaleza y est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14E-9F1C-47B8-A53C-D10637BC69A3}" type="slidenum">
              <a:t>25</a:t>
            </a:fld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05120" y="762120"/>
            <a:ext cx="2286000" cy="11430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1219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nálisis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5326800">
            <a:off x="3124080" y="2514600"/>
            <a:ext cx="1600200" cy="182880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81480" y="2743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logí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D53-F3FB-4C1A-9CEE-30EE12C2B025}" type="slidenum">
              <a:t>26</a:t>
            </a:fld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219320" y="7621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rebuchet MS"/>
              </a:rPr>
              <a:t>CUENCA</a:t>
            </a:r>
            <a:r>
              <a:rPr b="1" lang="es-ES_tradnl" sz="2400" spc="-1" strike="noStrike">
                <a:solidFill>
                  <a:srgbClr val="3333cc"/>
                </a:solidFill>
                <a:latin typeface="Trebuchet MS"/>
              </a:rPr>
              <a:t>: UNIDAD BÁSICA, DEFINIDA TOPOGRÁFICAMENTE Y DRENADA POR UN SISTEMA DE CAUCES SUPERFICIALES DE TAL MANERA QUE TODA LA ESCORRENTÍA QUE SE GENERA  EN LA SUPERFICIE ENCERRADA POR LA LÍNEA DIVISORIA DE LAS AGUAS, SE DESCARGA A TRAVÉS DE UNA SALIDA ÚNICA E IDEN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E0F-6681-41D6-BEF1-97EB49535982}" type="slidenum">
              <a:t>27</a:t>
            </a:fld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uenca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8915400" cy="457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AE3-B138-485D-9D25-09C38AA7750E}" type="slidenum">
              <a:t>28</a:t>
            </a:fld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133720" y="291960"/>
            <a:ext cx="5638680" cy="4623120"/>
          </a:xfrm>
          <a:custGeom>
            <a:avLst/>
            <a:gdLst/>
            <a:ahLst/>
            <a:rect l="l" t="t" r="r" b="b"/>
            <a:pathLst>
              <a:path w="3552" h="2912">
                <a:moveTo>
                  <a:pt x="0" y="2552"/>
                </a:moveTo>
                <a:cubicBezTo>
                  <a:pt x="60" y="2536"/>
                  <a:pt x="120" y="2520"/>
                  <a:pt x="192" y="2552"/>
                </a:cubicBezTo>
                <a:cubicBezTo>
                  <a:pt x="264" y="2584"/>
                  <a:pt x="344" y="2688"/>
                  <a:pt x="432" y="2744"/>
                </a:cubicBezTo>
                <a:cubicBezTo>
                  <a:pt x="520" y="2800"/>
                  <a:pt x="584" y="2864"/>
                  <a:pt x="720" y="2888"/>
                </a:cubicBezTo>
                <a:cubicBezTo>
                  <a:pt x="856" y="2912"/>
                  <a:pt x="1104" y="2904"/>
                  <a:pt x="1248" y="2888"/>
                </a:cubicBezTo>
                <a:cubicBezTo>
                  <a:pt x="1392" y="2872"/>
                  <a:pt x="1336" y="2832"/>
                  <a:pt x="1584" y="2792"/>
                </a:cubicBezTo>
                <a:cubicBezTo>
                  <a:pt x="1832" y="2752"/>
                  <a:pt x="2496" y="2744"/>
                  <a:pt x="2736" y="2648"/>
                </a:cubicBezTo>
                <a:cubicBezTo>
                  <a:pt x="2976" y="2552"/>
                  <a:pt x="2928" y="2392"/>
                  <a:pt x="3024" y="2216"/>
                </a:cubicBezTo>
                <a:cubicBezTo>
                  <a:pt x="3120" y="2040"/>
                  <a:pt x="3240" y="1816"/>
                  <a:pt x="3312" y="1592"/>
                </a:cubicBezTo>
                <a:cubicBezTo>
                  <a:pt x="3384" y="1368"/>
                  <a:pt x="3424" y="1072"/>
                  <a:pt x="3456" y="872"/>
                </a:cubicBezTo>
                <a:cubicBezTo>
                  <a:pt x="3488" y="672"/>
                  <a:pt x="3552" y="480"/>
                  <a:pt x="3504" y="392"/>
                </a:cubicBezTo>
                <a:cubicBezTo>
                  <a:pt x="3456" y="304"/>
                  <a:pt x="3312" y="360"/>
                  <a:pt x="3168" y="344"/>
                </a:cubicBezTo>
                <a:cubicBezTo>
                  <a:pt x="3024" y="328"/>
                  <a:pt x="2816" y="328"/>
                  <a:pt x="2640" y="296"/>
                </a:cubicBezTo>
                <a:cubicBezTo>
                  <a:pt x="2464" y="264"/>
                  <a:pt x="2224" y="192"/>
                  <a:pt x="2112" y="152"/>
                </a:cubicBezTo>
                <a:cubicBezTo>
                  <a:pt x="2000" y="112"/>
                  <a:pt x="2120" y="64"/>
                  <a:pt x="1968" y="56"/>
                </a:cubicBezTo>
                <a:cubicBezTo>
                  <a:pt x="1816" y="48"/>
                  <a:pt x="1312" y="0"/>
                  <a:pt x="1200" y="104"/>
                </a:cubicBezTo>
                <a:cubicBezTo>
                  <a:pt x="1088" y="208"/>
                  <a:pt x="1280" y="528"/>
                  <a:pt x="1296" y="680"/>
                </a:cubicBezTo>
                <a:cubicBezTo>
                  <a:pt x="1312" y="832"/>
                  <a:pt x="1376" y="856"/>
                  <a:pt x="1296" y="1016"/>
                </a:cubicBezTo>
                <a:cubicBezTo>
                  <a:pt x="1216" y="1176"/>
                  <a:pt x="960" y="1464"/>
                  <a:pt x="816" y="1640"/>
                </a:cubicBezTo>
                <a:cubicBezTo>
                  <a:pt x="672" y="1816"/>
                  <a:pt x="560" y="1928"/>
                  <a:pt x="432" y="2072"/>
                </a:cubicBezTo>
                <a:cubicBezTo>
                  <a:pt x="304" y="2216"/>
                  <a:pt x="176" y="2360"/>
                  <a:pt x="48" y="2504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1295280"/>
            <a:ext cx="2552760" cy="3048120"/>
          </a:xfrm>
          <a:custGeom>
            <a:avLst/>
            <a:gdLst/>
            <a:ahLst/>
            <a:rect l="l" t="t" r="r" b="b"/>
            <a:pathLst>
              <a:path w="1608" h="1920">
                <a:moveTo>
                  <a:pt x="1584" y="0"/>
                </a:moveTo>
                <a:cubicBezTo>
                  <a:pt x="1596" y="248"/>
                  <a:pt x="1608" y="496"/>
                  <a:pt x="1584" y="624"/>
                </a:cubicBezTo>
                <a:cubicBezTo>
                  <a:pt x="1560" y="752"/>
                  <a:pt x="1496" y="680"/>
                  <a:pt x="1440" y="768"/>
                </a:cubicBezTo>
                <a:cubicBezTo>
                  <a:pt x="1384" y="856"/>
                  <a:pt x="1312" y="1056"/>
                  <a:pt x="1248" y="1152"/>
                </a:cubicBezTo>
                <a:cubicBezTo>
                  <a:pt x="1184" y="1248"/>
                  <a:pt x="1160" y="1280"/>
                  <a:pt x="1056" y="1344"/>
                </a:cubicBezTo>
                <a:cubicBezTo>
                  <a:pt x="952" y="1408"/>
                  <a:pt x="800" y="1440"/>
                  <a:pt x="624" y="1536"/>
                </a:cubicBezTo>
                <a:cubicBezTo>
                  <a:pt x="448" y="1632"/>
                  <a:pt x="224" y="1776"/>
                  <a:pt x="0" y="19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38480" y="1523880"/>
            <a:ext cx="2286000" cy="1752840"/>
          </a:xfrm>
          <a:custGeom>
            <a:avLst/>
            <a:gdLst/>
            <a:ahLst/>
            <a:rect l="l" t="t" r="r" b="b"/>
            <a:pathLst>
              <a:path w="1440" h="1104">
                <a:moveTo>
                  <a:pt x="1440" y="0"/>
                </a:moveTo>
                <a:cubicBezTo>
                  <a:pt x="1360" y="52"/>
                  <a:pt x="1280" y="104"/>
                  <a:pt x="1248" y="192"/>
                </a:cubicBezTo>
                <a:cubicBezTo>
                  <a:pt x="1216" y="280"/>
                  <a:pt x="1376" y="408"/>
                  <a:pt x="1248" y="528"/>
                </a:cubicBezTo>
                <a:cubicBezTo>
                  <a:pt x="1120" y="648"/>
                  <a:pt x="688" y="816"/>
                  <a:pt x="480" y="912"/>
                </a:cubicBezTo>
                <a:cubicBezTo>
                  <a:pt x="272" y="1008"/>
                  <a:pt x="136" y="1056"/>
                  <a:pt x="0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48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3048120"/>
            <a:ext cx="838440" cy="1155600"/>
          </a:xfrm>
          <a:custGeom>
            <a:avLst/>
            <a:gdLst/>
            <a:ahLst/>
            <a:rect l="l" t="t" r="r" b="b"/>
            <a:pathLst>
              <a:path w="528" h="728">
                <a:moveTo>
                  <a:pt x="0" y="0"/>
                </a:moveTo>
                <a:cubicBezTo>
                  <a:pt x="104" y="24"/>
                  <a:pt x="208" y="48"/>
                  <a:pt x="240" y="96"/>
                </a:cubicBezTo>
                <a:cubicBezTo>
                  <a:pt x="272" y="144"/>
                  <a:pt x="160" y="192"/>
                  <a:pt x="192" y="288"/>
                </a:cubicBezTo>
                <a:cubicBezTo>
                  <a:pt x="224" y="384"/>
                  <a:pt x="376" y="616"/>
                  <a:pt x="432" y="672"/>
                </a:cubicBezTo>
                <a:cubicBezTo>
                  <a:pt x="488" y="728"/>
                  <a:pt x="508" y="676"/>
                  <a:pt x="5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911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rebuchet MS"/>
              </a:rPr>
              <a:t>Tiempo de concentración: tiempo que demora en alcanzar la salida la partícula de agua que cae en el punto más al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977-ED91-4819-AAFD-42DBD8D106C5}" type="slidenum">
              <a:t>29</a:t>
            </a:fld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DROLOGIA participa en la solución de estos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219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Búsqueda de nuevos y mejores conocimientos sobre la distribución, existencia y comportamiento del agua en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7091400">
            <a:off x="4190760" y="2514240"/>
            <a:ext cx="990360" cy="6858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3352680"/>
            <a:ext cx="59436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ALUACION Y UTILIZACION EFICIENTE DEL RE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4648320"/>
            <a:ext cx="7010280" cy="1557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orte de antecedentes para el diseño óptimo y seguro de las obras hidráulicas necesarias para un aprovechamiento del recurso acorde a necesidades actuales y 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2062080" cy="15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37C-01E6-4BB4-9ACA-2509E33B34F5}" type="slidenum">
              <a:t>3</a:t>
            </a:fld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457200"/>
            <a:ext cx="7543800" cy="24789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idrologí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s la ciencia que tiene relación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AH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Asociación Internacional de Ciencias Hidrológicas : Ciencia de la Tierra y parte de la Geografía Física, por cuanto trata principalmente con el agua en la cortez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81280"/>
            <a:ext cx="8610480" cy="228852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Mead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04): "la ciencia del agua que constituye la base de todos los problemas de ingeniería hidráulica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orto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31): "como una ciencia pura, la Hidrología trata de la existencia, distribución y circulación del agua dentro y sobre las capas superficiales de la corteza terrestr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7CF-E2DE-4FCD-B847-747692EB03CA}" type="slidenum">
              <a:t>4</a:t>
            </a:fld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81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609480"/>
            <a:ext cx="8153280" cy="5214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icc. Merriam-Webster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1): "Hidrología es la ciencia que trata de las propiedades, distribución, existencia y circulación del agua; específicamente, el estudio del agua en la superficie de la tierra, en el suelo, estratos rocosos y en la atmósfera, particularmente en relación con los procesos de evaporación y precipitación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Consejo Federal para la Ciencia y la Tecnología de E.E.U.U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2) "La Hidrología es la ciencia que trata de las aguas de la Tierra, su existencia, circulación y distribución, sus propiedades físicas, químicas y sus reacciones con el medio ambiente, incluyendo su relación con los organismos vivo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C45-A7BF-4330-909E-5F8F88C934AA}" type="slidenum">
              <a:t>5</a:t>
            </a:fld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914400"/>
            <a:ext cx="716292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Meteorología, Climatología, Geografía Física, Geología, Geomorfología, Oceanografía, Limnologí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ciencias de la tier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648320"/>
            <a:ext cx="716292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gronomía, Mecánica y Física de Suelos, Hidráulica y Mecánica de Fluidos, Estadística Matemática, Análisis Matemático, Análisis de Sistemas y la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505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discipli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62872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7A3-7D7A-429C-B6C4-DFC223F660F9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nundacion%201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1765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0"/>
            <a:ext cx="731520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principal aplicación de la Hidrología es a la Ingeniería en general y a la Ingeniería Hidráulica en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124080"/>
            <a:ext cx="8305920" cy="33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nálisis y estudios hidrológicos relacionados por ejemplo con: </a:t>
            </a:r>
            <a:r>
              <a:rPr b="0" lang="es-CL" sz="2400" spc="-1" strike="noStrike">
                <a:solidFill>
                  <a:srgbClr val="ff0000"/>
                </a:solidFill>
                <a:latin typeface="Verdana"/>
              </a:rPr>
              <a:t>caudales medios disponible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diarios, mensuales, anuales), </a:t>
            </a:r>
            <a:r>
              <a:rPr b="0" lang="es-CL" sz="2400" spc="-1" strike="noStrike">
                <a:solidFill>
                  <a:srgbClr val="ff0000"/>
                </a:solidFill>
                <a:latin typeface="Verdana"/>
              </a:rPr>
              <a:t>magnitud y distribución en el tiempo y el espacio de las crecida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, previsión de caudales a corto y mediano plazo, </a:t>
            </a:r>
            <a:r>
              <a:rPr b="0" lang="es-CL" sz="2400" spc="-1" strike="noStrike">
                <a:solidFill>
                  <a:srgbClr val="ff0000"/>
                </a:solidFill>
                <a:latin typeface="Verdana"/>
              </a:rPr>
              <a:t>estimación y métodos de control de la evaporación y evapotranspiració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, determinación de caudales subterráneos e identificación de zonas de recarga de agua subterránea y su respectiva magnitud, etc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57200"/>
            <a:ext cx="457200" cy="2514600"/>
          </a:xfrm>
          <a:custGeom>
            <a:avLst/>
            <a:gdLst>
              <a:gd name="textAreaLeft" fmla="*/ 61200 w 457200"/>
              <a:gd name="textAreaRight" fmla="*/ 396000 w 45720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52280 w 1219320"/>
              <a:gd name="textAreaRight" fmla="*/ 1067040 w 12193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DF8-11DA-43EB-8207-17D9F383B0BE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4513320"/>
            <a:ext cx="8839080" cy="1983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iseño y dimensionamiento de obras hidráulicas (o de obras civiles afectadas por el agua como caminos, puentes, puertos, algunos edificios, etc.) establecer sus condiciones de construcción, operación y explotación, y conocer y elegir la </a:t>
            </a:r>
            <a:r>
              <a:rPr b="0" i="1" lang="es-CL" sz="2800" spc="-1" strike="noStrike">
                <a:solidFill>
                  <a:srgbClr val="ccecff"/>
                </a:solidFill>
                <a:latin typeface="Verdana"/>
              </a:rPr>
              <a:t>seguridad hidrológica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oxb_small%20embalse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267440" cy="281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504960" cy="25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B20-ECAE-4F2B-8B8C-2E6FD71294D9}" type="slidenum">
              <a:t>8</a:t>
            </a:fld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066680"/>
            <a:ext cx="8534520" cy="41173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uáles son los recursos hídricos de una hoya hidrográfica o regió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; son ellos adecuados en cuanto a su distribución espacial, temporal y grado de probabilidad de ocurrencia, para permitir el desarrollo agrícola, urbano e industrial de la zo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uáles son los factores y características hidrológicas de una regió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que determinan y posibilitan la evaluación económica, el diseño, construcción, operación y mantención de obras de aprovechamiento, control y evacuación de los recursos de agu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2EC-CBDF-4EC9-9F0E-0353840C777E}" type="slidenum">
              <a:t>9</a:t>
            </a:fld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4T16:09:08Z</dcterms:created>
  <dc:creator>Ximena Vargas</dc:creator>
  <dc:description/>
  <dc:language>en-US</dc:language>
  <cp:lastModifiedBy>xv</cp:lastModifiedBy>
  <dcterms:modified xsi:type="dcterms:W3CDTF">2006-03-07T16:05:49Z</dcterms:modified>
  <cp:revision>13</cp:revision>
  <dc:subject/>
  <dc:title>Sin título de diapositiva</dc:title>
</cp:coreProperties>
</file>