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FDFB9-568A-476F-B36E-28F45B71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A7A7-D0DE-4247-A762-F5DAEA025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32BDB-CA85-4B60-9431-0680FA9B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96291-3846-4116-A9A8-0E176292A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B9DE0-1D8C-4DCD-A178-667A9BE3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2C3D9-500D-46D0-B716-4A6C8D7A5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CF2CD-4AAA-40F2-A338-ED3E5813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EDAF3-6421-4B51-AD90-84B32C45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9E108-156F-4A8D-A413-3B237275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3445-6C37-4DD1-8D5C-DF1F572C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96D4-D2B2-473C-95D2-B087C1073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C646-5249-467E-9F00-8F46F2B80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523C-B463-40C7-BBF7-EF6166139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academico</cp:lastModifiedBy>
  <dcterms:modified xsi:type="dcterms:W3CDTF">2006-07-28T14:46:37Z</dcterms:modified>
  <cp:revision>26</cp:revision>
  <dc:subject/>
  <dc:title>Sin título de diapositiva</dc:title>
</cp:coreProperties>
</file>