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DED-C26C-41D8-BE42-C9750CF1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214-59B9-48CB-8326-2DCEB2F0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C42-F640-4B5B-A0BA-A2DE4C25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93B-A4C2-475C-8AAB-58EE0502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024-1D1E-493E-9805-7015A04F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ECF-5E06-44C8-BD8B-C4857005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C5B-E957-4ABD-84ED-FC040794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B85-5965-4318-82C6-686C2ECA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6F9-09FD-4E65-91CF-4A3B4419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BD1-75CB-4AE0-A5A3-91580D99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929-A77C-4E6D-B950-B8ED5C2F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B88-CB96-4159-BCD3-C2A5247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82FF-AEDC-4E82-AFE0-ED8079F6E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-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6-03-17T15:53:26Z</dcterms:modified>
  <cp:revision>19</cp:revision>
  <dc:subject/>
  <dc:title>Proyecto WMS – MM5 Cuenca del Mataquito</dc:title>
</cp:coreProperties>
</file>