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6.pct" ContentType="image/x-pict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9.png" ContentType="image/png"/>
  <Override PartName="/ppt/media/image22.pct" ContentType="image/x-pict"/>
  <Override PartName="/ppt/media/image6.pct" ContentType="image/x-pict"/>
  <Override PartName="/ppt/media/image11.jpeg" ContentType="image/jpeg"/>
  <Override PartName="/ppt/media/image5.pct" ContentType="image/x-pict"/>
  <Override PartName="/ppt/media/image2.jpeg" ContentType="image/jpeg"/>
  <Override PartName="/ppt/media/image4.pct" ContentType="image/x-pict"/>
  <Override PartName="/ppt/media/image27.jpeg" ContentType="image/jpeg"/>
  <Override PartName="/ppt/media/image25.jpeg" ContentType="image/jpeg"/>
  <Override PartName="/ppt/media/image24.pct" ContentType="image/x-pict"/>
  <Override PartName="/ppt/media/image3.jpeg" ContentType="image/jpeg"/>
  <Override PartName="/ppt/media/image15.png" ContentType="image/png"/>
  <Override PartName="/ppt/media/image26.jpeg" ContentType="image/jpeg"/>
  <Override PartName="/ppt/media/image23.pct" ContentType="image/x-pict"/>
  <Override PartName="/ppt/media/image17.pct" ContentType="image/x-pict"/>
  <Override PartName="/ppt/media/image14.jpeg" ContentType="image/jpeg"/>
  <Override PartName="/ppt/media/image21.pct" ContentType="image/x-pict"/>
  <Override PartName="/ppt/media/image19.pct" ContentType="image/x-pict"/>
  <Override PartName="/ppt/media/image18.pct" ContentType="image/x-pict"/>
  <Override PartName="/ppt/media/image20.pct" ContentType="image/x-pict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D82-6935-4DF1-B3D1-E4A00C46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0DDB-20BD-4009-9926-C107AC06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E66F-D92F-4A83-9944-FEF5D802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1874-8AC3-4DE0-A0B3-8DA57D0E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B9E2-AAC9-42EB-9F65-9907A419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A778-16F7-4FFC-B9CE-6F943726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2DD8-D882-4034-A4AF-E5EE321E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F5F-5EE2-4086-BB82-CD5BE39B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4F64-8E24-48EB-98B5-533245E1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B5F-0C76-431B-AEE4-29A0470C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C83-4A23-4801-BF08-0823AB6C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F54E-1CB2-40CE-B668-7291CDBC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1270-0E8A-4C6D-BFA1-35FD34C65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ct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20.pct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image" Target="../media/image22.pct"/><Relationship Id="rId3" Type="http://schemas.openxmlformats.org/officeDocument/2006/relationships/image" Target="../media/image23.pct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71600" y="1676520"/>
            <a:ext cx="1523880" cy="3733560"/>
            <a:chOff x="1371600" y="1676520"/>
            <a:chExt cx="1523880" cy="3733560"/>
          </a:xfrm>
        </p:grpSpPr>
        <p:sp>
          <p:nvSpPr>
            <p:cNvPr id="42" name=""/>
            <p:cNvSpPr/>
            <p:nvPr/>
          </p:nvSpPr>
          <p:spPr>
            <a:xfrm>
              <a:off x="1371600" y="1676520"/>
              <a:ext cx="1523880" cy="37335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371600" y="3048120"/>
              <a:ext cx="1523880" cy="1676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5410440" cy="3751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H="1">
            <a:off x="1371240" y="4716360"/>
            <a:ext cx="563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371240" y="3033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44484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3124080"/>
            <a:ext cx="60948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32004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809880"/>
            <a:ext cx="5335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796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15000" y="3200400"/>
            <a:ext cx="0" cy="255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10920" y="3809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9240" y="31068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9520" y="30481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66040" y="533520"/>
            <a:ext cx="52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VERTEDEROS DE PARED GRU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6502" r="0" b="9288"/>
          <a:stretch/>
        </p:blipFill>
        <p:spPr>
          <a:xfrm>
            <a:off x="1752480" y="0"/>
            <a:ext cx="584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0" t="7430" r="0" b="10217"/>
          <a:stretch/>
        </p:blipFill>
        <p:spPr>
          <a:xfrm>
            <a:off x="1752480" y="0"/>
            <a:ext cx="598032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08480" y="2286000"/>
            <a:ext cx="59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VERTEDEROS DE PARED INTER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9288" r="0" b="27864"/>
          <a:stretch/>
        </p:blipFill>
        <p:spPr>
          <a:xfrm>
            <a:off x="1066680" y="304920"/>
            <a:ext cx="7062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9288" r="0" b="18576"/>
          <a:stretch/>
        </p:blipFill>
        <p:spPr>
          <a:xfrm>
            <a:off x="1371600" y="147600"/>
            <a:ext cx="651996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1280" y="4648320"/>
            <a:ext cx="304920" cy="761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5105520"/>
            <a:ext cx="2514600" cy="30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4648320"/>
            <a:ext cx="1676520" cy="30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1337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26668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1676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1676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46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4200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820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24033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6952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209680" y="4648320"/>
            <a:ext cx="4191120" cy="457200"/>
            <a:chOff x="2209680" y="4648320"/>
            <a:chExt cx="4191120" cy="457200"/>
          </a:xfrm>
        </p:grpSpPr>
        <p:sp>
          <p:nvSpPr>
            <p:cNvPr id="108" name=""/>
            <p:cNvSpPr/>
            <p:nvPr/>
          </p:nvSpPr>
          <p:spPr>
            <a:xfrm>
              <a:off x="2209680" y="464832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886200" y="46483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09680" y="419112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962520"/>
            <a:ext cx="2133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97280" y="3962520"/>
            <a:ext cx="495360" cy="228600"/>
          </a:xfrm>
          <a:custGeom>
            <a:avLst/>
            <a:gdLst/>
            <a:ahLst/>
            <a:rect l="l" t="t" r="r" b="b"/>
            <a:pathLst>
              <a:path w="312" h="144">
                <a:moveTo>
                  <a:pt x="0" y="144"/>
                </a:moveTo>
                <a:cubicBezTo>
                  <a:pt x="54" y="136"/>
                  <a:pt x="97" y="126"/>
                  <a:pt x="144" y="96"/>
                </a:cubicBezTo>
                <a:cubicBezTo>
                  <a:pt x="155" y="78"/>
                  <a:pt x="166" y="34"/>
                  <a:pt x="184" y="24"/>
                </a:cubicBezTo>
                <a:cubicBezTo>
                  <a:pt x="219" y="2"/>
                  <a:pt x="273" y="0"/>
                  <a:pt x="312" y="0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42670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43434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41148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340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42360" y="4267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8008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00400" y="464832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4040" y="533520"/>
            <a:ext cx="69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ENSANCHE BRUSCO CON GRADA DE BAJ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81280" y="4648320"/>
            <a:ext cx="304920" cy="761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5105520"/>
            <a:ext cx="2514600" cy="304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648320"/>
            <a:ext cx="1676520" cy="304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21337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26668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6252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1676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1676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2820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09680" y="4648320"/>
            <a:ext cx="4191120" cy="457200"/>
            <a:chOff x="2209680" y="4648320"/>
            <a:chExt cx="4191120" cy="457200"/>
          </a:xfrm>
        </p:grpSpPr>
        <p:sp>
          <p:nvSpPr>
            <p:cNvPr id="139" name=""/>
            <p:cNvSpPr/>
            <p:nvPr/>
          </p:nvSpPr>
          <p:spPr>
            <a:xfrm>
              <a:off x="2209680" y="464832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86200" y="510552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886200" y="46483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209680" y="419112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3962520"/>
            <a:ext cx="2133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97280" y="3962520"/>
            <a:ext cx="495360" cy="228600"/>
          </a:xfrm>
          <a:custGeom>
            <a:avLst/>
            <a:gdLst/>
            <a:ahLst/>
            <a:rect l="l" t="t" r="r" b="b"/>
            <a:pathLst>
              <a:path w="312" h="144">
                <a:moveTo>
                  <a:pt x="0" y="144"/>
                </a:moveTo>
                <a:cubicBezTo>
                  <a:pt x="54" y="136"/>
                  <a:pt x="97" y="126"/>
                  <a:pt x="144" y="96"/>
                </a:cubicBezTo>
                <a:cubicBezTo>
                  <a:pt x="155" y="78"/>
                  <a:pt x="166" y="34"/>
                  <a:pt x="184" y="24"/>
                </a:cubicBezTo>
                <a:cubicBezTo>
                  <a:pt x="219" y="2"/>
                  <a:pt x="273" y="0"/>
                  <a:pt x="312" y="0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42670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38280" y="43434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384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41148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3408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42360" y="42670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008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276720" y="1714680"/>
            <a:ext cx="1587240" cy="495000"/>
            <a:chOff x="3276720" y="1714680"/>
            <a:chExt cx="1587240" cy="495000"/>
          </a:xfrm>
        </p:grpSpPr>
        <p:sp>
          <p:nvSpPr>
            <p:cNvPr id="154" name=""/>
            <p:cNvSpPr/>
            <p:nvPr/>
          </p:nvSpPr>
          <p:spPr>
            <a:xfrm>
              <a:off x="3886200" y="1714680"/>
              <a:ext cx="977760" cy="495000"/>
            </a:xfrm>
            <a:custGeom>
              <a:avLst/>
              <a:gdLst/>
              <a:ahLst/>
              <a:rect l="l" t="t" r="r" b="b"/>
              <a:pathLst>
                <a:path w="536" h="248">
                  <a:moveTo>
                    <a:pt x="0" y="248"/>
                  </a:moveTo>
                  <a:cubicBezTo>
                    <a:pt x="16" y="245"/>
                    <a:pt x="32" y="243"/>
                    <a:pt x="48" y="240"/>
                  </a:cubicBezTo>
                  <a:cubicBezTo>
                    <a:pt x="64" y="235"/>
                    <a:pt x="96" y="224"/>
                    <a:pt x="96" y="224"/>
                  </a:cubicBezTo>
                  <a:cubicBezTo>
                    <a:pt x="122" y="197"/>
                    <a:pt x="147" y="172"/>
                    <a:pt x="184" y="160"/>
                  </a:cubicBezTo>
                  <a:cubicBezTo>
                    <a:pt x="302" y="41"/>
                    <a:pt x="362" y="0"/>
                    <a:pt x="536" y="0"/>
                  </a:cubicBezTo>
                </a:path>
              </a:pathLst>
            </a:custGeom>
            <a:noFill/>
            <a:ln w="9360">
              <a:solidFill>
                <a:srgbClr val="ed181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76720" y="2209680"/>
              <a:ext cx="609480" cy="0"/>
            </a:xfrm>
            <a:prstGeom prst="line">
              <a:avLst/>
            </a:prstGeom>
            <a:ln w="9360">
              <a:solidFill>
                <a:srgbClr val="ed181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3276720" y="2590920"/>
            <a:ext cx="1600200" cy="495360"/>
            <a:chOff x="3276720" y="2590920"/>
            <a:chExt cx="1600200" cy="495360"/>
          </a:xfrm>
        </p:grpSpPr>
        <p:sp>
          <p:nvSpPr>
            <p:cNvPr id="157" name=""/>
            <p:cNvSpPr/>
            <p:nvPr/>
          </p:nvSpPr>
          <p:spPr>
            <a:xfrm flipV="1">
              <a:off x="3898800" y="2590920"/>
              <a:ext cx="978120" cy="495360"/>
            </a:xfrm>
            <a:custGeom>
              <a:avLst/>
              <a:gdLst/>
              <a:ahLst/>
              <a:rect l="l" t="t" r="r" b="b"/>
              <a:pathLst>
                <a:path w="536" h="248">
                  <a:moveTo>
                    <a:pt x="0" y="248"/>
                  </a:moveTo>
                  <a:cubicBezTo>
                    <a:pt x="16" y="245"/>
                    <a:pt x="32" y="243"/>
                    <a:pt x="48" y="240"/>
                  </a:cubicBezTo>
                  <a:cubicBezTo>
                    <a:pt x="64" y="235"/>
                    <a:pt x="96" y="224"/>
                    <a:pt x="96" y="224"/>
                  </a:cubicBezTo>
                  <a:cubicBezTo>
                    <a:pt x="122" y="197"/>
                    <a:pt x="147" y="172"/>
                    <a:pt x="184" y="160"/>
                  </a:cubicBezTo>
                  <a:cubicBezTo>
                    <a:pt x="302" y="41"/>
                    <a:pt x="362" y="0"/>
                    <a:pt x="536" y="0"/>
                  </a:cubicBezTo>
                </a:path>
              </a:pathLst>
            </a:custGeom>
            <a:noFill/>
            <a:ln w="9360">
              <a:solidFill>
                <a:srgbClr val="ed181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76720" y="2590920"/>
              <a:ext cx="609480" cy="0"/>
            </a:xfrm>
            <a:prstGeom prst="line">
              <a:avLst/>
            </a:prstGeom>
            <a:ln w="9360">
              <a:solidFill>
                <a:srgbClr val="ed181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984480" y="173988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58" y="176"/>
                </a:moveTo>
                <a:cubicBezTo>
                  <a:pt x="84" y="167"/>
                  <a:pt x="103" y="152"/>
                  <a:pt x="130" y="144"/>
                </a:cubicBezTo>
                <a:cubicBezTo>
                  <a:pt x="169" y="114"/>
                  <a:pt x="196" y="79"/>
                  <a:pt x="226" y="40"/>
                </a:cubicBezTo>
                <a:cubicBezTo>
                  <a:pt x="223" y="32"/>
                  <a:pt x="224" y="20"/>
                  <a:pt x="218" y="16"/>
                </a:cubicBezTo>
                <a:cubicBezTo>
                  <a:pt x="204" y="6"/>
                  <a:pt x="170" y="0"/>
                  <a:pt x="170" y="0"/>
                </a:cubicBezTo>
                <a:cubicBezTo>
                  <a:pt x="113" y="6"/>
                  <a:pt x="72" y="8"/>
                  <a:pt x="26" y="40"/>
                </a:cubicBezTo>
                <a:cubicBezTo>
                  <a:pt x="0" y="78"/>
                  <a:pt x="14" y="105"/>
                  <a:pt x="58" y="120"/>
                </a:cubicBezTo>
                <a:cubicBezTo>
                  <a:pt x="102" y="113"/>
                  <a:pt x="131" y="122"/>
                  <a:pt x="146" y="80"/>
                </a:cubicBezTo>
                <a:cubicBezTo>
                  <a:pt x="138" y="74"/>
                  <a:pt x="131" y="65"/>
                  <a:pt x="122" y="64"/>
                </a:cubicBezTo>
                <a:cubicBezTo>
                  <a:pt x="105" y="61"/>
                  <a:pt x="69" y="76"/>
                  <a:pt x="58" y="8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984480" y="276876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58" y="176"/>
                </a:moveTo>
                <a:cubicBezTo>
                  <a:pt x="84" y="167"/>
                  <a:pt x="103" y="152"/>
                  <a:pt x="130" y="144"/>
                </a:cubicBezTo>
                <a:cubicBezTo>
                  <a:pt x="169" y="114"/>
                  <a:pt x="196" y="79"/>
                  <a:pt x="226" y="40"/>
                </a:cubicBezTo>
                <a:cubicBezTo>
                  <a:pt x="223" y="32"/>
                  <a:pt x="224" y="20"/>
                  <a:pt x="218" y="16"/>
                </a:cubicBezTo>
                <a:cubicBezTo>
                  <a:pt x="204" y="6"/>
                  <a:pt x="170" y="0"/>
                  <a:pt x="170" y="0"/>
                </a:cubicBezTo>
                <a:cubicBezTo>
                  <a:pt x="113" y="6"/>
                  <a:pt x="72" y="8"/>
                  <a:pt x="26" y="40"/>
                </a:cubicBezTo>
                <a:cubicBezTo>
                  <a:pt x="0" y="78"/>
                  <a:pt x="14" y="105"/>
                  <a:pt x="58" y="120"/>
                </a:cubicBezTo>
                <a:cubicBezTo>
                  <a:pt x="102" y="113"/>
                  <a:pt x="131" y="122"/>
                  <a:pt x="146" y="80"/>
                </a:cubicBezTo>
                <a:cubicBezTo>
                  <a:pt x="138" y="74"/>
                  <a:pt x="131" y="65"/>
                  <a:pt x="122" y="64"/>
                </a:cubicBezTo>
                <a:cubicBezTo>
                  <a:pt x="105" y="61"/>
                  <a:pt x="69" y="76"/>
                  <a:pt x="58" y="8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38480" y="2362320"/>
            <a:ext cx="990720" cy="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41880" y="2039760"/>
            <a:ext cx="787320" cy="144720"/>
          </a:xfrm>
          <a:custGeom>
            <a:avLst/>
            <a:gdLst/>
            <a:ahLst/>
            <a:rect l="l" t="t" r="r" b="b"/>
            <a:pathLst>
              <a:path w="496" h="91">
                <a:moveTo>
                  <a:pt x="0" y="91"/>
                </a:moveTo>
                <a:cubicBezTo>
                  <a:pt x="50" y="80"/>
                  <a:pt x="152" y="67"/>
                  <a:pt x="152" y="67"/>
                </a:cubicBezTo>
                <a:cubicBezTo>
                  <a:pt x="201" y="50"/>
                  <a:pt x="260" y="15"/>
                  <a:pt x="312" y="11"/>
                </a:cubicBezTo>
                <a:cubicBezTo>
                  <a:pt x="431" y="0"/>
                  <a:pt x="370" y="3"/>
                  <a:pt x="496" y="3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241880" y="2590200"/>
            <a:ext cx="787320" cy="144360"/>
          </a:xfrm>
          <a:custGeom>
            <a:avLst/>
            <a:gdLst/>
            <a:ahLst/>
            <a:rect l="l" t="t" r="r" b="b"/>
            <a:pathLst>
              <a:path w="496" h="91">
                <a:moveTo>
                  <a:pt x="0" y="91"/>
                </a:moveTo>
                <a:cubicBezTo>
                  <a:pt x="50" y="80"/>
                  <a:pt x="152" y="67"/>
                  <a:pt x="152" y="67"/>
                </a:cubicBezTo>
                <a:cubicBezTo>
                  <a:pt x="201" y="50"/>
                  <a:pt x="260" y="15"/>
                  <a:pt x="312" y="11"/>
                </a:cubicBezTo>
                <a:cubicBezTo>
                  <a:pt x="431" y="0"/>
                  <a:pt x="370" y="3"/>
                  <a:pt x="496" y="3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886200" y="4673520"/>
            <a:ext cx="533520" cy="35568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58" y="176"/>
                </a:moveTo>
                <a:cubicBezTo>
                  <a:pt x="84" y="167"/>
                  <a:pt x="103" y="152"/>
                  <a:pt x="130" y="144"/>
                </a:cubicBezTo>
                <a:cubicBezTo>
                  <a:pt x="169" y="114"/>
                  <a:pt x="196" y="79"/>
                  <a:pt x="226" y="40"/>
                </a:cubicBezTo>
                <a:cubicBezTo>
                  <a:pt x="223" y="32"/>
                  <a:pt x="224" y="20"/>
                  <a:pt x="218" y="16"/>
                </a:cubicBezTo>
                <a:cubicBezTo>
                  <a:pt x="204" y="6"/>
                  <a:pt x="170" y="0"/>
                  <a:pt x="170" y="0"/>
                </a:cubicBezTo>
                <a:cubicBezTo>
                  <a:pt x="113" y="6"/>
                  <a:pt x="72" y="8"/>
                  <a:pt x="26" y="40"/>
                </a:cubicBezTo>
                <a:cubicBezTo>
                  <a:pt x="0" y="78"/>
                  <a:pt x="14" y="105"/>
                  <a:pt x="58" y="120"/>
                </a:cubicBezTo>
                <a:cubicBezTo>
                  <a:pt x="102" y="113"/>
                  <a:pt x="131" y="122"/>
                  <a:pt x="146" y="80"/>
                </a:cubicBezTo>
                <a:cubicBezTo>
                  <a:pt x="138" y="74"/>
                  <a:pt x="131" y="65"/>
                  <a:pt x="122" y="64"/>
                </a:cubicBezTo>
                <a:cubicBezTo>
                  <a:pt x="105" y="61"/>
                  <a:pt x="69" y="76"/>
                  <a:pt x="58" y="8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429000" y="4610160"/>
            <a:ext cx="1600200" cy="419040"/>
            <a:chOff x="3429000" y="4610160"/>
            <a:chExt cx="1600200" cy="419040"/>
          </a:xfrm>
        </p:grpSpPr>
        <p:sp>
          <p:nvSpPr>
            <p:cNvPr id="166" name=""/>
            <p:cNvSpPr/>
            <p:nvPr/>
          </p:nvSpPr>
          <p:spPr>
            <a:xfrm flipV="1">
              <a:off x="4051440" y="4610160"/>
              <a:ext cx="977760" cy="419040"/>
            </a:xfrm>
            <a:custGeom>
              <a:avLst/>
              <a:gdLst/>
              <a:ahLst/>
              <a:rect l="l" t="t" r="r" b="b"/>
              <a:pathLst>
                <a:path w="536" h="248">
                  <a:moveTo>
                    <a:pt x="0" y="248"/>
                  </a:moveTo>
                  <a:cubicBezTo>
                    <a:pt x="16" y="245"/>
                    <a:pt x="32" y="243"/>
                    <a:pt x="48" y="240"/>
                  </a:cubicBezTo>
                  <a:cubicBezTo>
                    <a:pt x="64" y="235"/>
                    <a:pt x="96" y="224"/>
                    <a:pt x="96" y="224"/>
                  </a:cubicBezTo>
                  <a:cubicBezTo>
                    <a:pt x="122" y="197"/>
                    <a:pt x="147" y="172"/>
                    <a:pt x="184" y="160"/>
                  </a:cubicBezTo>
                  <a:cubicBezTo>
                    <a:pt x="302" y="41"/>
                    <a:pt x="362" y="0"/>
                    <a:pt x="536" y="0"/>
                  </a:cubicBezTo>
                </a:path>
              </a:pathLst>
            </a:custGeom>
            <a:noFill/>
            <a:ln w="9360">
              <a:solidFill>
                <a:srgbClr val="ed181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29000" y="4610160"/>
              <a:ext cx="609480" cy="0"/>
            </a:xfrm>
            <a:prstGeom prst="line">
              <a:avLst/>
            </a:prstGeom>
            <a:ln w="9360">
              <a:solidFill>
                <a:srgbClr val="ed18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429000" y="4191120"/>
            <a:ext cx="1574640" cy="215640"/>
          </a:xfrm>
          <a:custGeom>
            <a:avLst/>
            <a:gdLst/>
            <a:ahLst/>
            <a:rect l="l" t="t" r="r" b="b"/>
            <a:pathLst>
              <a:path w="992" h="150">
                <a:moveTo>
                  <a:pt x="0" y="128"/>
                </a:moveTo>
                <a:cubicBezTo>
                  <a:pt x="114" y="150"/>
                  <a:pt x="218" y="140"/>
                  <a:pt x="336" y="136"/>
                </a:cubicBezTo>
                <a:cubicBezTo>
                  <a:pt x="419" y="126"/>
                  <a:pt x="495" y="104"/>
                  <a:pt x="576" y="80"/>
                </a:cubicBezTo>
                <a:cubicBezTo>
                  <a:pt x="604" y="71"/>
                  <a:pt x="641" y="52"/>
                  <a:pt x="672" y="48"/>
                </a:cubicBezTo>
                <a:cubicBezTo>
                  <a:pt x="722" y="40"/>
                  <a:pt x="773" y="34"/>
                  <a:pt x="824" y="24"/>
                </a:cubicBezTo>
                <a:cubicBezTo>
                  <a:pt x="850" y="18"/>
                  <a:pt x="876" y="10"/>
                  <a:pt x="904" y="8"/>
                </a:cubicBezTo>
                <a:cubicBezTo>
                  <a:pt x="933" y="5"/>
                  <a:pt x="992" y="0"/>
                  <a:pt x="992" y="0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505320" y="4035600"/>
            <a:ext cx="1269360" cy="231480"/>
            <a:chOff x="3505320" y="4035600"/>
            <a:chExt cx="1269360" cy="231480"/>
          </a:xfrm>
        </p:grpSpPr>
        <p:sp>
          <p:nvSpPr>
            <p:cNvPr id="170" name=""/>
            <p:cNvSpPr/>
            <p:nvPr/>
          </p:nvSpPr>
          <p:spPr>
            <a:xfrm>
              <a:off x="3856680" y="4035600"/>
              <a:ext cx="918000" cy="231480"/>
            </a:xfrm>
            <a:custGeom>
              <a:avLst/>
              <a:gdLst/>
              <a:ahLst/>
              <a:rect l="l" t="t" r="r" b="b"/>
              <a:pathLst>
                <a:path w="648" h="146">
                  <a:moveTo>
                    <a:pt x="0" y="146"/>
                  </a:moveTo>
                  <a:cubicBezTo>
                    <a:pt x="50" y="135"/>
                    <a:pt x="90" y="118"/>
                    <a:pt x="136" y="98"/>
                  </a:cubicBezTo>
                  <a:cubicBezTo>
                    <a:pt x="159" y="87"/>
                    <a:pt x="186" y="88"/>
                    <a:pt x="208" y="74"/>
                  </a:cubicBezTo>
                  <a:cubicBezTo>
                    <a:pt x="246" y="48"/>
                    <a:pt x="289" y="25"/>
                    <a:pt x="336" y="18"/>
                  </a:cubicBezTo>
                  <a:cubicBezTo>
                    <a:pt x="441" y="0"/>
                    <a:pt x="538" y="2"/>
                    <a:pt x="648" y="2"/>
                  </a:cubicBezTo>
                </a:path>
              </a:pathLst>
            </a:custGeom>
            <a:noFill/>
            <a:ln w="9360">
              <a:solidFill>
                <a:srgbClr val="ed181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05320" y="4267080"/>
              <a:ext cx="339840" cy="0"/>
            </a:xfrm>
            <a:prstGeom prst="line">
              <a:avLst/>
            </a:prstGeom>
            <a:ln w="9360">
              <a:solidFill>
                <a:srgbClr val="ed18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479760" y="4483080"/>
            <a:ext cx="1549440" cy="92160"/>
          </a:xfrm>
          <a:custGeom>
            <a:avLst/>
            <a:gdLst/>
            <a:ahLst/>
            <a:rect l="l" t="t" r="r" b="b"/>
            <a:pathLst>
              <a:path w="976" h="58">
                <a:moveTo>
                  <a:pt x="0" y="8"/>
                </a:moveTo>
                <a:cubicBezTo>
                  <a:pt x="47" y="23"/>
                  <a:pt x="112" y="4"/>
                  <a:pt x="160" y="0"/>
                </a:cubicBezTo>
                <a:cubicBezTo>
                  <a:pt x="321" y="20"/>
                  <a:pt x="485" y="11"/>
                  <a:pt x="648" y="24"/>
                </a:cubicBezTo>
                <a:cubicBezTo>
                  <a:pt x="750" y="58"/>
                  <a:pt x="869" y="56"/>
                  <a:pt x="976" y="56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2362320"/>
            <a:ext cx="609480" cy="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971800" y="838080"/>
            <a:ext cx="3311640" cy="79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048120" y="2362320"/>
            <a:ext cx="2963880" cy="336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11160" y="4191120"/>
            <a:ext cx="142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6160" y="4343400"/>
            <a:ext cx="142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69840" y="548640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17400" y="5486400"/>
            <a:ext cx="1224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484360" y="3962520"/>
            <a:ext cx="4191120" cy="1447560"/>
            <a:chOff x="2484360" y="3962520"/>
            <a:chExt cx="4191120" cy="1447560"/>
          </a:xfrm>
        </p:grpSpPr>
        <p:sp>
          <p:nvSpPr>
            <p:cNvPr id="181" name=""/>
            <p:cNvSpPr/>
            <p:nvPr/>
          </p:nvSpPr>
          <p:spPr>
            <a:xfrm>
              <a:off x="3855960" y="4648320"/>
              <a:ext cx="304920" cy="761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60880" y="5105520"/>
              <a:ext cx="2514600" cy="304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84360" y="4648320"/>
              <a:ext cx="1676520" cy="304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84360" y="4648320"/>
              <a:ext cx="4191120" cy="457200"/>
              <a:chOff x="2484360" y="4648320"/>
              <a:chExt cx="4191120" cy="457200"/>
            </a:xfrm>
          </p:grpSpPr>
          <p:sp>
            <p:nvSpPr>
              <p:cNvPr id="185" name=""/>
              <p:cNvSpPr/>
              <p:nvPr/>
            </p:nvSpPr>
            <p:spPr>
              <a:xfrm>
                <a:off x="2484360" y="464832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160880" y="5105520"/>
                <a:ext cx="251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4160880" y="46483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2484360" y="4191120"/>
              <a:ext cx="1600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41760" y="3962520"/>
              <a:ext cx="2133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71960" y="3962520"/>
              <a:ext cx="495360" cy="228600"/>
            </a:xfrm>
            <a:custGeom>
              <a:avLst/>
              <a:gdLst/>
              <a:ahLst/>
              <a:rect l="l" t="t" r="r" b="b"/>
              <a:pathLst>
                <a:path w="312" h="144">
                  <a:moveTo>
                    <a:pt x="0" y="144"/>
                  </a:moveTo>
                  <a:cubicBezTo>
                    <a:pt x="54" y="136"/>
                    <a:pt x="97" y="126"/>
                    <a:pt x="144" y="96"/>
                  </a:cubicBezTo>
                  <a:cubicBezTo>
                    <a:pt x="155" y="78"/>
                    <a:pt x="166" y="34"/>
                    <a:pt x="184" y="24"/>
                  </a:cubicBezTo>
                  <a:cubicBezTo>
                    <a:pt x="219" y="2"/>
                    <a:pt x="273" y="0"/>
                    <a:pt x="312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60680" y="426708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12960" y="43434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41960" y="403848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94600" y="41148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08760" y="3962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7040" y="426708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54760" y="4191120"/>
              <a:ext cx="42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46480" y="4191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89480" y="46483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160880" y="4648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75080" y="464832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08600" y="40384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70360" y="4038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71800" y="426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068120" y="9907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.C.M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895480" y="3697200"/>
            <a:ext cx="3287880" cy="798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313160" y="838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31680" y="1741320"/>
            <a:ext cx="757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BCRITICO-SUBCRI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RISIS-SUBCRI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PERCRITICO-NAPA SUPERFICIAL-SUBCRI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4908600" cy="798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192920" y="8380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79400" y="1741320"/>
            <a:ext cx="74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UPERCRITICO-NAPA SUMERGIDA-SUBCRI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9288" r="0" b="7430"/>
          <a:stretch/>
        </p:blipFill>
        <p:spPr>
          <a:xfrm>
            <a:off x="1828800" y="0"/>
            <a:ext cx="579744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420560" y="457200"/>
            <a:ext cx="62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JEMPLO: Existe crisis en grada/angosta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3657600"/>
            <a:ext cx="304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3400" y="4114800"/>
            <a:ext cx="25146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66880" y="3657600"/>
            <a:ext cx="167652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2666880" y="3657600"/>
            <a:ext cx="4191120" cy="457200"/>
            <a:chOff x="2666880" y="3657600"/>
            <a:chExt cx="4191120" cy="457200"/>
          </a:xfrm>
        </p:grpSpPr>
        <p:sp>
          <p:nvSpPr>
            <p:cNvPr id="217" name=""/>
            <p:cNvSpPr/>
            <p:nvPr/>
          </p:nvSpPr>
          <p:spPr>
            <a:xfrm>
              <a:off x="2666880" y="36576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43400" y="41148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34340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666880" y="320040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24280" y="2971800"/>
            <a:ext cx="2133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54480" y="2971800"/>
            <a:ext cx="495360" cy="228600"/>
          </a:xfrm>
          <a:custGeom>
            <a:avLst/>
            <a:gdLst/>
            <a:ahLst/>
            <a:rect l="l" t="t" r="r" b="b"/>
            <a:pathLst>
              <a:path w="312" h="144">
                <a:moveTo>
                  <a:pt x="0" y="144"/>
                </a:moveTo>
                <a:cubicBezTo>
                  <a:pt x="54" y="136"/>
                  <a:pt x="97" y="126"/>
                  <a:pt x="144" y="96"/>
                </a:cubicBezTo>
                <a:cubicBezTo>
                  <a:pt x="155" y="78"/>
                  <a:pt x="166" y="34"/>
                  <a:pt x="184" y="24"/>
                </a:cubicBezTo>
                <a:cubicBezTo>
                  <a:pt x="219" y="2"/>
                  <a:pt x="273" y="0"/>
                  <a:pt x="312" y="0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3200" y="32767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33526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24480" y="30481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31240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91280" y="2971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7480" y="3276720"/>
            <a:ext cx="52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43400" y="32004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57600" y="3657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76920" y="3809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01120" y="3581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8000" y="27432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57400" y="342900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32004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00720" y="1066680"/>
            <a:ext cx="370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6640" y="21337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lím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20560" y="457200"/>
            <a:ext cx="62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JEMPLO: Existe crisis en grada/angosta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038480" y="4114800"/>
            <a:ext cx="304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3400" y="4572000"/>
            <a:ext cx="25146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66880" y="4114800"/>
            <a:ext cx="167652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666880" y="4114800"/>
            <a:ext cx="4191120" cy="457200"/>
            <a:chOff x="2666880" y="4114800"/>
            <a:chExt cx="4191120" cy="457200"/>
          </a:xfrm>
        </p:grpSpPr>
        <p:sp>
          <p:nvSpPr>
            <p:cNvPr id="246" name=""/>
            <p:cNvSpPr/>
            <p:nvPr/>
          </p:nvSpPr>
          <p:spPr>
            <a:xfrm>
              <a:off x="2666880" y="41148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43400" y="45720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343400" y="4114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66880" y="3276720"/>
            <a:ext cx="4191120" cy="380880"/>
            <a:chOff x="2666880" y="3276720"/>
            <a:chExt cx="4191120" cy="380880"/>
          </a:xfrm>
        </p:grpSpPr>
        <p:sp>
          <p:nvSpPr>
            <p:cNvPr id="250" name=""/>
            <p:cNvSpPr/>
            <p:nvPr/>
          </p:nvSpPr>
          <p:spPr>
            <a:xfrm>
              <a:off x="2666880" y="3505320"/>
              <a:ext cx="1600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3276720"/>
              <a:ext cx="2133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54480" y="3276720"/>
              <a:ext cx="495360" cy="228600"/>
            </a:xfrm>
            <a:custGeom>
              <a:avLst/>
              <a:gdLst/>
              <a:ahLst/>
              <a:rect l="l" t="t" r="r" b="b"/>
              <a:pathLst>
                <a:path w="312" h="144">
                  <a:moveTo>
                    <a:pt x="0" y="144"/>
                  </a:moveTo>
                  <a:cubicBezTo>
                    <a:pt x="54" y="136"/>
                    <a:pt x="97" y="126"/>
                    <a:pt x="144" y="96"/>
                  </a:cubicBezTo>
                  <a:cubicBezTo>
                    <a:pt x="155" y="78"/>
                    <a:pt x="166" y="34"/>
                    <a:pt x="184" y="24"/>
                  </a:cubicBezTo>
                  <a:cubicBezTo>
                    <a:pt x="219" y="2"/>
                    <a:pt x="273" y="0"/>
                    <a:pt x="312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3200" y="358164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95480" y="36576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24480" y="335304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77120" y="34290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5814000" y="3581280"/>
            <a:ext cx="105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37280" y="35812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900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3434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57600" y="41148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4267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01120" y="40384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388620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76520" y="36576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00720" y="1066680"/>
            <a:ext cx="370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40400" y="2209680"/>
            <a:ext cx="4080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NO HAY 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666880" y="37339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286520" y="350532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3276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3112920" y="5297400"/>
            <a:ext cx="328788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20560" y="457200"/>
            <a:ext cx="62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JEMPLO: Existe crisis en grada/angosta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4114800"/>
            <a:ext cx="304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4572000"/>
            <a:ext cx="25146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4114800"/>
            <a:ext cx="167652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666880" y="4114800"/>
            <a:ext cx="4191120" cy="457200"/>
            <a:chOff x="2666880" y="4114800"/>
            <a:chExt cx="4191120" cy="457200"/>
          </a:xfrm>
        </p:grpSpPr>
        <p:sp>
          <p:nvSpPr>
            <p:cNvPr id="278" name=""/>
            <p:cNvSpPr/>
            <p:nvPr/>
          </p:nvSpPr>
          <p:spPr>
            <a:xfrm>
              <a:off x="2666880" y="41148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43400" y="45720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4343400" y="41148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666880" y="365760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3429000"/>
            <a:ext cx="18288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37339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95480" y="38098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324480" y="35053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35812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3429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66640" y="3657600"/>
            <a:ext cx="112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&lt;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43400" y="36576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29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34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57600" y="41148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42670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01120" y="40384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98000" y="32004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57400" y="388620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76520" y="36576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00720" y="1066680"/>
            <a:ext cx="370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51840" y="2225520"/>
            <a:ext cx="63622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ISIS Y ESC. DESCONEC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54480" y="3416400"/>
            <a:ext cx="1104840" cy="215640"/>
          </a:xfrm>
          <a:custGeom>
            <a:avLst/>
            <a:gdLst/>
            <a:ahLst/>
            <a:rect l="l" t="t" r="r" b="b"/>
            <a:pathLst>
              <a:path w="696" h="136">
                <a:moveTo>
                  <a:pt x="0" y="136"/>
                </a:moveTo>
                <a:cubicBezTo>
                  <a:pt x="48" y="131"/>
                  <a:pt x="95" y="116"/>
                  <a:pt x="144" y="120"/>
                </a:cubicBezTo>
                <a:cubicBezTo>
                  <a:pt x="165" y="121"/>
                  <a:pt x="208" y="136"/>
                  <a:pt x="208" y="136"/>
                </a:cubicBezTo>
                <a:cubicBezTo>
                  <a:pt x="248" y="128"/>
                  <a:pt x="289" y="126"/>
                  <a:pt x="328" y="112"/>
                </a:cubicBezTo>
                <a:cubicBezTo>
                  <a:pt x="342" y="106"/>
                  <a:pt x="346" y="87"/>
                  <a:pt x="360" y="80"/>
                </a:cubicBezTo>
                <a:cubicBezTo>
                  <a:pt x="371" y="73"/>
                  <a:pt x="386" y="74"/>
                  <a:pt x="400" y="72"/>
                </a:cubicBezTo>
                <a:cubicBezTo>
                  <a:pt x="448" y="88"/>
                  <a:pt x="492" y="79"/>
                  <a:pt x="536" y="56"/>
                </a:cubicBezTo>
                <a:cubicBezTo>
                  <a:pt x="572" y="36"/>
                  <a:pt x="648" y="0"/>
                  <a:pt x="648" y="0"/>
                </a:cubicBezTo>
                <a:cubicBezTo>
                  <a:pt x="664" y="2"/>
                  <a:pt x="696" y="8"/>
                  <a:pt x="696" y="8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420560" y="457200"/>
            <a:ext cx="62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EJEMPLO: Existe crisis en grada/angosta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038480" y="3657600"/>
            <a:ext cx="304920" cy="762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4114800"/>
            <a:ext cx="25146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3657600"/>
            <a:ext cx="167652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666880" y="3657600"/>
            <a:ext cx="4191120" cy="457200"/>
            <a:chOff x="2666880" y="3657600"/>
            <a:chExt cx="4191120" cy="457200"/>
          </a:xfrm>
        </p:grpSpPr>
        <p:sp>
          <p:nvSpPr>
            <p:cNvPr id="307" name=""/>
            <p:cNvSpPr/>
            <p:nvPr/>
          </p:nvSpPr>
          <p:spPr>
            <a:xfrm>
              <a:off x="2666880" y="3657600"/>
              <a:ext cx="1676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43400" y="4114800"/>
              <a:ext cx="251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4343400" y="3657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2666880" y="3200400"/>
            <a:ext cx="160020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24280" y="2971800"/>
            <a:ext cx="21337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54480" y="2971800"/>
            <a:ext cx="495360" cy="228600"/>
          </a:xfrm>
          <a:custGeom>
            <a:avLst/>
            <a:gdLst/>
            <a:ahLst/>
            <a:rect l="l" t="t" r="r" b="b"/>
            <a:pathLst>
              <a:path w="312" h="144">
                <a:moveTo>
                  <a:pt x="0" y="144"/>
                </a:moveTo>
                <a:cubicBezTo>
                  <a:pt x="54" y="136"/>
                  <a:pt x="97" y="126"/>
                  <a:pt x="144" y="96"/>
                </a:cubicBezTo>
                <a:cubicBezTo>
                  <a:pt x="155" y="78"/>
                  <a:pt x="166" y="34"/>
                  <a:pt x="184" y="24"/>
                </a:cubicBezTo>
                <a:cubicBezTo>
                  <a:pt x="219" y="2"/>
                  <a:pt x="273" y="0"/>
                  <a:pt x="312" y="0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43200" y="32767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33526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24480" y="304812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77120" y="312408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91280" y="2971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07480" y="3276720"/>
            <a:ext cx="52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43400" y="320040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290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4340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57600" y="3657600"/>
            <a:ext cx="3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76920" y="3809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01120" y="3581280"/>
            <a:ext cx="49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98000" y="274320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057400" y="342900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320040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00720" y="1066680"/>
            <a:ext cx="370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o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6640" y="213372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lími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14200" y="4648320"/>
            <a:ext cx="220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08440" y="464832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4"/>
          <a:stretch/>
        </p:blipFill>
        <p:spPr>
          <a:xfrm>
            <a:off x="2666880" y="5373720"/>
            <a:ext cx="3733920" cy="7984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6565680" y="5562720"/>
            <a:ext cx="102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d181e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d181e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ed181e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278160" y="61722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d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3656880" y="5410080"/>
            <a:ext cx="76320" cy="1600200"/>
          </a:xfrm>
          <a:custGeom>
            <a:avLst/>
            <a:gdLst>
              <a:gd name="textAreaLeft" fmla="*/ 0 w 76320"/>
              <a:gd name="textAreaRight" fmla="*/ 27360 w 763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d18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959200" y="1828800"/>
            <a:ext cx="4736880" cy="3556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2914560" y="649440"/>
            <a:ext cx="4438800" cy="7984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1981800" y="8017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465360" y="37339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20932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9600" y="3505320"/>
            <a:ext cx="162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d181e"/>
                </a:solidFill>
                <a:latin typeface="Times New Roman"/>
              </a:rPr>
              <a:t>h</a:t>
            </a:r>
            <a:r>
              <a:rPr b="0" i="1" lang="en-US" sz="2400" spc="-1" strike="noStrike" baseline="-25000">
                <a:solidFill>
                  <a:srgbClr val="ed181e"/>
                </a:solidFill>
                <a:latin typeface="Times New Roman"/>
              </a:rPr>
              <a:t>1L</a:t>
            </a:r>
            <a:r>
              <a:rPr b="0" i="1" lang="en-US" sz="2400" spc="-1" strike="noStrike">
                <a:solidFill>
                  <a:srgbClr val="ed181e"/>
                </a:solidFill>
                <a:latin typeface="Times New Roman"/>
              </a:rPr>
              <a:t> = X</a:t>
            </a:r>
            <a:r>
              <a:rPr b="0" lang="en-US" sz="2400" spc="-1" strike="noStrike" baseline="-25000">
                <a:solidFill>
                  <a:srgbClr val="ed181e"/>
                </a:solidFill>
                <a:latin typeface="Times New Roman"/>
              </a:rPr>
              <a:t>1L </a:t>
            </a:r>
            <a:r>
              <a:rPr b="0" i="1" lang="en-US" sz="2400" spc="-1" strike="noStrike">
                <a:solidFill>
                  <a:srgbClr val="ed181e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ed181e"/>
                </a:solidFill>
                <a:latin typeface="Times New Roman"/>
              </a:rPr>
              <a:t>c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038480" y="373356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2895480" y="5719680"/>
            <a:ext cx="2184480" cy="68112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5143320" y="533412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54480" y="2666880"/>
            <a:ext cx="56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417680" y="457200"/>
            <a:ext cx="618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TRO 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eterminar la altura mínima de la grada para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o exista influencia desde aguas 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3048120" y="3679920"/>
            <a:ext cx="2911320" cy="892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2347200" y="3048120"/>
            <a:ext cx="43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 (sin cambio de anch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rcRect l="0" t="0" r="0" b="7430"/>
          <a:stretch/>
        </p:blipFill>
        <p:spPr>
          <a:xfrm rot="5400000">
            <a:off x="1145160" y="-992880"/>
            <a:ext cx="6831000" cy="881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rcRect l="0" t="4644" r="0" b="9288"/>
          <a:stretch/>
        </p:blipFill>
        <p:spPr>
          <a:xfrm rot="5400000">
            <a:off x="1282320" y="-596880"/>
            <a:ext cx="6729120" cy="807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 flipH="1">
            <a:off x="4723920" y="21337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4723920" y="26668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20932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209320" y="1676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24280" y="1676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51460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18680" y="2209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52288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24033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40920" y="213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2209680" y="3962520"/>
            <a:ext cx="4191120" cy="1447560"/>
            <a:chOff x="2209680" y="3962520"/>
            <a:chExt cx="4191120" cy="1447560"/>
          </a:xfrm>
        </p:grpSpPr>
        <p:sp>
          <p:nvSpPr>
            <p:cNvPr id="364" name=""/>
            <p:cNvSpPr/>
            <p:nvPr/>
          </p:nvSpPr>
          <p:spPr>
            <a:xfrm flipH="1">
              <a:off x="4723920" y="4648320"/>
              <a:ext cx="304920" cy="76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209320" y="5105520"/>
              <a:ext cx="2514600" cy="3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723920" y="4648320"/>
              <a:ext cx="1676520" cy="3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2209680" y="4648320"/>
              <a:ext cx="4191120" cy="457200"/>
              <a:chOff x="2209680" y="4648320"/>
              <a:chExt cx="4191120" cy="457200"/>
            </a:xfrm>
          </p:grpSpPr>
          <p:sp>
            <p:nvSpPr>
              <p:cNvPr id="368" name=""/>
              <p:cNvSpPr/>
              <p:nvPr/>
            </p:nvSpPr>
            <p:spPr>
              <a:xfrm flipH="1">
                <a:off x="4724280" y="464832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2209680" y="5105520"/>
                <a:ext cx="251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4724280" y="46483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 flipH="1">
              <a:off x="4800600" y="4191120"/>
              <a:ext cx="1600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209680" y="3962520"/>
              <a:ext cx="2133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4317840" y="3962520"/>
              <a:ext cx="495360" cy="228600"/>
            </a:xfrm>
            <a:custGeom>
              <a:avLst/>
              <a:gdLst/>
              <a:ahLst/>
              <a:rect l="l" t="t" r="r" b="b"/>
              <a:pathLst>
                <a:path w="312" h="144">
                  <a:moveTo>
                    <a:pt x="0" y="144"/>
                  </a:moveTo>
                  <a:cubicBezTo>
                    <a:pt x="54" y="136"/>
                    <a:pt x="97" y="126"/>
                    <a:pt x="144" y="96"/>
                  </a:cubicBezTo>
                  <a:cubicBezTo>
                    <a:pt x="155" y="78"/>
                    <a:pt x="166" y="34"/>
                    <a:pt x="184" y="24"/>
                  </a:cubicBezTo>
                  <a:cubicBezTo>
                    <a:pt x="219" y="2"/>
                    <a:pt x="273" y="0"/>
                    <a:pt x="312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5867280" y="426708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5943600" y="43434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2286000" y="40384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38280" y="41148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718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1376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8008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4864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6708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464832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3960" y="533520"/>
            <a:ext cx="79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NGOSTAMIENTO BRUSCO CON GRADA DE SU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 flipH="1">
            <a:off x="4723920" y="213372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723920" y="2666880"/>
            <a:ext cx="175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20932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209320" y="167652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724280" y="1676520"/>
            <a:ext cx="0" cy="144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9132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14600" y="1676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18680" y="220968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22880" y="21337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2209680" y="3962520"/>
            <a:ext cx="4191120" cy="1447560"/>
            <a:chOff x="2209680" y="3962520"/>
            <a:chExt cx="4191120" cy="1447560"/>
          </a:xfrm>
        </p:grpSpPr>
        <p:sp>
          <p:nvSpPr>
            <p:cNvPr id="396" name=""/>
            <p:cNvSpPr/>
            <p:nvPr/>
          </p:nvSpPr>
          <p:spPr>
            <a:xfrm flipH="1">
              <a:off x="4723920" y="4648320"/>
              <a:ext cx="304920" cy="761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2209320" y="5105520"/>
              <a:ext cx="2514600" cy="304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4723920" y="4648320"/>
              <a:ext cx="1676520" cy="304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2209680" y="4648320"/>
              <a:ext cx="4191120" cy="457200"/>
              <a:chOff x="2209680" y="4648320"/>
              <a:chExt cx="4191120" cy="457200"/>
            </a:xfrm>
          </p:grpSpPr>
          <p:sp>
            <p:nvSpPr>
              <p:cNvPr id="400" name=""/>
              <p:cNvSpPr/>
              <p:nvPr/>
            </p:nvSpPr>
            <p:spPr>
              <a:xfrm flipH="1">
                <a:off x="4724280" y="4648320"/>
                <a:ext cx="1676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2209680" y="5105520"/>
                <a:ext cx="251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4724280" y="464832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 flipH="1">
              <a:off x="4800600" y="4191120"/>
              <a:ext cx="16002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2209680" y="3962520"/>
              <a:ext cx="213372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317840" y="3962520"/>
              <a:ext cx="495360" cy="228600"/>
            </a:xfrm>
            <a:custGeom>
              <a:avLst/>
              <a:gdLst/>
              <a:ahLst/>
              <a:rect l="l" t="t" r="r" b="b"/>
              <a:pathLst>
                <a:path w="312" h="144">
                  <a:moveTo>
                    <a:pt x="0" y="144"/>
                  </a:moveTo>
                  <a:cubicBezTo>
                    <a:pt x="54" y="136"/>
                    <a:pt x="97" y="126"/>
                    <a:pt x="144" y="96"/>
                  </a:cubicBezTo>
                  <a:cubicBezTo>
                    <a:pt x="155" y="78"/>
                    <a:pt x="166" y="34"/>
                    <a:pt x="184" y="24"/>
                  </a:cubicBezTo>
                  <a:cubicBezTo>
                    <a:pt x="219" y="2"/>
                    <a:pt x="273" y="0"/>
                    <a:pt x="312" y="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5867280" y="4267080"/>
              <a:ext cx="4572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943600" y="4343400"/>
              <a:ext cx="22860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286000" y="4038480"/>
            <a:ext cx="4572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438280" y="4114800"/>
            <a:ext cx="22860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962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1376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80080" y="419112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3960" y="533520"/>
            <a:ext cx="79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NGOSTAMIENTO BRUSCO CON GRADA DE SU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648320" y="2133720"/>
            <a:ext cx="965160" cy="152280"/>
          </a:xfrm>
          <a:custGeom>
            <a:avLst/>
            <a:gdLst/>
            <a:ahLst/>
            <a:rect l="l" t="t" r="r" b="b"/>
            <a:pathLst>
              <a:path w="608" h="96">
                <a:moveTo>
                  <a:pt x="0" y="0"/>
                </a:moveTo>
                <a:cubicBezTo>
                  <a:pt x="15" y="63"/>
                  <a:pt x="64" y="64"/>
                  <a:pt x="112" y="96"/>
                </a:cubicBezTo>
                <a:cubicBezTo>
                  <a:pt x="258" y="85"/>
                  <a:pt x="420" y="46"/>
                  <a:pt x="560" y="0"/>
                </a:cubicBezTo>
                <a:cubicBezTo>
                  <a:pt x="602" y="8"/>
                  <a:pt x="586" y="8"/>
                  <a:pt x="608" y="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4673520" y="2485440"/>
            <a:ext cx="965160" cy="152280"/>
          </a:xfrm>
          <a:custGeom>
            <a:avLst/>
            <a:gdLst/>
            <a:ahLst/>
            <a:rect l="l" t="t" r="r" b="b"/>
            <a:pathLst>
              <a:path w="608" h="96">
                <a:moveTo>
                  <a:pt x="0" y="0"/>
                </a:moveTo>
                <a:cubicBezTo>
                  <a:pt x="15" y="63"/>
                  <a:pt x="64" y="64"/>
                  <a:pt x="112" y="96"/>
                </a:cubicBezTo>
                <a:cubicBezTo>
                  <a:pt x="258" y="85"/>
                  <a:pt x="420" y="46"/>
                  <a:pt x="560" y="0"/>
                </a:cubicBezTo>
                <a:cubicBezTo>
                  <a:pt x="602" y="8"/>
                  <a:pt x="586" y="8"/>
                  <a:pt x="608" y="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025880" y="170172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0"/>
                </a:moveTo>
                <a:cubicBezTo>
                  <a:pt x="91" y="7"/>
                  <a:pt x="177" y="19"/>
                  <a:pt x="264" y="48"/>
                </a:cubicBezTo>
                <a:cubicBezTo>
                  <a:pt x="277" y="58"/>
                  <a:pt x="294" y="66"/>
                  <a:pt x="304" y="80"/>
                </a:cubicBezTo>
                <a:cubicBezTo>
                  <a:pt x="319" y="101"/>
                  <a:pt x="321" y="130"/>
                  <a:pt x="336" y="152"/>
                </a:cubicBezTo>
                <a:cubicBezTo>
                  <a:pt x="352" y="218"/>
                  <a:pt x="352" y="194"/>
                  <a:pt x="352" y="224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038480" y="2732040"/>
            <a:ext cx="55908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0"/>
                </a:moveTo>
                <a:cubicBezTo>
                  <a:pt x="91" y="7"/>
                  <a:pt x="177" y="19"/>
                  <a:pt x="264" y="48"/>
                </a:cubicBezTo>
                <a:cubicBezTo>
                  <a:pt x="277" y="58"/>
                  <a:pt x="294" y="66"/>
                  <a:pt x="304" y="80"/>
                </a:cubicBezTo>
                <a:cubicBezTo>
                  <a:pt x="319" y="101"/>
                  <a:pt x="321" y="130"/>
                  <a:pt x="336" y="152"/>
                </a:cubicBezTo>
                <a:cubicBezTo>
                  <a:pt x="352" y="218"/>
                  <a:pt x="352" y="194"/>
                  <a:pt x="352" y="224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80000" y="4495680"/>
            <a:ext cx="717480" cy="114480"/>
          </a:xfrm>
          <a:custGeom>
            <a:avLst/>
            <a:gdLst/>
            <a:ahLst/>
            <a:rect l="l" t="t" r="r" b="b"/>
            <a:pathLst>
              <a:path w="452" h="72">
                <a:moveTo>
                  <a:pt x="4" y="48"/>
                </a:moveTo>
                <a:cubicBezTo>
                  <a:pt x="98" y="29"/>
                  <a:pt x="0" y="53"/>
                  <a:pt x="68" y="24"/>
                </a:cubicBezTo>
                <a:cubicBezTo>
                  <a:pt x="83" y="17"/>
                  <a:pt x="100" y="13"/>
                  <a:pt x="116" y="8"/>
                </a:cubicBezTo>
                <a:cubicBezTo>
                  <a:pt x="124" y="5"/>
                  <a:pt x="140" y="0"/>
                  <a:pt x="140" y="0"/>
                </a:cubicBezTo>
                <a:cubicBezTo>
                  <a:pt x="209" y="12"/>
                  <a:pt x="238" y="25"/>
                  <a:pt x="300" y="48"/>
                </a:cubicBezTo>
                <a:cubicBezTo>
                  <a:pt x="315" y="53"/>
                  <a:pt x="332" y="58"/>
                  <a:pt x="348" y="64"/>
                </a:cubicBezTo>
                <a:cubicBezTo>
                  <a:pt x="356" y="66"/>
                  <a:pt x="372" y="72"/>
                  <a:pt x="372" y="72"/>
                </a:cubicBezTo>
                <a:cubicBezTo>
                  <a:pt x="398" y="69"/>
                  <a:pt x="452" y="64"/>
                  <a:pt x="452" y="64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87720" y="4648320"/>
            <a:ext cx="685800" cy="430200"/>
          </a:xfrm>
          <a:custGeom>
            <a:avLst/>
            <a:gdLst/>
            <a:ahLst/>
            <a:rect l="l" t="t" r="r" b="b"/>
            <a:pathLst>
              <a:path w="432" h="271">
                <a:moveTo>
                  <a:pt x="0" y="256"/>
                </a:moveTo>
                <a:cubicBezTo>
                  <a:pt x="78" y="271"/>
                  <a:pt x="160" y="255"/>
                  <a:pt x="240" y="248"/>
                </a:cubicBezTo>
                <a:cubicBezTo>
                  <a:pt x="280" y="236"/>
                  <a:pt x="309" y="230"/>
                  <a:pt x="344" y="208"/>
                </a:cubicBezTo>
                <a:cubicBezTo>
                  <a:pt x="380" y="153"/>
                  <a:pt x="432" y="64"/>
                  <a:pt x="432" y="0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87720" y="4419720"/>
            <a:ext cx="1333440" cy="253800"/>
          </a:xfrm>
          <a:custGeom>
            <a:avLst/>
            <a:gdLst/>
            <a:ahLst/>
            <a:rect l="l" t="t" r="r" b="b"/>
            <a:pathLst>
              <a:path w="840" h="160">
                <a:moveTo>
                  <a:pt x="0" y="160"/>
                </a:moveTo>
                <a:cubicBezTo>
                  <a:pt x="73" y="141"/>
                  <a:pt x="169" y="151"/>
                  <a:pt x="232" y="120"/>
                </a:cubicBezTo>
                <a:cubicBezTo>
                  <a:pt x="284" y="93"/>
                  <a:pt x="226" y="115"/>
                  <a:pt x="280" y="80"/>
                </a:cubicBezTo>
                <a:cubicBezTo>
                  <a:pt x="308" y="61"/>
                  <a:pt x="353" y="63"/>
                  <a:pt x="384" y="48"/>
                </a:cubicBezTo>
                <a:cubicBezTo>
                  <a:pt x="435" y="22"/>
                  <a:pt x="460" y="8"/>
                  <a:pt x="520" y="0"/>
                </a:cubicBezTo>
                <a:cubicBezTo>
                  <a:pt x="829" y="8"/>
                  <a:pt x="722" y="8"/>
                  <a:pt x="840" y="8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49560" y="4114800"/>
            <a:ext cx="1320840" cy="182520"/>
          </a:xfrm>
          <a:custGeom>
            <a:avLst/>
            <a:gdLst/>
            <a:ahLst/>
            <a:rect l="l" t="t" r="r" b="b"/>
            <a:pathLst>
              <a:path w="832" h="115">
                <a:moveTo>
                  <a:pt x="0" y="0"/>
                </a:moveTo>
                <a:cubicBezTo>
                  <a:pt x="60" y="15"/>
                  <a:pt x="122" y="12"/>
                  <a:pt x="184" y="24"/>
                </a:cubicBezTo>
                <a:cubicBezTo>
                  <a:pt x="232" y="32"/>
                  <a:pt x="288" y="49"/>
                  <a:pt x="336" y="64"/>
                </a:cubicBezTo>
                <a:cubicBezTo>
                  <a:pt x="360" y="71"/>
                  <a:pt x="382" y="86"/>
                  <a:pt x="408" y="88"/>
                </a:cubicBezTo>
                <a:cubicBezTo>
                  <a:pt x="602" y="99"/>
                  <a:pt x="498" y="93"/>
                  <a:pt x="720" y="104"/>
                </a:cubicBezTo>
                <a:cubicBezTo>
                  <a:pt x="789" y="115"/>
                  <a:pt x="751" y="112"/>
                  <a:pt x="832" y="112"/>
                </a:cubicBezTo>
              </a:path>
            </a:pathLst>
          </a:custGeom>
          <a:noFill/>
          <a:ln w="9360">
            <a:solidFill>
              <a:srgbClr val="ed181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2362320"/>
            <a:ext cx="1600200" cy="0"/>
          </a:xfrm>
          <a:prstGeom prst="line">
            <a:avLst/>
          </a:prstGeom>
          <a:ln w="936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952880" y="2590920"/>
            <a:ext cx="1067040" cy="99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20280" y="33526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952880" y="37339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6502" r="0" b="9288"/>
          <a:stretch/>
        </p:blipFill>
        <p:spPr>
          <a:xfrm>
            <a:off x="1676520" y="0"/>
            <a:ext cx="584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rcRect l="0" t="4644" r="0" b="7430"/>
          <a:stretch/>
        </p:blipFill>
        <p:spPr>
          <a:xfrm>
            <a:off x="1528920" y="0"/>
            <a:ext cx="559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rcRect l="0" t="0" r="0" b="9288"/>
          <a:stretch/>
        </p:blipFill>
        <p:spPr>
          <a:xfrm rot="5400000">
            <a:off x="1207800" y="-866880"/>
            <a:ext cx="6821640" cy="862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971800" y="3317760"/>
            <a:ext cx="33526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943600" y="23209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5400" y="23623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895480"/>
            <a:ext cx="0" cy="438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325680"/>
            <a:ext cx="0" cy="113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500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2360" y="2895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306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33720" y="2895480"/>
            <a:ext cx="457200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3434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2819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33177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75960" y="281952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505320" y="1266840"/>
            <a:ext cx="2286000" cy="490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920" y="52578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78000" y="525780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Boussinesq teór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45240" y="571500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Bazin experimen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64600" y="380880"/>
            <a:ext cx="53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VERTEDERO DE PARED DEL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133720" y="2195640"/>
            <a:ext cx="3124080" cy="928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768280" y="24382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(Boussines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88720" y="533520"/>
            <a:ext cx="513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RRECCION POR VELOCIDAD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PROXI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9288" r="0" b="13932"/>
          <a:stretch/>
        </p:blipFill>
        <p:spPr>
          <a:xfrm>
            <a:off x="1447920" y="0"/>
            <a:ext cx="642132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 rot="71400">
            <a:off x="2209320" y="65160"/>
            <a:ext cx="510084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06720" y="2398680"/>
            <a:ext cx="4930560" cy="2554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444040" y="914400"/>
            <a:ext cx="42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VERTEDERO TRI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 rot="5400000">
            <a:off x="1283760" y="-1174680"/>
            <a:ext cx="6516720" cy="908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7T00:48:49Z</dcterms:created>
  <dc:creator>Yarko Niño</dc:creator>
  <dc:description/>
  <dc:language>en-US</dc:language>
  <cp:lastModifiedBy>Yarko Niño</cp:lastModifiedBy>
  <dcterms:modified xsi:type="dcterms:W3CDTF">2003-11-20T14:11:59Z</dcterms:modified>
  <cp:revision>24</cp:revision>
  <dc:subject/>
  <dc:title>PowerPoint Presentation</dc:title>
</cp:coreProperties>
</file>