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ct" ContentType="image/x-pict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5.pct" ContentType="image/x-pict"/>
  <Override PartName="/ppt/media/image2.jpeg" ContentType="image/jpeg"/>
  <Override PartName="/ppt/media/image4.pct" ContentType="image/x-pict"/>
  <Override PartName="/ppt/media/image27.jpeg" ContentType="image/jpeg"/>
  <Override PartName="/ppt/media/image25.jpeg" ContentType="image/jpeg"/>
  <Override PartName="/ppt/media/image24.pct" ContentType="image/x-pict"/>
  <Override PartName="/ppt/media/image3.jpeg" ContentType="image/jpeg"/>
  <Override PartName="/ppt/media/image15.png" ContentType="image/png"/>
  <Override PartName="/ppt/media/image26.jpeg" ContentType="image/jpeg"/>
  <Override PartName="/ppt/media/image23.pct" ContentType="image/x-pict"/>
  <Override PartName="/ppt/media/image17.pct" ContentType="image/x-pict"/>
  <Override PartName="/ppt/media/image14.jpeg" ContentType="image/jpeg"/>
  <Override PartName="/ppt/media/image21.pct" ContentType="image/x-pict"/>
  <Override PartName="/ppt/media/image19.pct" ContentType="image/x-pict"/>
  <Override PartName="/ppt/media/image18.pct" ContentType="image/x-pict"/>
  <Override PartName="/ppt/media/image20.pct" ContentType="image/x-pict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BB5-9881-47DD-9CFA-773F977F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014-052D-4E16-A643-0F64027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9FD-07F8-42C5-B385-431C351B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D85-CD50-44F2-9CEE-DCE31D91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81-14E9-4B09-A76A-B599FEE0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A34-C9C5-4594-99F6-8C2FB38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F81-97AF-4627-9109-F62E2BD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1E9-5E79-4F43-8F4D-4452415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9AB-E3A8-47DA-9766-017091EA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BE1-3267-470E-9BF4-BCB8269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17B-32CD-4FE8-9D90-3F646B2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1AF-AB4C-4A9F-A1E7-C147939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53A-FF0A-4C4F-9188-D7025218F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1676520"/>
            <a:ext cx="1523880" cy="3733560"/>
            <a:chOff x="1371600" y="1676520"/>
            <a:chExt cx="1523880" cy="3733560"/>
          </a:xfrm>
        </p:grpSpPr>
        <p:sp>
          <p:nvSpPr>
            <p:cNvPr id="42" name=""/>
            <p:cNvSpPr/>
            <p:nvPr/>
          </p:nvSpPr>
          <p:spPr>
            <a:xfrm>
              <a:off x="1371600" y="1676520"/>
              <a:ext cx="1523880" cy="3733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3048120"/>
              <a:ext cx="15238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410440" cy="375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371240" y="471636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71240" y="3033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44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1240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2004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9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092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9240" y="3106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9520" y="3048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6040" y="5335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GRU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752480" y="0"/>
            <a:ext cx="58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7430" r="0" b="10217"/>
          <a:stretch/>
        </p:blipFill>
        <p:spPr>
          <a:xfrm>
            <a:off x="1752480" y="0"/>
            <a:ext cx="5980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8480" y="228600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9288" r="0" b="27864"/>
          <a:stretch/>
        </p:blipFill>
        <p:spPr>
          <a:xfrm>
            <a:off x="1066680" y="304920"/>
            <a:ext cx="7062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9288" r="0" b="18576"/>
          <a:stretch/>
        </p:blipFill>
        <p:spPr>
          <a:xfrm>
            <a:off x="1371600" y="147600"/>
            <a:ext cx="651996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95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08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0400" y="46483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4040" y="5335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NSANCHE BRUSCO CON GRADA DE B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39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1714680"/>
            <a:ext cx="1587240" cy="495000"/>
            <a:chOff x="3276720" y="1714680"/>
            <a:chExt cx="1587240" cy="495000"/>
          </a:xfrm>
        </p:grpSpPr>
        <p:sp>
          <p:nvSpPr>
            <p:cNvPr id="154" name=""/>
            <p:cNvSpPr/>
            <p:nvPr/>
          </p:nvSpPr>
          <p:spPr>
            <a:xfrm>
              <a:off x="3886200" y="1714680"/>
              <a:ext cx="977760" cy="49500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20968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76720" y="2590920"/>
            <a:ext cx="1600200" cy="495360"/>
            <a:chOff x="3276720" y="2590920"/>
            <a:chExt cx="1600200" cy="495360"/>
          </a:xfrm>
        </p:grpSpPr>
        <p:sp>
          <p:nvSpPr>
            <p:cNvPr id="157" name=""/>
            <p:cNvSpPr/>
            <p:nvPr/>
          </p:nvSpPr>
          <p:spPr>
            <a:xfrm flipV="1">
              <a:off x="3898800" y="2590920"/>
              <a:ext cx="978120" cy="49536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259092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84480" y="173988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84480" y="276876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362320"/>
            <a:ext cx="99072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2039760"/>
            <a:ext cx="787320" cy="14472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41880" y="2590200"/>
            <a:ext cx="787320" cy="14436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6200" y="4673520"/>
            <a:ext cx="533520" cy="35568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29000" y="4610160"/>
            <a:ext cx="1600200" cy="419040"/>
            <a:chOff x="3429000" y="4610160"/>
            <a:chExt cx="1600200" cy="419040"/>
          </a:xfrm>
        </p:grpSpPr>
        <p:sp>
          <p:nvSpPr>
            <p:cNvPr id="166" name=""/>
            <p:cNvSpPr/>
            <p:nvPr/>
          </p:nvSpPr>
          <p:spPr>
            <a:xfrm flipV="1">
              <a:off x="4051440" y="4610160"/>
              <a:ext cx="977760" cy="41904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461016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429000" y="4191120"/>
            <a:ext cx="1574640" cy="215640"/>
          </a:xfrm>
          <a:custGeom>
            <a:avLst/>
            <a:gdLst/>
            <a:ahLst/>
            <a:rect l="l" t="t" r="r" b="b"/>
            <a:pathLst>
              <a:path w="992" h="150">
                <a:moveTo>
                  <a:pt x="0" y="128"/>
                </a:moveTo>
                <a:cubicBezTo>
                  <a:pt x="114" y="150"/>
                  <a:pt x="218" y="140"/>
                  <a:pt x="336" y="136"/>
                </a:cubicBezTo>
                <a:cubicBezTo>
                  <a:pt x="419" y="126"/>
                  <a:pt x="495" y="104"/>
                  <a:pt x="576" y="80"/>
                </a:cubicBezTo>
                <a:cubicBezTo>
                  <a:pt x="604" y="71"/>
                  <a:pt x="641" y="52"/>
                  <a:pt x="672" y="48"/>
                </a:cubicBezTo>
                <a:cubicBezTo>
                  <a:pt x="722" y="40"/>
                  <a:pt x="773" y="34"/>
                  <a:pt x="824" y="24"/>
                </a:cubicBezTo>
                <a:cubicBezTo>
                  <a:pt x="850" y="18"/>
                  <a:pt x="876" y="10"/>
                  <a:pt x="904" y="8"/>
                </a:cubicBezTo>
                <a:cubicBezTo>
                  <a:pt x="933" y="5"/>
                  <a:pt x="992" y="0"/>
                  <a:pt x="99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05320" y="4035600"/>
            <a:ext cx="1269360" cy="231480"/>
            <a:chOff x="3505320" y="4035600"/>
            <a:chExt cx="1269360" cy="231480"/>
          </a:xfrm>
        </p:grpSpPr>
        <p:sp>
          <p:nvSpPr>
            <p:cNvPr id="170" name=""/>
            <p:cNvSpPr/>
            <p:nvPr/>
          </p:nvSpPr>
          <p:spPr>
            <a:xfrm>
              <a:off x="3856680" y="4035600"/>
              <a:ext cx="918000" cy="231480"/>
            </a:xfrm>
            <a:custGeom>
              <a:avLst/>
              <a:gdLst/>
              <a:ahLst/>
              <a:rect l="l" t="t" r="r" b="b"/>
              <a:pathLst>
                <a:path w="648" h="146">
                  <a:moveTo>
                    <a:pt x="0" y="146"/>
                  </a:moveTo>
                  <a:cubicBezTo>
                    <a:pt x="50" y="135"/>
                    <a:pt x="90" y="118"/>
                    <a:pt x="136" y="98"/>
                  </a:cubicBezTo>
                  <a:cubicBezTo>
                    <a:pt x="159" y="87"/>
                    <a:pt x="186" y="88"/>
                    <a:pt x="208" y="74"/>
                  </a:cubicBezTo>
                  <a:cubicBezTo>
                    <a:pt x="246" y="48"/>
                    <a:pt x="289" y="25"/>
                    <a:pt x="336" y="18"/>
                  </a:cubicBezTo>
                  <a:cubicBezTo>
                    <a:pt x="441" y="0"/>
                    <a:pt x="538" y="2"/>
                    <a:pt x="648" y="2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4267080"/>
              <a:ext cx="33984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79760" y="4483080"/>
            <a:ext cx="1549440" cy="92160"/>
          </a:xfrm>
          <a:custGeom>
            <a:avLst/>
            <a:gdLst/>
            <a:ahLst/>
            <a:rect l="l" t="t" r="r" b="b"/>
            <a:pathLst>
              <a:path w="976" h="58">
                <a:moveTo>
                  <a:pt x="0" y="8"/>
                </a:moveTo>
                <a:cubicBezTo>
                  <a:pt x="47" y="23"/>
                  <a:pt x="112" y="4"/>
                  <a:pt x="160" y="0"/>
                </a:cubicBezTo>
                <a:cubicBezTo>
                  <a:pt x="321" y="20"/>
                  <a:pt x="485" y="11"/>
                  <a:pt x="648" y="24"/>
                </a:cubicBezTo>
                <a:cubicBezTo>
                  <a:pt x="750" y="58"/>
                  <a:pt x="869" y="56"/>
                  <a:pt x="976" y="56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362320"/>
            <a:ext cx="60948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31164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2963880" cy="336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1160" y="419112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6160" y="434340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9840" y="548640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7400" y="548640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84360" y="3962520"/>
            <a:ext cx="4191120" cy="1447560"/>
            <a:chOff x="2484360" y="3962520"/>
            <a:chExt cx="4191120" cy="1447560"/>
          </a:xfrm>
        </p:grpSpPr>
        <p:sp>
          <p:nvSpPr>
            <p:cNvPr id="181" name=""/>
            <p:cNvSpPr/>
            <p:nvPr/>
          </p:nvSpPr>
          <p:spPr>
            <a:xfrm>
              <a:off x="3855960" y="4648320"/>
              <a:ext cx="30492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0880" y="5105520"/>
              <a:ext cx="251460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84360" y="4648320"/>
              <a:ext cx="167652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84360" y="4648320"/>
              <a:ext cx="4191120" cy="457200"/>
              <a:chOff x="2484360" y="4648320"/>
              <a:chExt cx="419112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248436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08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1608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48436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4176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196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606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296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41960" y="40384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4600" y="41148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8760" y="396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7040" y="4267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4760" y="4191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648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6088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75080" y="464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86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036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180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68120" y="99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C.M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697200"/>
            <a:ext cx="3287880" cy="798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313160" y="83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1680" y="1741320"/>
            <a:ext cx="75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CRITICO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ISIS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PERFICIAL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908600" cy="798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92920" y="838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9400" y="174132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MERGIDA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9288" r="0" b="7430"/>
          <a:stretch/>
        </p:blipFill>
        <p:spPr>
          <a:xfrm>
            <a:off x="1828800" y="0"/>
            <a:ext cx="57974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21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46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66880" y="3276720"/>
            <a:ext cx="4191120" cy="380880"/>
            <a:chOff x="2666880" y="3276720"/>
            <a:chExt cx="4191120" cy="380880"/>
          </a:xfrm>
        </p:grpSpPr>
        <p:sp>
          <p:nvSpPr>
            <p:cNvPr id="250" name=""/>
            <p:cNvSpPr/>
            <p:nvPr/>
          </p:nvSpPr>
          <p:spPr>
            <a:xfrm>
              <a:off x="2666880" y="35053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32767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4480" y="32767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35816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5480" y="36576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33530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0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814000" y="3581280"/>
            <a:ext cx="10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7280" y="358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0400" y="2209680"/>
            <a:ext cx="40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NO HAY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86520" y="35053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112920" y="5297400"/>
            <a:ext cx="3287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78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666880" y="36576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1828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7339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38098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5812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429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6640" y="36576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3400" y="3657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8000" y="3200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51840" y="2225520"/>
            <a:ext cx="636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SIS Y ESC. DESCON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4480" y="3416400"/>
            <a:ext cx="1104840" cy="215640"/>
          </a:xfrm>
          <a:custGeom>
            <a:avLst/>
            <a:gdLst/>
            <a:ahLst/>
            <a:rect l="l" t="t" r="r" b="b"/>
            <a:pathLst>
              <a:path w="696" h="136">
                <a:moveTo>
                  <a:pt x="0" y="136"/>
                </a:moveTo>
                <a:cubicBezTo>
                  <a:pt x="48" y="131"/>
                  <a:pt x="95" y="116"/>
                  <a:pt x="144" y="120"/>
                </a:cubicBezTo>
                <a:cubicBezTo>
                  <a:pt x="165" y="121"/>
                  <a:pt x="208" y="136"/>
                  <a:pt x="208" y="136"/>
                </a:cubicBezTo>
                <a:cubicBezTo>
                  <a:pt x="248" y="128"/>
                  <a:pt x="289" y="126"/>
                  <a:pt x="328" y="112"/>
                </a:cubicBezTo>
                <a:cubicBezTo>
                  <a:pt x="342" y="106"/>
                  <a:pt x="346" y="87"/>
                  <a:pt x="360" y="80"/>
                </a:cubicBezTo>
                <a:cubicBezTo>
                  <a:pt x="371" y="73"/>
                  <a:pt x="386" y="74"/>
                  <a:pt x="400" y="72"/>
                </a:cubicBezTo>
                <a:cubicBezTo>
                  <a:pt x="448" y="88"/>
                  <a:pt x="492" y="79"/>
                  <a:pt x="536" y="56"/>
                </a:cubicBezTo>
                <a:cubicBezTo>
                  <a:pt x="572" y="36"/>
                  <a:pt x="648" y="0"/>
                  <a:pt x="648" y="0"/>
                </a:cubicBezTo>
                <a:cubicBezTo>
                  <a:pt x="664" y="2"/>
                  <a:pt x="696" y="8"/>
                  <a:pt x="696" y="8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30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200" y="4648320"/>
            <a:ext cx="220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0844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666880" y="5373720"/>
            <a:ext cx="3733920" cy="798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65680" y="5562720"/>
            <a:ext cx="10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8160" y="6172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3656880" y="541008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59200" y="1828800"/>
            <a:ext cx="4736880" cy="3556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914560" y="649440"/>
            <a:ext cx="4438800" cy="798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81800" y="801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65360" y="3733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093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3505320"/>
            <a:ext cx="162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038480" y="37335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895480" y="5719680"/>
            <a:ext cx="2184480" cy="68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43320" y="533412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4480" y="2666880"/>
            <a:ext cx="5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17680" y="457200"/>
            <a:ext cx="61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RO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terminar la altura mínima de la grada par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 exista influencia desde aguas 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8120" y="3679920"/>
            <a:ext cx="2911320" cy="892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347200" y="30481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(sin cambio de anch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rcRect l="0" t="0" r="0" b="7430"/>
          <a:stretch/>
        </p:blipFill>
        <p:spPr>
          <a:xfrm rot="5400000">
            <a:off x="1145160" y="-992880"/>
            <a:ext cx="683100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4644" r="0" b="9288"/>
          <a:stretch/>
        </p:blipFill>
        <p:spPr>
          <a:xfrm rot="5400000">
            <a:off x="1282320" y="-596880"/>
            <a:ext cx="6729120" cy="80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409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64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6483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96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13372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673520" y="248544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25880" y="170172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038480" y="2732040"/>
            <a:ext cx="55908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0000" y="4495680"/>
            <a:ext cx="717480" cy="114480"/>
          </a:xfrm>
          <a:custGeom>
            <a:avLst/>
            <a:gdLst/>
            <a:ahLst/>
            <a:rect l="l" t="t" r="r" b="b"/>
            <a:pathLst>
              <a:path w="452" h="72">
                <a:moveTo>
                  <a:pt x="4" y="48"/>
                </a:moveTo>
                <a:cubicBezTo>
                  <a:pt x="98" y="29"/>
                  <a:pt x="0" y="53"/>
                  <a:pt x="68" y="24"/>
                </a:cubicBezTo>
                <a:cubicBezTo>
                  <a:pt x="83" y="17"/>
                  <a:pt x="100" y="13"/>
                  <a:pt x="116" y="8"/>
                </a:cubicBezTo>
                <a:cubicBezTo>
                  <a:pt x="124" y="5"/>
                  <a:pt x="140" y="0"/>
                  <a:pt x="140" y="0"/>
                </a:cubicBezTo>
                <a:cubicBezTo>
                  <a:pt x="209" y="12"/>
                  <a:pt x="238" y="25"/>
                  <a:pt x="300" y="48"/>
                </a:cubicBezTo>
                <a:cubicBezTo>
                  <a:pt x="315" y="53"/>
                  <a:pt x="332" y="58"/>
                  <a:pt x="348" y="64"/>
                </a:cubicBezTo>
                <a:cubicBezTo>
                  <a:pt x="356" y="66"/>
                  <a:pt x="372" y="72"/>
                  <a:pt x="372" y="72"/>
                </a:cubicBezTo>
                <a:cubicBezTo>
                  <a:pt x="398" y="69"/>
                  <a:pt x="452" y="64"/>
                  <a:pt x="452" y="6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7720" y="4648320"/>
            <a:ext cx="685800" cy="430200"/>
          </a:xfrm>
          <a:custGeom>
            <a:avLst/>
            <a:gdLst/>
            <a:ahLst/>
            <a:rect l="l" t="t" r="r" b="b"/>
            <a:pathLst>
              <a:path w="432" h="271">
                <a:moveTo>
                  <a:pt x="0" y="256"/>
                </a:moveTo>
                <a:cubicBezTo>
                  <a:pt x="78" y="271"/>
                  <a:pt x="160" y="255"/>
                  <a:pt x="240" y="248"/>
                </a:cubicBezTo>
                <a:cubicBezTo>
                  <a:pt x="280" y="236"/>
                  <a:pt x="309" y="230"/>
                  <a:pt x="344" y="208"/>
                </a:cubicBezTo>
                <a:cubicBezTo>
                  <a:pt x="380" y="153"/>
                  <a:pt x="432" y="64"/>
                  <a:pt x="43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87720" y="4419720"/>
            <a:ext cx="1333440" cy="253800"/>
          </a:xfrm>
          <a:custGeom>
            <a:avLst/>
            <a:gdLst/>
            <a:ahLst/>
            <a:rect l="l" t="t" r="r" b="b"/>
            <a:pathLst>
              <a:path w="840" h="160">
                <a:moveTo>
                  <a:pt x="0" y="160"/>
                </a:moveTo>
                <a:cubicBezTo>
                  <a:pt x="73" y="141"/>
                  <a:pt x="169" y="151"/>
                  <a:pt x="232" y="120"/>
                </a:cubicBezTo>
                <a:cubicBezTo>
                  <a:pt x="284" y="93"/>
                  <a:pt x="226" y="115"/>
                  <a:pt x="280" y="80"/>
                </a:cubicBezTo>
                <a:cubicBezTo>
                  <a:pt x="308" y="61"/>
                  <a:pt x="353" y="63"/>
                  <a:pt x="384" y="48"/>
                </a:cubicBezTo>
                <a:cubicBezTo>
                  <a:pt x="435" y="22"/>
                  <a:pt x="460" y="8"/>
                  <a:pt x="520" y="0"/>
                </a:cubicBezTo>
                <a:cubicBezTo>
                  <a:pt x="829" y="8"/>
                  <a:pt x="722" y="8"/>
                  <a:pt x="840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49560" y="4114800"/>
            <a:ext cx="1320840" cy="182520"/>
          </a:xfrm>
          <a:custGeom>
            <a:avLst/>
            <a:gdLst/>
            <a:ahLst/>
            <a:rect l="l" t="t" r="r" b="b"/>
            <a:pathLst>
              <a:path w="832" h="115">
                <a:moveTo>
                  <a:pt x="0" y="0"/>
                </a:moveTo>
                <a:cubicBezTo>
                  <a:pt x="60" y="15"/>
                  <a:pt x="122" y="12"/>
                  <a:pt x="184" y="24"/>
                </a:cubicBezTo>
                <a:cubicBezTo>
                  <a:pt x="232" y="32"/>
                  <a:pt x="288" y="49"/>
                  <a:pt x="336" y="64"/>
                </a:cubicBezTo>
                <a:cubicBezTo>
                  <a:pt x="360" y="71"/>
                  <a:pt x="382" y="86"/>
                  <a:pt x="408" y="88"/>
                </a:cubicBezTo>
                <a:cubicBezTo>
                  <a:pt x="602" y="99"/>
                  <a:pt x="498" y="93"/>
                  <a:pt x="720" y="104"/>
                </a:cubicBezTo>
                <a:cubicBezTo>
                  <a:pt x="789" y="115"/>
                  <a:pt x="751" y="112"/>
                  <a:pt x="832" y="112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362320"/>
            <a:ext cx="160020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590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0280" y="3352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880" y="37339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676520" y="0"/>
            <a:ext cx="584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0" t="4644" r="0" b="7430"/>
          <a:stretch/>
        </p:blipFill>
        <p:spPr>
          <a:xfrm>
            <a:off x="1528920" y="0"/>
            <a:ext cx="55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9288"/>
          <a:stretch/>
        </p:blipFill>
        <p:spPr>
          <a:xfrm rot="5400000">
            <a:off x="1207800" y="-866880"/>
            <a:ext cx="6821640" cy="86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3317760"/>
            <a:ext cx="33526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3209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400" y="2362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8954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3256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0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57200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434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317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2819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05320" y="1266840"/>
            <a:ext cx="2286000" cy="4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920" y="52578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8000" y="52578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 teó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5240" y="5715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azin experi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4600" y="38088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DE PARED DEL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33720" y="2195640"/>
            <a:ext cx="3124080" cy="92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68280" y="2438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8720" y="533520"/>
            <a:ext cx="51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RECCION POR VELOCIDAD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ROXI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9288" r="0" b="13932"/>
          <a:stretch/>
        </p:blipFill>
        <p:spPr>
          <a:xfrm>
            <a:off x="1447920" y="0"/>
            <a:ext cx="64213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400">
            <a:off x="2209320" y="65160"/>
            <a:ext cx="51008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06720" y="2398680"/>
            <a:ext cx="493056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040" y="91440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5400000">
            <a:off x="1283760" y="-1174680"/>
            <a:ext cx="6516720" cy="90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8:49Z</dcterms:created>
  <dc:creator>Yarko Niño</dc:creator>
  <dc:description/>
  <dc:language>en-US</dc:language>
  <cp:lastModifiedBy>Yarko Niño</cp:lastModifiedBy>
  <dcterms:modified xsi:type="dcterms:W3CDTF">2003-11-20T14:11:59Z</dcterms:modified>
  <cp:revision>24</cp:revision>
  <dc:subject/>
  <dc:title>PowerPoint Presentation</dc:title>
</cp:coreProperties>
</file>