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94E5-CF6C-406E-AFA9-0A384CAA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F58B-36F5-440D-8D2A-F256D54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997C-C78F-47E0-8273-38E5BCBE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D300-CAC5-465D-9197-353B72EE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05D9-A7FC-4433-A28C-788861C9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4CD0-1787-444F-978D-2DC7AF4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59E3-FFB7-457F-9A38-28CCC51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5661-6BE4-45BB-905A-A3D94DB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27B5-C867-430D-9C8D-AF3834F8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B53-92F4-4139-A48C-ED9AE00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ED8D-8854-4ACC-8688-A88A9A21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BF3C-7D51-483B-9EB6-3F545E75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919B-DAF9-464B-A204-CD8F176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3924-E902-47E4-855E-A37D825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261-1420-40EA-A1B0-92A17A4A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8433-FC35-401C-B2FF-63BF3237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52D3-04A7-4980-8DBD-E7C4D541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C7B9-9A73-4E45-91AD-234D610C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75C2-9C8B-4CDA-B969-BAE732B3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7183-8AEB-41C1-A995-11A880E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AD95-0A5F-4215-AD27-3E4889B3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87BA-E487-4CB5-B525-E6DD8DC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1EC3-B6B6-4FCA-B9AB-C62E7799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0E3F-31C1-44F2-A968-F1AB6FC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06D2-B8EE-4C8A-BD01-37050AD533C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43AE-D3BA-4B31-952C-8B5C39263E9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rebuchet MS"/>
              </a:rPr>
              <a:t>Sketchy Drawing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laudio Oyarzún Sori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C62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97E8-3620-4697-BB8B-DCDF503C57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Nuevamente se usa un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quad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 para texturizar los datos en los map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aplica una textura adicional cuyos valores son valores de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Textura de ruido (Perli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648320" y="2282760"/>
            <a:ext cx="4038480" cy="31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E9BC-2CF5-40BD-BB09-C1800F7B50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valor de incertidumbre (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) es multiplicado por una matriz diferente para cada map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oca desfases entre las zonas de color y las arist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473120" y="3971880"/>
            <a:ext cx="6197760" cy="2133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D71D-6C13-40E3-8741-14EADC6FC0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Valores de textura se clasifican e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giones Interiores: representan fragmentos de la geometría 3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giones Exteriores: lo demá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5562720"/>
            <a:ext cx="3048120" cy="86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turbulence(s, 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turbulence(1-s, 1-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"/>
          <p:cNvCxnSpPr>
            <a:stCxn id="546" idx="0"/>
            <a:endCxn id="548" idx="1"/>
          </p:cNvCxnSpPr>
          <p:nvPr/>
        </p:nvCxnSpPr>
        <p:spPr>
          <a:xfrm flipH="1" flipV="1" rot="5400000">
            <a:off x="4020120" y="4132440"/>
            <a:ext cx="2120040" cy="712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450040" y="1600200"/>
            <a:ext cx="320184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FFCA-C546-428E-90F1-41797109CE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Ajuste de Información de Profundidad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Proceso anterior acarrea dos problema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Los valores z de la geometría original no están disponi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La información de profundidad no está disponible en las regiones exteriores luego de  aplicar la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Ajuste de los valores z usando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depth sprites</a:t>
            </a: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 (imágenes 2D + valor z) =&gt;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Depth Ma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2923-89A1-450A-9D48-3F205C2A75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Ajuste de Información de Profundidad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“renderea” un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quad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usando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depth map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como textu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Usando un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fragment shader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se reemplazan los valores z de los fragmentos por los del map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accede dos veces al mapa para perturbar sus coordenadas (una por el grado de incertidumbre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edge map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y otra por el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shade map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2198520" y="4343400"/>
            <a:ext cx="4430880" cy="19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C7AE-7F99-4751-B5F4-D8FA481B38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Variaciones de Estil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El algoritmo es versátil por lo que pequeñas modificaciones generan vistosos efectos en su estilo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Bosquejar Aristas Repetid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Asperar” Perfiles y Transiciones de Colo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0EF9-660F-4F71-9E70-1FF2EA2749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Aristas Repetidament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ólo se despliegan las aristas importantes, no el col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Las aristas se despliegan múltiples veces, con diferentes grados de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Múltiples ajustes de profundida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648320" y="2075040"/>
            <a:ext cx="4038480" cy="358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E9D1-519A-4E15-8B07-9CEF539516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Asperar” Perfiles y Transiciones de Color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imula diferentes instrumentos de dibujo y med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aplica una textura de ruido cuyos valores consecutivos no estuviesen correlaciona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grados de incertidumbre de los mapas tampoco están correlaciona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4672080" y="1600200"/>
            <a:ext cx="3990960" cy="45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9951-22A8-452D-9580-145BB64B81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Control de la Incertidumb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Ruido de Perlin otorga beneficio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Coherencia (valores vecinos correlacionado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puede acceder a la región interior desde el exterior y vicevers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Pero también provoca que los valores no tengan correspondencia con las propiedades geométricas del objetivo =&gt; Efecto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shower-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2A35-B498-4E0E-8F2A-9A79F7AB7C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Control de la Incertidumb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corrig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eservando propiedades geométricas del objetivo como posiciones de superficies, normales o información de curvatura para determinar los valores de incertidumb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yendo valores de incertidumbre en la región exterior de la geometría, lo más cercano a ella posi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3276720" cy="28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F3D2-8B09-4090-B1BA-26659343DB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3657600"/>
            <a:ext cx="1219320" cy="45720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5db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326A-3AFA-425B-97C9-16F19CBFC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Manejo del Efecto </a:t>
            </a:r>
            <a:r>
              <a:rPr b="0" i="1" lang="es-ES_tradnl" sz="4400" spc="-1" strike="noStrike">
                <a:solidFill>
                  <a:srgbClr val="000000"/>
                </a:solidFill>
                <a:latin typeface="Trebuchet MS"/>
              </a:rPr>
              <a:t>Shower-Doo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8899-4C86-4333-8C14-64AF3D4B038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733920" cy="280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3962520" cy="246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78460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171880" cy="266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14ED-A1A4-4A0C-969C-6A4333311A2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GPU Gems 2, Cap. 15, Addison-Wesle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Game Programming Gems 2, Cap 5.1, Charles River Med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BE44-9E05-4624-9584-8FAEC2873B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Sketchy Drawing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Técnica de Rendering en tiempo real de geometrías 3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Aristas visualmente importan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cciones de color intern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Deriva de técnicas de rendering no fotorealista como el Cartoon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248520" y="4800600"/>
            <a:ext cx="243828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6248520" y="1981080"/>
            <a:ext cx="2438280" cy="149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3" name=""/>
          <p:cNvSpPr/>
          <p:nvPr/>
        </p:nvSpPr>
        <p:spPr>
          <a:xfrm rot="5400000">
            <a:off x="7086600" y="388620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5db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47E1-1F6A-43B8-9A9D-20319D5F11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Sketchy Drawing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omunica ideas visua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Ilustra bosquejos y concepto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Fomenta el intercambio de idea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xpresa incertidumbre y sugiere trabajo en progres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1A26-4772-4322-A5A4-35A0CA0737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Sketchy Drawing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Áreas de Aplicació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iseño de Product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istemas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Storyboard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65148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CA64-1B9C-44A6-BFB8-A4FF6C9ADE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Algoritm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3 Principios Básico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Resultados de rendering intermedi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Ajuste de información de profundida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050B-F752-4765-B2B5-C33ED1B47A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Resultados Intermedios de Rend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206520" cy="156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Geometría 3D =&gt; Datos 2D (textura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reutilizan en pasos siguientes del rend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Proveen materia prim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ristas visualmente importantes (silueta, borde y pliegu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olores de superfic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F320-8A89-4925-AA71-026EDA7051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Resultados Intermedios de Rend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Aristas se obtienen extrayendo discontinuidades en el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normal buffer</a:t>
            </a: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 y en el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z-buff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Rendering directo en texturas 2D (prerequisito: normales por vértic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utiliza un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quad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 alineado a la pantalla para producir fragmentos (texels)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viewpo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extraen las discontinuidades de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texels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   vecin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onjunto de aristas: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Edge Ma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EDC3-5FE9-4AAA-9DF2-B35EE04EF4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Resultados Intermedios de Rend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La geometría 3D se “renderea” tomando en cuenta su col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obtienen “parches” de color que parecen planos y cubren toda la superfic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mula el estilo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Se “renderea” directo a una textura =&gt;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Shade Map</a:t>
            </a: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1BB1-E812-40C0-9EEE-038B199A18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</cp:lastModifiedBy>
  <dcterms:modified xsi:type="dcterms:W3CDTF">2006-10-02T21:10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