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C76F-BFDF-4B28-88DB-67E0F638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CD10-53D5-48B7-9E82-3F79EBA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D0BA-A38E-4B14-95CE-C4F95944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DA68-2823-490C-B6F4-712CB21A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79EF-0F8A-4C3D-B0F1-BFFACCC5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CA72-2A25-4840-931F-D1344A97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4021-CBA3-45C0-A6F1-00A4D403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8FE3-DAD7-4895-BEEB-FF4D2739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5828-2039-4369-80F3-2D0A79F6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070F-E7B2-4BB8-883E-BA77DD7F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DC41-ECC7-498A-BE4C-F12A1A9F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2483-494A-42C5-945D-7AF28524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4D43-0E30-490E-A46C-74FE570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D138-4647-4411-8D03-7E4B8A5F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DDD3-2CD6-4C77-AC16-0F8907F9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2A71-4D34-46D1-87ED-C35C6026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CEF4-C5EA-4A8C-9ED4-CFD84171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1052-58CC-41A8-B1F6-4317BCEB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B2BD-6782-4DA1-8058-7AA21B35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98F7-B0EA-4B7E-9944-14C67826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5AB7-E130-4756-8EA1-F302FE0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81FF-50EE-4EDD-9D2E-74D0D6BF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190B-F6DA-4A57-94D4-A6C1D3D1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CE9C-4DFE-4467-9F0A-4BF4796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55E9-E92C-4D9C-8FD4-3FE102CA147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4819-45CD-44AF-ABAE-85C00D87094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rebuchet MS"/>
              </a:rPr>
              <a:t>Sketchy Drawing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Claudio Oyarzún Soric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CC62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4FBF-7E59-492C-A827-BBEA0058747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Bosquejar Usando Valores de Incertidumbr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Nuevamente se usa un 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quad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 para texturizar los datos en los map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 aplica una textura adicional cuyos valores son valores de incertidumb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Textura de ruido (Perlin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648320" y="2282760"/>
            <a:ext cx="4038480" cy="316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BBA5-4937-4F82-B251-7D70E72892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Bosquejar Usando Valores de Incertidumbr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l valor de incertidumbre (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off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rebuchet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off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) es multiplicado por una matriz diferente para cada map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oca desfases entre las zonas de color y las arist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473120" y="3971880"/>
            <a:ext cx="6197760" cy="2133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A401-2331-4D72-B8F2-02E8FC9F42D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Bosquejar Usando Valores de Incertidumbr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Valores de textura se clasifican en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Regiones Interiores: representan fragmentos de la geometría 3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Regiones Exteriores: lo demá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5562720"/>
            <a:ext cx="3048120" cy="86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of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rebuchet MS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turbulence(s, 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of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 turbulence(1-s, 1-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"/>
          <p:cNvCxnSpPr>
            <a:stCxn id="546" idx="0"/>
            <a:endCxn id="548" idx="1"/>
          </p:cNvCxnSpPr>
          <p:nvPr/>
        </p:nvCxnSpPr>
        <p:spPr>
          <a:xfrm flipH="1" flipV="1" rot="5400000">
            <a:off x="4020120" y="4132440"/>
            <a:ext cx="2120040" cy="712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5450040" y="1600200"/>
            <a:ext cx="3201840" cy="365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0AD7-4DA6-49C2-B151-22475968A4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Ajuste de Información de Profundidad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Proceso anterior acarrea dos problema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Los valores z de la geometría original no están disponib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La información de profundidad no está disponible en las regiones exteriores luego de  aplicar la incertidumb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Ajuste de los valores z usando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depth sprites</a:t>
            </a: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 (imágenes 2D + valor z) =&gt;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Depth Ma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107E-65DE-49E0-A876-3B23277B1B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Ajuste de Información de Profundidad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 “renderea” un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quad 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usando el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depth map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 como textu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Usando un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fragment shader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 se reemplazan los valores z de los fragmentos por los del map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 accede dos veces al mapa para perturbar sus coordenadas (una por el grado de incertidumbre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edge map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 y otra por el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shade map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2198520" y="4343400"/>
            <a:ext cx="4430880" cy="198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F326-5312-4E8F-A571-AC1A958C1B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Variaciones de Estil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El algoritmo es versátil por lo que pequeñas modificaciones generan vistosos efectos en su estilo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Bosquejar Aristas Repetid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Asperar” Perfiles y Transiciones de Colo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977F-1051-41BA-AA20-B75873F4B9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Bosquejar Aristas Repetidament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ólo se despliegan las aristas importantes, no el col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Las aristas se despliegan múltiples veces, con diferentes grados de incertidumb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Múltiples ajustes de profundida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4648320" y="2075040"/>
            <a:ext cx="4038480" cy="358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94D8-9FD1-42EB-8B3C-03602129A8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Asperar” Perfiles y Transiciones de Colore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imula diferentes instrumentos de dibujo y medi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 aplica una textura de ruido cuyos valores consecutivos no estuviesen correlaciona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Los grados de incertidumbre de los mapas tampoco están correlaciona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4672080" y="1600200"/>
            <a:ext cx="3990960" cy="453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E106-E21F-43AA-9C9D-6D35A4FA99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Control de la Incertidumb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Ruido de Perlin otorga beneficio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Coherencia (valores vecinos correlacionado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 puede acceder a la región interior desde el exterior y vicevers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Pero también provoca que los valores no tengan correspondencia con las propiedades geométricas del objetivo =&gt; Efecto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shower-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E30E-D7CD-4516-AF81-9EC43C9E12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Control de la Incertidumb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 corrig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eservando propiedades geométricas del objetivo como posiciones de superficies, normales o información de curvatura para determinar los valores de incertidumb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yendo valores de incertidumbre en la región exterior de la geometría, lo más cercano a ella posi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5410080" y="2590920"/>
            <a:ext cx="3276720" cy="288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EA89-817E-4D43-ADE1-8ED8381F93B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222200" y="1600200"/>
            <a:ext cx="6697800" cy="453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3657600"/>
            <a:ext cx="1219320" cy="457200"/>
          </a:xfrm>
          <a:custGeom>
            <a:avLst/>
            <a:gdLst>
              <a:gd name="textAreaLeft" fmla="*/ 152280 w 1219320"/>
              <a:gd name="textAreaRight" fmla="*/ 1067040 w 12193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5db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14EF-FA77-4B8E-B0A9-6BEE8BAC95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Manejo del Efecto </a:t>
            </a:r>
            <a:r>
              <a:rPr b="0" i="1" lang="es-ES_tradnl" sz="4400" spc="-1" strike="noStrike">
                <a:solidFill>
                  <a:srgbClr val="000000"/>
                </a:solidFill>
                <a:latin typeface="Trebuchet MS"/>
              </a:rPr>
              <a:t>Shower-Doo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6849-5FA2-429D-8DBF-75CFB1CDC33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3733920" cy="280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4267080" y="3657600"/>
            <a:ext cx="3962520" cy="246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78460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2171880" cy="266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C95A-EA4E-4CB8-A4AA-CF1619E816A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GPU Gems 2, Cap. 15, Addison-Wesle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Game Programming Gems 2, Cap 5.1, Charles River Medi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338A-2AB2-4B63-98FF-74938817521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¿Sketchy Drawing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Técnica de Rendering en tiempo real de geometrías 3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Aristas visualmente importan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cciones de color intern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Deriva de técnicas de rendering no fotorealista como el Cartoon Rende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6248520" y="4800600"/>
            <a:ext cx="2438280" cy="15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6248520" y="1981080"/>
            <a:ext cx="2438280" cy="149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3" name=""/>
          <p:cNvSpPr/>
          <p:nvPr/>
        </p:nvSpPr>
        <p:spPr>
          <a:xfrm rot="5400000">
            <a:off x="7086600" y="388620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5db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86CB-01D9-4893-A43D-7EB76E34BD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¿Sketchy Drawing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Comunica ideas visual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Ilustra bosquejos y concepto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Fomenta el intercambio de idea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xpresa incertidumbre y sugiere trabajo en progres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E22D-E15A-4363-8E61-1EB9427929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¿Sketchy Drawing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Áreas de Aplicació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Diseño Arquitectónic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Diseño de Product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istemas de 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Storyboard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651480" cy="365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A95C-0501-45E9-9D99-CE6328BD7B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Algoritm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3 Principios Básico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Resultados de rendering intermedi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Bosquejar usando valores de incertidumb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Ajuste de información de profundida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9AFF-82BB-49AC-BFC6-33F66F0F1C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Resultados Intermedios de Render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206520" cy="156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Geometría 3D =&gt; Datos 2D (textura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 reutilizan en pasos siguientes del render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Proveen materia prima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Aristas visualmente importantes (silueta, borde y pliegu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olores de superfici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192E-020A-4AD7-92BE-5CD8EA47A6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Resultados Intermedios de Render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Aristas se obtienen extrayendo discontinuidades en el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normal buffer</a:t>
            </a: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 y en el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z-buff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Rendering directo en texturas 2D (prerequisito: normales por vértice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 utiliza un 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quad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 alineado a la pantalla para producir fragmentos (texels) del 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viewpo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 extraen las discontinuidades de los </a:t>
            </a:r>
            <a:r>
              <a:rPr b="0" i="1" lang="es-ES_tradnl" sz="2400" spc="-1" strike="noStrike">
                <a:solidFill>
                  <a:srgbClr val="000000"/>
                </a:solidFill>
                <a:latin typeface="Trebuchet MS"/>
              </a:rPr>
              <a:t>texels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    vecin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Conjunto de aristas: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Edge Ma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18B3-5937-495C-A8E6-5FD1476FAA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rebuchet MS"/>
              </a:rPr>
              <a:t>Resultados Intermedios de Render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La geometría 3D se “renderea” tomando en cuenta su col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Se obtienen “parches” de color que parecen planos y cubren toda la superfic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mula el estilo </a:t>
            </a:r>
            <a:r>
              <a:rPr b="0" i="1" lang="es-ES_tradnl" sz="2800" spc="-1" strike="noStrike">
                <a:solidFill>
                  <a:srgbClr val="000000"/>
                </a:solidFill>
                <a:latin typeface="Trebuchet MS"/>
              </a:rPr>
              <a:t>carto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Se “renderea” directo a una textura =&gt; </a:t>
            </a: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Shade Map</a:t>
            </a: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D611-B2E5-4B4E-B6AA-5562827C83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 de Octubre de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udio</cp:lastModifiedBy>
  <dcterms:modified xsi:type="dcterms:W3CDTF">2006-10-02T21:10:1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