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920" y="0"/>
            <a:ext cx="10044000" cy="7559640"/>
          </a:xfrm>
          <a:custGeom>
            <a:avLst/>
            <a:gdLst/>
            <a:ahLst/>
            <a:rect l="l" t="t" r="r" b="b"/>
            <a:pathLst>
              <a:path w="27902" h="21001">
                <a:moveTo>
                  <a:pt x="27901" y="0"/>
                </a:moveTo>
                <a:cubicBezTo>
                  <a:pt x="2282" y="4244"/>
                  <a:pt x="0" y="21000"/>
                  <a:pt x="0" y="21000"/>
                </a:cubicBezTo>
              </a:path>
            </a:pathLst>
          </a:cu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792840"/>
            <a:ext cx="382680" cy="3841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3440" y="5923080"/>
            <a:ext cx="644760" cy="6458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600" y="5005440"/>
            <a:ext cx="723600" cy="7272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11320" y="3959280"/>
            <a:ext cx="925560" cy="9288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87560" y="2603520"/>
            <a:ext cx="1325520" cy="13302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48000" y="1263600"/>
            <a:ext cx="1592280" cy="15969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78600" y="155520"/>
            <a:ext cx="1900080" cy="19051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59640" y="0"/>
            <a:ext cx="2521080" cy="1573200"/>
          </a:xfrm>
          <a:custGeom>
            <a:avLst/>
            <a:gdLst/>
            <a:ahLst/>
            <a:rect l="l" t="t" r="r" b="b"/>
            <a:pathLst>
              <a:path w="7001" h="4371">
                <a:moveTo>
                  <a:pt x="4720" y="4150"/>
                </a:moveTo>
                <a:lnTo>
                  <a:pt x="4129" y="4314"/>
                </a:lnTo>
                <a:lnTo>
                  <a:pt x="3500" y="4370"/>
                </a:lnTo>
                <a:lnTo>
                  <a:pt x="2870" y="4314"/>
                </a:lnTo>
                <a:lnTo>
                  <a:pt x="2278" y="4150"/>
                </a:lnTo>
                <a:lnTo>
                  <a:pt x="1733" y="3891"/>
                </a:lnTo>
                <a:lnTo>
                  <a:pt x="1245" y="3544"/>
                </a:lnTo>
                <a:lnTo>
                  <a:pt x="822" y="3120"/>
                </a:lnTo>
                <a:lnTo>
                  <a:pt x="477" y="2631"/>
                </a:lnTo>
                <a:lnTo>
                  <a:pt x="218" y="2083"/>
                </a:lnTo>
                <a:lnTo>
                  <a:pt x="55" y="1490"/>
                </a:lnTo>
                <a:lnTo>
                  <a:pt x="0" y="859"/>
                </a:lnTo>
                <a:lnTo>
                  <a:pt x="55" y="227"/>
                </a:lnTo>
                <a:lnTo>
                  <a:pt x="117" y="0"/>
                </a:lnTo>
                <a:lnTo>
                  <a:pt x="7000" y="0"/>
                </a:lnTo>
                <a:lnTo>
                  <a:pt x="7000" y="235"/>
                </a:lnTo>
                <a:lnTo>
                  <a:pt x="7000" y="859"/>
                </a:lnTo>
                <a:lnTo>
                  <a:pt x="6943" y="1490"/>
                </a:lnTo>
                <a:lnTo>
                  <a:pt x="6781" y="2083"/>
                </a:lnTo>
                <a:lnTo>
                  <a:pt x="6522" y="2631"/>
                </a:lnTo>
                <a:lnTo>
                  <a:pt x="6177" y="3120"/>
                </a:lnTo>
                <a:lnTo>
                  <a:pt x="5754" y="3544"/>
                </a:lnTo>
                <a:lnTo>
                  <a:pt x="5266" y="3891"/>
                </a:lnTo>
                <a:lnTo>
                  <a:pt x="4720" y="4150"/>
                </a:lnTo>
              </a:path>
            </a:pathLst>
          </a:cu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232335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ndering de Volu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duardo Gra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Taller de Computación Grá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Presentación I - 16 de Agosto d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ndering de Volu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Rendering de Volumen: construír objetos con voxe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Aplic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Fenómenos naturales: niebla, fuego, vient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Aplicaciones científicas: simulación de fluí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Aplicaciones médicas: visualización de órganos y huesos, visualización de datos de radiografías...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720720"/>
            <a:ext cx="540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82800" y="14400"/>
            <a:ext cx="8153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4280" y="14400"/>
            <a:ext cx="94917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Características 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La luz no sólo reflecta la niebla, sino que también la atravie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Lo mismo sucede con la visualización de la piel. Tiene volumen, pero nos permite ver la calave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Se necesita un MODELO DE ILUMINACIÓN ÓP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60720" y="1469880"/>
            <a:ext cx="3967200" cy="46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Características 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Las características volumétricas pueden ser infinitas o de mayor resolución que la resolución de la escena (en voxels). SE NECESITA UNA FUNCIÓN DE TRANSFER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Función de transfere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Asocia un valor volumétrico a un vox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Valores de color y de transparencia para cada canal de color por separado, emisión de luz, parámetros para el modelo de Phong, índice de refracción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uede ser tan simple o compleja como sea necesario: una tabla de datos o una función polinom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96720" y="1079640"/>
            <a:ext cx="9142560" cy="5321160"/>
            <a:chOff x="396720" y="1079640"/>
            <a:chExt cx="9142560" cy="5321160"/>
          </a:xfrm>
        </p:grpSpPr>
        <p:pic>
          <p:nvPicPr>
            <p:cNvPr id="79" name="" descr=""/>
            <p:cNvPicPr/>
            <p:nvPr/>
          </p:nvPicPr>
          <p:blipFill>
            <a:blip r:embed="rId1">
              <a:lum bright="6000"/>
            </a:blip>
            <a:srcRect l="5235" t="0" r="3225" b="0"/>
            <a:stretch/>
          </p:blipFill>
          <p:spPr>
            <a:xfrm>
              <a:off x="396720" y="1079640"/>
              <a:ext cx="4564080" cy="532116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80" name="" descr=""/>
            <p:cNvPicPr/>
            <p:nvPr/>
          </p:nvPicPr>
          <p:blipFill>
            <a:blip r:embed="rId2">
              <a:lum bright="6000"/>
            </a:blip>
            <a:srcRect l="4321" t="0" r="4006" b="0"/>
            <a:stretch/>
          </p:blipFill>
          <p:spPr>
            <a:xfrm>
              <a:off x="4967280" y="1079640"/>
              <a:ext cx="4572000" cy="532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¿Qué es Rend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Rendering... si es 3D, es de Volu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Función de Transfere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l tipo de función IMPORTA.  En el ejemplo anterior se creó manualmente la primera función y luego se fue refinando utilizando métodos de gradiente para detectar los bordes de los volúmenes del obje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La función de transferencia por sí sola puede ser un tema de investig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Ejemplo “real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n una pieza oscura, tomar una linterna y tapar la ampolleta con la man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La luz atraviesa la piel pero no completamente, sólo el canal roj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6072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écnicas de Rendering de Volu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xisten varias técnicas. Al igual que en el rendering tradicional, hay de aquellas que ponen énfasis en la calidad de la imagen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ay Ca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00240" y="3189240"/>
            <a:ext cx="76197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Algoritmo Ray Ca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440" y="1669320"/>
            <a:ext cx="860724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Similar a Ray Trac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or cada píxel de la imagen, lanzar un ray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Si el rayo choca contra un objeto, ver hasta qué posición dentro del volumen lle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Obtener una representación discreta (en voxels) del camino que recorrió el ray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intar, desde atrás hacia adelante, los píxe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Finalmente se compone el color final del píx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9280" y="720720"/>
            <a:ext cx="4500720" cy="61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06400" y="3952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exture Mapp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Texture Mapping  una técnica utilizada en el Rendering en tiempo re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l Hardware actual permite utilizar texturas 3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ntonces... ¿qué podría ser una textura 3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¿Texture Mapp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9280" y="2160720"/>
            <a:ext cx="23972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exture Mapp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Texture Mapping pinta un polígono utilizando la información de una imagen (superfic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Texturas 3D: texturas de volumen. Esto quiere decir que podemos pintar polígonos con datos una imagen volumét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808200"/>
            <a:ext cx="76770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exture Mapp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so quiere decir que para pintar un polígono podemos elegir cualquier plano dentro del volumen que define la tex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La textura es definida por el volumen. Se utiliza la función de transferencia para obtener la tex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exture Mapp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ntonces la idea del Rendering de Volumen con Texture Mapping es representar el volumen con una cantidad finita de planos aline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¿Alineados respecto a qu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Algoritmo 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Considerar la caja que rodea al volumen, y transformar sus vértices desde coordenadas de la escena a coordenadas de la v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ncontrar los valores mínimo y máximo de la coordenada z entre los vértices de la ca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Con esto calcular el número de planos deseado entre el punto más lejano (z mínimo) y el más cercano (z máxim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Algoritmo 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39440" y="1925280"/>
            <a:ext cx="860724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or cada uno de los planos, desde atrás hacia adela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Obtener las intersecciones con la caja que contiene el volumen (esto transforma cada plano en un polígon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Construir una malla de triángulos que defina dicho polígono (método más común: calcular el centro del polígono y con sus vértices crear un TRIANGLE_FA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intar el polígono utilizando la textura 3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553680"/>
            <a:ext cx="86072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ndering de Volumen con Texture Mapp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959280" y="2101680"/>
            <a:ext cx="5387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s necesario recordar que esta aproximación del volumen también requiere un modelo de iluminación óptica o volumét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ara esto se modifica el algoritmo an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7800" y="2763720"/>
            <a:ext cx="347220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Aplicación para Proyec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royecto: generación de niebla procedural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Idea: Generar datos de volumen proceduralmente (Perlin Nois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Utilizar rendering de volumen para una representación real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Rendering de Volu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4292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Ikits, Milan; Kniss, Joe; Lefohn, Aaron; Hansen, Charles. </a:t>
            </a:r>
            <a:r>
              <a:rPr b="0" i="1" lang="en-GB" sz="2400" spc="-1" strike="noStrike">
                <a:solidFill>
                  <a:srgbClr val="ffffff"/>
                </a:solidFill>
                <a:latin typeface="Franklin Gothic Medium"/>
              </a:rPr>
              <a:t>GPU Gems, Chapter 39: Volume Rendering Techniques</a:t>
            </a: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Wikipedia: Volume Rendering. </a:t>
            </a:r>
            <a:r>
              <a:rPr b="0" i="1" lang="en-GB" sz="2400" spc="-1" strike="noStrike">
                <a:solidFill>
                  <a:srgbClr val="ffffff"/>
                </a:solidFill>
                <a:latin typeface="Franklin Gothic Medium"/>
              </a:rPr>
              <a:t>http://en.wikipedia.org/wiki/Volume_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Real-Time Volume Graphics - SIGGRAPH 2004 Course #28. </a:t>
            </a:r>
            <a:r>
              <a:rPr b="0" i="1" lang="en-GB" sz="2400" spc="-1" strike="noStrike">
                <a:solidFill>
                  <a:srgbClr val="ffffff"/>
                </a:solidFill>
                <a:latin typeface="Franklin Gothic Medium"/>
              </a:rPr>
              <a:t>http://www.vrvis.at/via/resources/course-volgraphics-2004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High-Quality Volume Graphics on Consumer PC Hardware. </a:t>
            </a:r>
            <a:r>
              <a:rPr b="0" i="1" lang="en-GB" sz="2400" spc="-1" strike="noStrike">
                <a:solidFill>
                  <a:srgbClr val="ffffff"/>
                </a:solidFill>
                <a:latin typeface="Franklin Gothic Medium"/>
              </a:rPr>
              <a:t>http://www.cs.utah.edu/~jmk/sigg_crs_02/courses_0067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Re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¿O de Superfici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3160" y="1370160"/>
            <a:ext cx="617220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3160" y="1370160"/>
            <a:ext cx="617220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ndering de Volu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Situación: se puede graficar directamente la superficie d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regunta: ¿qué sucede si necesito graficar información u objetos volumétric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Rendering de Volu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Respuesta: se utiliza la metodología de “Rendering de Volumen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Primer concepto: VOX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VOX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9440" y="1841760"/>
            <a:ext cx="8607240" cy="25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Defición: unidad de volumen en el espacio 3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Volumetric + Pixel = Vox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08200" y="3587760"/>
            <a:ext cx="4772160" cy="325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uardo</dc:creator>
  <dc:description/>
  <dc:language>en-US</dc:language>
  <cp:lastModifiedBy>Eduardo</cp:lastModifiedBy>
  <cp:revision>0</cp:revision>
  <dc:subject/>
  <dc:title/>
</cp:coreProperties>
</file>