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3DCC1-DD69-4A43-9A4D-08AF58642F83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ara las pruebas unitarias debemos crear un “ambiente” apropiado para la función que queremos probar. Esto significa tener algo que invoce a la función a probar y tener las funciones invocadas. Tal vez no todo esto existe aún, puesto que está en desarroll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uando la función invocadora no existe aún, se fabrica una función invocadora llamada en inglés “test driver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uando algunas de las funciones invocadas no existen, se fabrican funciones simples con la misma interfaz de las que serán invocadas luego. En inglés se llaman “stubs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Obviamente, los test drivers y los stubs deben estar correctos: hágalas muy si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n los sistemas embebidos, a veces esto se complica, porque hay dependencias temporales (uso de semáforos, interrupciones) que dificultan crear un ambiente para probar una fun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n la plantilla del documento de diseño de este curso tenemos la especificación funcional  en secciones 2.1 a 2.5, la estrategia de prueba en la sección 2.6, y el diseño detallado en la sección 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86F8-3DEE-45B4-B95E-A70A1FF10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6582-256A-4771-9929-47417A9D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AA33-F3C4-4A8A-88CD-7F7CECA4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2221-DEC1-44EF-9F38-4EF49EB0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0F22-6D41-4FF6-ABCB-E72C8C760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A1D8-0C6C-47DD-AD36-30D7E113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7541-2D43-4079-A95F-09AD0F53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FE0B-5041-467A-B3C6-6F091A8B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65D3-7568-4971-BB2D-581B5152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30D6-B6C0-4DEE-BF90-A571EF89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CFB1-64CA-47A2-AA7D-1F4A87EC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745C-9BB7-4CD3-949D-A5B80674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24C1-FCDF-429C-9DB8-DD4533A6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1DA4-6226-44DF-9C71-F4491E34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7B9A-3F61-4720-81A3-E7D15057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AD91-A1F1-45D4-BA46-1E1E34E5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BCBE-29EB-47FA-BDD9-9F2107EF0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02D9-8545-4F87-879E-0B553BD5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68DF-CF8A-4807-B75B-A39C7E42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851A-9728-4AE7-A915-0474D815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2D83-6C0F-44B9-AEAC-0A18F1CB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9695-557C-47B8-A8F6-8632E42A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A504-111E-4313-8BC5-DF487C13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531B-9665-49D7-A187-6AC11A61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38D1-DEB4-4B40-BAFD-50011F57EAC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C955-59CD-4D17-9B37-B59807EA429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Pruebas de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Herramient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Hay herramientas que generan casos de prueba en forma “inteligente”, de alguna manera eligiendo un número relativamente limitado de casos de prueba (robot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Las herramientas pueden probar los casos (generan código para el test driver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Las herramientas computan cobertura de código e incluso cobertura de camin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Para sistemas embebidos de comunicaciones (como radios de dos vías), las herramientas se comunican con un modelo ejecutable de otros sistemas con los que se interactú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Pruebas de integ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1360" indent="-4413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as </a:t>
            </a:r>
            <a:r>
              <a:rPr b="1" i="1" lang="es-ES" sz="2400" spc="-1" strike="noStrike">
                <a:solidFill>
                  <a:srgbClr val="40458c"/>
                </a:solidFill>
                <a:latin typeface="Tahoma"/>
              </a:rPr>
              <a:t>pruebas de integración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son realizadas sobre agrupaciones de componentes/funcione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97480" indent="-2797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 examinan las interfaces para asegurar que est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mponentes individuales son llamados cuando es necesario y que l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atos que se transmiten entre dichos componentes son los requerid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41360" indent="-4413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Tahoma"/>
              </a:rPr>
              <a:t>Propósito: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 Asegurar que no hay errores de interfaces; encontrar defectos en el siste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1360" indent="-4413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Debemos planificar las pruebas de integració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97480" indent="-2797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0458c"/>
                </a:solidFill>
                <a:latin typeface="Tahoma"/>
              </a:rPr>
              <a:t>En el Documento de Arquitectura, o bien en el Plan de Pruebas de Sistem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97480" indent="-2797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0458c"/>
                </a:solidFill>
                <a:latin typeface="Tahoma"/>
              </a:rPr>
              <a:t>Hay que destinar recursos a esto (gente y tiemp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41360" indent="-4413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Típicamente se necesita andamiaje e incluso simuladores al comienzo de la integr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ix: Pruebas Unitarias y de Integ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Al probar cada módulo individualmente es necesario crear módulos auxiliares que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imulen las acciones de los módulos invocados por el módulo que se está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probando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Asimismo se han de crear módulos "conductores" para establecer las pre-condicione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necesarias, llamar al módulo objeto de la prueba y examinar lo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resultados de la prueba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Debido a todo esto, a menudo se combinan ambos tipos de prueba: unitarias y de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integración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or ejemplo a través de la prueba llamada “desarrollo incremental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ix: Pruebas Unitarias y de Integ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Desarrollo </a:t>
            </a: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ncrement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El tipo de prueba incremental consiste en agregar cada módulo o componente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individual al conjunto de componentes existentes y el conjunto resultante se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prueba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Esto reduce la necesidad de crear módulos conductores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,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 permitiendo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además examinar más detalladamente las interfaces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Cuando las pruebas unitarias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y de integración se realizan separadamente es difícil identificar los componentes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individuales o módulos que causan resultados incorrectos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L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o más probable es que los problemas que surjan al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incorporar un nuevo componente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, surjan de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 este último o 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de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 las interfaces entre él y los otros componentes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uebas Unitarias y de Integ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strategias de integración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 importante determinar la secuencia en que se van a producir e integrar lo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omponente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trategia de arriba a abajo (top-down)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l primer componente o módulo que se desarrolla y prueba es el que está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rriba en la jerarquí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os módulos de nivel más bajo se sustituyen por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módulos auxiliares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que simulan el resto de la funcionalidad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n este caso no son necesarios módulos conductor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Una ventaja de esta estrategia es que las interfaces entre los módulos son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robadas en una fase temprana y con frecuenci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uebas Unitarias y de Integ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strategias de integraci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ó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n (II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trategia de abajo a arriba (bottom-up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n este caso se crean primero los componentes de más bajo nivel y se crean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módulos conductores para simular l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s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invocaciones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L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módulos auxiliares son necesarios en raras ocasione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te tipo de enfoque de las pruebas permite un desarrollo más paralel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izad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o qu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l enfoque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l Top-Down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, pero presenta mayores dificultades a la hora d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lanificar y de gestionar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las prueb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uebas Unitarias y de Integ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strategias de integraci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ó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n (I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I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strategias combinad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A menudo es útil aplicar las estrategias anteriores conjuntamente. Así, se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desarrollarán partes del sistema de forma "top-down", mientras que lo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omponentes más crítico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(de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nivel más bajo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)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se desarrollarán "bottom-up”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n este caso es necesaria una planificación cuidadosa y coordinada de modo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que los componentes individuales se "encuentren" en el centr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Pruebas de Siste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opósito: Asegurar que se cumplen los requisitos de softwar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Este es un proceso formal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Planificado en el Plan de Pruebas de Sistem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La base son los </a:t>
            </a:r>
            <a:r>
              <a:rPr b="0" i="1" lang="es-MX" sz="2800" spc="-1" strike="noStrike">
                <a:solidFill>
                  <a:srgbClr val="40458c"/>
                </a:solidFill>
                <a:latin typeface="Tahoma"/>
              </a:rPr>
              <a:t>casos de prueba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 definidos en la Especificación de Pruebas de Sistem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Resultados se registran en el Acta de Pruebas de Sistem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uebas de Siste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30592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u alcance es el sistema completo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 Las pruebas típicas que deben hacerse so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funciona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determinar que se han cumplido los requisitos de software del sistem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,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y qu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éste realiza correctamente todas las funciones especific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as en los requisitos de usuari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comunicac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eterminan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si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las interfaces entre los componentes del sistema funcionan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decuadamente. Esto se refiere tanto 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las comunicaciones entre dispositiv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remotos, las interfaces entre diferentes módul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, interfaces hombre-máquina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660066"/>
                </a:solidFill>
                <a:latin typeface="Tahoma"/>
              </a:rPr>
              <a:t>Pruebas de Sistema</a:t>
            </a:r>
            <a:endParaRPr b="0" lang="en-US" sz="4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120" y="1557360"/>
            <a:ext cx="82105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rendimi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determinar que los tiempos de respuesta están dentro de l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intervalos establecidos en las especificaciones del sistem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volum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examinar el funcionamiento del sistema cuando está trabajand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 grandes volúmenes de datos, simulando la carga de trabajo esperad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sobrecarga (o stres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comprobar el funcionamiento del sistema en el umbral límite d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los recursos, someti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é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ndol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o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a cargas excesivas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disponibilidad de da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demostrar que el sistema puede recuperarse ante fallas, sin pérdidas indebidas de dat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 Esto considera el hardware y el softwar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Objetiv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1356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Conocer los distintos tipos de pruebas a los que debe someterse un sistema de softwar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En esta clase verem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Pruebas unitari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Pruebas de integr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Pruebas de sistem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Pruebas de usuar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Pruebas de regres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uebas de Siste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20400" y="1523880"/>
            <a:ext cx="84992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facilidad de us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comprobar la adaptabilidad del sistema a las necesidades de l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usuarios, tanto para asegurarse que se acomoda al modo habitual d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trabajo de éstos, como para determinar si les facilita su trabaj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oper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comprobar los procedimientos de operación, incluyendo l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rocedimientos de inicio y fin de trabajo y la facilidad de operación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entorn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verificar las interacciones del sistema con otros sistemas, dentr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el mismo entorn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segur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verificar los mecanismos de control de acceso al sistema par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vitar alteraciones indebidas en los dat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Prueba de Usuario/Acep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08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Tahoma"/>
              </a:rPr>
              <a:t>Propósito: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 Certificar que los requisitos del cliente se han cumplido satisfactoriamente y por lo tanto se puede iniciar la producción (o la marcha blanca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Esta etapa –también llamada pruebas de aceptación–  debe estar a cargo de un equipo independiente del de desarroll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Puede ser otra gente de la empres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Puede ser el cliente, si hay uno específico, capaz de hacer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Hay empresas que ofrecen este servic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uebas de Sistema y de Acep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Pruebas </a:t>
            </a: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de Acept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on aquellas pruebas que realiza el usuario/cliente con el objeto de comprobar si el sistema es aceptable para é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tas pruebas son del mismo tipo que las mencionadas anteriormente, pero son determinadas por el usuario, en lugar de serlo por el equipo de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Un tipo especial de estas pruebas es el de la  ejecución en paralelo con el viejo sistema (legado), para comparar los resultados producidos por ambas ejecu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e chequea fundamentalmente: correctitud, robustez, performance y document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Pruebas de regres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135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Tahoma"/>
              </a:rPr>
              <a:t>Propósito: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 Asegurar que cambios en el software no introducen nuevos defec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Se ejecutan luego de modificar el sistem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Consisten en </a:t>
            </a:r>
            <a:r>
              <a:rPr b="0" i="1" lang="es-MX" sz="2800" spc="-1" strike="noStrike">
                <a:solidFill>
                  <a:srgbClr val="40458c"/>
                </a:solidFill>
                <a:latin typeface="Tahoma"/>
              </a:rPr>
              <a:t>repetir las pruebas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 que ya se han hecho al sistema en una versión anterior, y comparar el resultado actual con el anterio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Aquí hay un beneficio enorme al tener un ambiente automatizado de prueb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Finalización de las Prueb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83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 difícil asegurar que el último error detectado, era el único que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quedaba. Sin embargo, existen métodos para mostrar cuándo está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próximo el final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Terminar la prueba cuando el tiempo establecido para la misma ha expirad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Terminar la prueba cuando todos los casos de prueba diseñados, se ejecutan sin detectar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rrore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Otros métodos más complicados de aplicar pero más efectivos so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timación del número total de errores del programa (en base a estadísticas de proyectos anteriores)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timación del porcentaje de estos errores que pueden encontrarse fácilment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timación de qué fracción de errores se origina en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ciertos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roces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(áreas conflictivas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Criterio de Finaliz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135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Test de unidad: aplicar un métod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Test de Integración: se finaliza cuando se cumplieron los XXX meses programados y se han hallado y corregido XXX errores. 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Test de Sistema: se finaliza cuando se cumplieron los YYY meses programados y se han hallado y YYY errores. 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Un criterio adicional lo puede proveer la </a:t>
            </a:r>
            <a:r>
              <a:rPr b="1" lang="es-MX" sz="2300" spc="-1" strike="noStrike">
                <a:solidFill>
                  <a:srgbClr val="40458c"/>
                </a:solidFill>
                <a:latin typeface="Tahoma"/>
              </a:rPr>
              <a:t>cobertura de las pruebas</a:t>
            </a: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, o sea la fracción de las líneas ejecutadas en las prueba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En los dos últimos casos es importante llegar a comprobar que seguir testeando es improductiv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Test de Aceptación: generalmente involucra algunos meses (2-6) dependiendo del nivel de criticidad del sistema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¿Por qué probamos el software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135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9560" indent="-5295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ara asegurar que el sistema es consistente con los requisitos y las necesidades de los usuarios y client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9560" indent="-52956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ara hacer un primer diagnóstico de la calidad del producto desarrollad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9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29560" indent="-52956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ara ello, hay varios tipos de prueba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99000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Como profesional hazlas a tod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9000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En este curso bastan pruebas de sistema y de usu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Modelo de ciclo de vida en V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468360" y="1700280"/>
            <a:ext cx="144792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Requisitos de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Usuari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30480" y="2766960"/>
            <a:ext cx="144756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Requisitos de Softwar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92240" y="3833640"/>
            <a:ext cx="1447920" cy="64008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Arquitectur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54360" y="4900680"/>
            <a:ext cx="144792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Diseño Detallad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68960" y="4900680"/>
            <a:ext cx="144792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Pruebas Unitaria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049640" y="6105600"/>
            <a:ext cx="144792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Codificació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31080" y="3833640"/>
            <a:ext cx="1447560" cy="64008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Pruebas de Integració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92840" y="2766960"/>
            <a:ext cx="144792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Pruebas de Sistem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33" name=""/>
          <p:cNvCxnSpPr/>
          <p:nvPr/>
        </p:nvCxnSpPr>
        <p:spPr>
          <a:xfrm>
            <a:off x="1839600" y="2080800"/>
            <a:ext cx="108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34" name=""/>
          <p:cNvCxnSpPr>
            <a:stCxn id="225" idx="2"/>
            <a:endCxn id="226" idx="0"/>
          </p:cNvCxnSpPr>
          <p:nvPr/>
        </p:nvCxnSpPr>
        <p:spPr>
          <a:xfrm>
            <a:off x="1192320" y="2340000"/>
            <a:ext cx="762480" cy="4276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26" idx="2"/>
            <a:endCxn id="227" idx="0"/>
          </p:cNvCxnSpPr>
          <p:nvPr/>
        </p:nvCxnSpPr>
        <p:spPr>
          <a:xfrm>
            <a:off x="1953720" y="3406680"/>
            <a:ext cx="762840" cy="4276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27" idx="2"/>
            <a:endCxn id="228" idx="0"/>
          </p:cNvCxnSpPr>
          <p:nvPr/>
        </p:nvCxnSpPr>
        <p:spPr>
          <a:xfrm>
            <a:off x="2715840" y="4473720"/>
            <a:ext cx="762840" cy="4276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28" idx="2"/>
            <a:endCxn id="230" idx="0"/>
          </p:cNvCxnSpPr>
          <p:nvPr/>
        </p:nvCxnSpPr>
        <p:spPr>
          <a:xfrm>
            <a:off x="3478320" y="5540400"/>
            <a:ext cx="1296000" cy="56592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30" idx="0"/>
            <a:endCxn id="229" idx="2"/>
          </p:cNvCxnSpPr>
          <p:nvPr/>
        </p:nvCxnSpPr>
        <p:spPr>
          <a:xfrm flipV="1">
            <a:off x="4773240" y="5540040"/>
            <a:ext cx="1220040" cy="56592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29" idx="0"/>
            <a:endCxn id="231" idx="2"/>
          </p:cNvCxnSpPr>
          <p:nvPr/>
        </p:nvCxnSpPr>
        <p:spPr>
          <a:xfrm flipV="1">
            <a:off x="5992920" y="4473360"/>
            <a:ext cx="762480" cy="4276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1" idx="0"/>
            <a:endCxn id="232" idx="2"/>
          </p:cNvCxnSpPr>
          <p:nvPr/>
        </p:nvCxnSpPr>
        <p:spPr>
          <a:xfrm flipV="1">
            <a:off x="6754320" y="3406320"/>
            <a:ext cx="762840" cy="4276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7380360" y="1700280"/>
            <a:ext cx="166536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Pruebas de Usuario/Acep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32" idx="0"/>
            <a:endCxn id="241" idx="2"/>
          </p:cNvCxnSpPr>
          <p:nvPr/>
        </p:nvCxnSpPr>
        <p:spPr>
          <a:xfrm flipV="1">
            <a:off x="7516800" y="2339640"/>
            <a:ext cx="697680" cy="4276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25" idx="3"/>
            <a:endCxn id="241" idx="1"/>
          </p:cNvCxnSpPr>
          <p:nvPr/>
        </p:nvCxnSpPr>
        <p:spPr>
          <a:xfrm>
            <a:off x="1916280" y="2020680"/>
            <a:ext cx="5464800" cy="1080"/>
          </a:xfrm>
          <a:prstGeom prst="straightConnector1">
            <a:avLst/>
          </a:prstGeom>
          <a:ln w="28440">
            <a:solidFill>
              <a:srgbClr val="40458c"/>
            </a:solidFill>
            <a:prstDash val="sysDot"/>
            <a:miter/>
          </a:ln>
        </p:spPr>
      </p:cxnSp>
      <p:cxnSp>
        <p:nvCxnSpPr>
          <p:cNvPr id="244" name=""/>
          <p:cNvCxnSpPr>
            <a:stCxn id="226" idx="3"/>
            <a:endCxn id="232" idx="1"/>
          </p:cNvCxnSpPr>
          <p:nvPr/>
        </p:nvCxnSpPr>
        <p:spPr>
          <a:xfrm>
            <a:off x="2678040" y="3087360"/>
            <a:ext cx="4115520" cy="1080"/>
          </a:xfrm>
          <a:prstGeom prst="straightConnector1">
            <a:avLst/>
          </a:prstGeom>
          <a:ln w="28440">
            <a:solidFill>
              <a:srgbClr val="40458c"/>
            </a:solidFill>
            <a:prstDash val="sysDot"/>
            <a:miter/>
          </a:ln>
        </p:spPr>
      </p:cxnSp>
      <p:cxnSp>
        <p:nvCxnSpPr>
          <p:cNvPr id="245" name=""/>
          <p:cNvCxnSpPr>
            <a:stCxn id="227" idx="3"/>
            <a:endCxn id="231" idx="1"/>
          </p:cNvCxnSpPr>
          <p:nvPr/>
        </p:nvCxnSpPr>
        <p:spPr>
          <a:xfrm>
            <a:off x="3439800" y="4154040"/>
            <a:ext cx="2591640" cy="1080"/>
          </a:xfrm>
          <a:prstGeom prst="straightConnector1">
            <a:avLst/>
          </a:prstGeom>
          <a:ln w="28440">
            <a:solidFill>
              <a:srgbClr val="40458c"/>
            </a:solidFill>
            <a:prstDash val="sysDot"/>
            <a:miter/>
          </a:ln>
        </p:spPr>
      </p:cxnSp>
      <p:cxnSp>
        <p:nvCxnSpPr>
          <p:cNvPr id="246" name=""/>
          <p:cNvCxnSpPr>
            <a:stCxn id="228" idx="3"/>
            <a:endCxn id="229" idx="1"/>
          </p:cNvCxnSpPr>
          <p:nvPr/>
        </p:nvCxnSpPr>
        <p:spPr>
          <a:xfrm>
            <a:off x="4201920" y="5221080"/>
            <a:ext cx="1067400" cy="1080"/>
          </a:xfrm>
          <a:prstGeom prst="straightConnector1">
            <a:avLst/>
          </a:prstGeom>
          <a:ln w="28440">
            <a:solidFill>
              <a:srgbClr val="40458c"/>
            </a:solidFill>
            <a:prstDash val="sysDot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Tipos de prueb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135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4960" indent="-5349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uebas unitarias o de módulos (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unit testing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4960" indent="-53496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uebas de integración (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integration testing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4960" indent="-53496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uebas de sistema (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system testing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4960" indent="-53496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uebas de Usuario/Aceptación (</a:t>
            </a:r>
            <a:r>
              <a:rPr b="0" i="1" lang="es-MX" sz="3200" spc="-1" strike="noStrike">
                <a:solidFill>
                  <a:srgbClr val="40458c"/>
                </a:solidFill>
                <a:latin typeface="Tahoma"/>
              </a:rPr>
              <a:t>qualification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4960" indent="-53496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uebas de regresión (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regression testing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Pruebas unitar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4608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Propósito: Encontrar defectos en un módulo o fun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Normalmente las pruebas unitarias son hechas por el programador del módul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Para probar una función deb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Llamarl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Tener subfunciones para invoca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5364000" y="1989000"/>
            <a:ext cx="3657600" cy="2590560"/>
            <a:chOff x="5364000" y="1989000"/>
            <a:chExt cx="3657600" cy="2590560"/>
          </a:xfrm>
        </p:grpSpPr>
        <p:sp>
          <p:nvSpPr>
            <p:cNvPr id="252" name=""/>
            <p:cNvSpPr/>
            <p:nvPr/>
          </p:nvSpPr>
          <p:spPr>
            <a:xfrm>
              <a:off x="6583320" y="1989000"/>
              <a:ext cx="1371600" cy="457200"/>
            </a:xfrm>
            <a:prstGeom prst="rect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rial"/>
                </a:rPr>
                <a:t>Test Driver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583320" y="3055680"/>
              <a:ext cx="1371600" cy="4572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rial"/>
                </a:rPr>
                <a:t>Your function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64000" y="4122360"/>
              <a:ext cx="685800" cy="457200"/>
            </a:xfrm>
            <a:prstGeom prst="rect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rial"/>
                </a:rPr>
                <a:t>Stub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335800" y="4122360"/>
              <a:ext cx="685800" cy="457200"/>
            </a:xfrm>
            <a:prstGeom prst="rect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rial"/>
                </a:rPr>
                <a:t>Stub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354720" y="4122360"/>
              <a:ext cx="685800" cy="4572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269120" y="2446200"/>
              <a:ext cx="0" cy="6094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5668560" y="3512880"/>
              <a:ext cx="1600200" cy="6094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6735600" y="3512880"/>
              <a:ext cx="533520" cy="6094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69120" y="3512880"/>
              <a:ext cx="1447560" cy="6094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45080" y="4122360"/>
              <a:ext cx="685800" cy="4572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69120" y="3512880"/>
              <a:ext cx="457200" cy="6094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Diseño de pruebas unitar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4960" indent="-53496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Las pruebas de cada función se especifican junto a la especificación de cada fun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4960" indent="-53496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Debemos asegurarnos de incluir pruebas pa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100008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Casos habituales y casos extremos de los parámetr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00008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Todas las excep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00008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Todos los tipos de efectos latera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4960" indent="-53496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Un mismo caso de prueba puede mostrar una excepción y un efecto later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Especificación de un prueba unitar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4000" y="1690560"/>
            <a:ext cx="813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Parámetro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Valor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Parámetro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Valor del parámetro 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Parámetro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Valor del parámetro 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Parámetro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Valor del parámetro 3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torno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Valor retornado</a:t>
            </a:r>
            <a:r>
              <a:rPr b="0" i="1" lang="es-MX" sz="2000" spc="-1" strike="noStrike">
                <a:solidFill>
                  <a:srgbClr val="40458c"/>
                </a:solidFill>
                <a:latin typeface="Tahoma"/>
              </a:rPr>
              <a:t> o bie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‘-’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stado Inicial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Condiciones </a:t>
            </a:r>
            <a:r>
              <a:rPr b="0" i="1" lang="es-MX" sz="2000" spc="-1" strike="noStrike">
                <a:solidFill>
                  <a:srgbClr val="40458c"/>
                </a:solidFill>
                <a:latin typeface="Tahoma"/>
              </a:rPr>
              <a:t>d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el estado inicial del sistema</a:t>
            </a:r>
            <a:r>
              <a:rPr b="0" i="1" lang="es-MX" sz="2000" spc="-1" strike="noStrike">
                <a:solidFill>
                  <a:srgbClr val="40458c"/>
                </a:solidFill>
                <a:latin typeface="Tahoma"/>
              </a:rPr>
              <a:t> o bie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‘-’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xcepció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Excepción que se devuelve en este caso</a:t>
            </a:r>
            <a:r>
              <a:rPr b="0" i="1" lang="es-MX" sz="2000" spc="-1" strike="noStrike">
                <a:solidFill>
                  <a:srgbClr val="40458c"/>
                </a:solidFill>
                <a:latin typeface="Tahoma"/>
              </a:rPr>
              <a:t> o bie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‘-’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fecto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Efectos laterales </a:t>
            </a:r>
            <a:r>
              <a:rPr b="0" i="1" lang="es-MX" sz="2000" spc="-1" strike="noStrike">
                <a:solidFill>
                  <a:srgbClr val="40458c"/>
                </a:solidFill>
                <a:latin typeface="Tahoma"/>
              </a:rPr>
              <a:t>para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 este caso o </a:t>
            </a:r>
            <a:r>
              <a:rPr b="0" i="1" lang="es-MX" sz="2000" spc="-1" strike="noStrike">
                <a:solidFill>
                  <a:srgbClr val="40458c"/>
                </a:solidFill>
                <a:latin typeface="Tahoma"/>
              </a:rPr>
              <a:t>bien</a:t>
            </a:r>
            <a:r>
              <a:rPr b="0" lang="es-MX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‘-’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0458c"/>
                </a:solidFill>
                <a:latin typeface="Tahoma"/>
              </a:rPr>
              <a:t>Observación    Qué sucedió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sultado        No probado/Cumple/No Cump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Funciones de un módul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2560" indent="-50256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Lo anterior se apunta a probar cada función por separ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3996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Si las funciones de un módulo interactúan, debemos probar las interac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3996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Si no interactúan el módulo tiene cero cohes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02560" indent="-50256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La estrategia de prueba de un módulo va junto a su especificación funcio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2560" indent="-50256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El límite entre la prueba de un módulo complejo y la prueba de integración es muy fino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3996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un módulo complejo es un subsistema que debe integrars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15:53:33Z</dcterms:created>
  <dc:creator>Mercedario</dc:creator>
  <dc:description/>
  <dc:language>en-US</dc:language>
  <cp:lastModifiedBy>Sergio F. Ochoa</cp:lastModifiedBy>
  <dcterms:modified xsi:type="dcterms:W3CDTF">2006-10-26T11:30:55Z</dcterms:modified>
  <cp:revision>76</cp:revision>
  <dc:subject/>
  <dc:title>CC51A – Ingeniería de Software</dc:title>
</cp:coreProperties>
</file>