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D7C-7B1B-4429-B537-66EB4CBD3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FDBF-7E31-49EC-8B46-5568E688E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CA9-4270-4D53-9AE2-48127054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53D3-2A5E-4189-B09F-D723C472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F877-54F1-4858-87E4-E3E956808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2175-7903-4174-845E-83D965378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E252-CEDA-4080-9EA5-7428AB45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E50A-BA85-49FD-AC91-DEC8A4B3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2CDE-EF23-464D-8757-8661FACE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CEB0-D079-4058-8ED7-878D4412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46BA-E764-4288-BC8B-16F9E0AF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672-DC5C-44A2-8DB7-0E681707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9092-EE8C-40F2-8BDD-1362A57D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CBFB7-4F1D-4B5F-AD42-D301F2B7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1C71-DA9E-4492-978E-BA9F023D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EBA30-5C22-4219-AC4D-4063A692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C6B7-AB29-468C-A6C4-BC7D760C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F794-89BB-47F2-BC80-97C7D1CE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CFC4-8165-4AAC-A3B8-16FEFF8B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B6B-E13A-4911-871B-1DE656D6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3E7-BB53-4809-B010-DD2DB714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BE13-14E3-42FB-8EB2-8AD4AE9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62F-CF65-49C2-A469-13DD5E9B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F6B-074C-4CF9-B734-95C77140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130E-7ACE-49E6-A74E-05357E8106E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85EA-2726-4423-854D-426BC64DB824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Final del Curs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esta disciplina no se puede descansar... Lamentablemente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 una Universidad con respecto a los Profesion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l curso con respecto a usted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usted que puede trabajar un Ingeniero en Computació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que va a trabajar usted durante los próximos 5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en los próximos 30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mercado laboral chilen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ambiente laboral en una típica empresa chilen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cree que son los principales problemas que aquejan a las empresas de desarrollo de software en Chil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o cuáles deberían s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Siente que está preparado para montar una empresa en este mom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ndo es un buen momen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formar una empresa desarrolladora de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recursos prevé para comenzar a trabajar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contratar el desarrollo de un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 la empresa desarrolladora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l software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”éxito” en un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pel juega la gestión de proyectos, dentro de una empresa desarrollado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la parte técnica? ¿cuál es más importa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estimar tiempo y costos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ase más importante para los desarrollado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para el clie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posible mantenerse actualizad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planificar mi empresa a largo plaz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sa con el organigrama de mi empresa? ¿Cuándo se def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on qué estructu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será el personal de mi empresa? ¿especialistas o hombres-orque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Mi empresa debe hacer todo, o puedo terceriz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arketing y Diseño Gráfico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. Ochoa</cp:lastModifiedBy>
  <dcterms:modified xsi:type="dcterms:W3CDTF">2005-11-15T11:13:02Z</dcterms:modified>
  <cp:revision>38</cp:revision>
  <dc:subject/>
  <dc:title>CC51A – Ingeniería de Software</dc:title>
</cp:coreProperties>
</file>