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14B-085C-49DF-8690-848DD405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6CA-23FF-46BA-BFCD-C4066BF2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0A4-43C1-4EAE-8807-8B8CB6D3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281-39E0-49F0-8881-0D1E6890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2F63-FE71-4576-B404-491E85DB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5C8B-35E5-4A34-AFE4-944FF9FF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77A5-A254-4CA8-9214-02F1438E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9B2D-DF20-4457-BF77-8901A158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6B71-230A-4A05-B5F7-06FE4C1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46AD-4918-440E-B2C0-B25678CC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EF69-BD03-40CE-9CAD-D28168F2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30A-162E-42B6-B688-D64EE02B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89C2-2015-4804-A64C-21227DA7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EB9E-967F-4057-9F3B-E23864A0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45F9-8D47-4F21-9322-B7D2018F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0985-4958-4F0E-9937-9BAC89F1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B2BD-8967-43BA-B376-9399797C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AB1-3BE7-4D77-996B-42EDE634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0F3-6A03-44EF-8B39-81A46133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A62-7740-4AAA-8CF1-230C9EA8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664-0EBB-49B4-B762-696B4A55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72C-7EAB-4518-BCBA-B61128E8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4D6-E898-4969-9613-B46B0C60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0D2-BD39-4AC7-B582-25035A56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CEA1-3CD6-45B6-AE46-D7251007462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ABA1-8EAB-4B33-9119-82DC5475785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usted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que va a trabajar usted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Siente que está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5-11-15T11:13:02Z</dcterms:modified>
  <cp:revision>38</cp:revision>
  <dc:subject/>
  <dc:title>CC51A – Ingeniería de Software</dc:title>
</cp:coreProperties>
</file>