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9159E-53A5-49CB-B366-B54709729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FC8C1-DBA9-472D-A8F2-6AFCB7900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66F07-764C-4D93-95A6-9EAC3CFBC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00325-F39B-4F5A-B068-33F667DDB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16D85-14FE-43F3-A6F5-DEE3F6976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15737-5C2F-431C-A4CD-E34E48E0D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67340-526B-4FF3-9BBC-09EE13BE2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39CB0-046F-4E88-B2D3-1DAB77D07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B26D0-2778-4FC3-A93A-6DD9D9E44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94579-0843-456B-8F2A-C26453EF5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5CE5F-9F48-47FB-9652-A6327FED5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FD0F8-0A7F-4F26-AC20-C4724DE9F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2922B-C118-4E7F-8B1E-E080C892E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E9FF1-636B-4276-8F2F-57826BA27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6D68F-5D90-4DFA-BE70-AFAAD445F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450AC-F7C0-4ECC-A9D0-65D3FC51A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095B2-1E49-4F24-A412-7CB44F610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4BEC5-8EB0-4F5A-B352-FB45ABEDE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8E861-CF16-4A8F-A9AB-73ED52315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35BE9-4949-49BE-B355-A0D0AB299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FACFB-CB7C-4A3A-B882-3F8F99721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7EB6D-DCF7-4857-8A03-DEA4C58F2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A33DF-81D0-461A-90BF-07AE642CD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A1866-225D-47DC-9BAA-4BB9C8548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2CF58-EE37-4D32-A943-0F4B8DCF8337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8653A-9724-48DA-A4BD-DB036790CCA4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CC51A – Ingeniería de Softwar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990720" y="3309840"/>
            <a:ext cx="7035840" cy="9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40458c"/>
                </a:solidFill>
                <a:latin typeface="Tahoma"/>
              </a:rPr>
              <a:t>Discusión Final del Curso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4638600"/>
            <a:ext cx="8534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40458c"/>
                </a:solidFill>
                <a:latin typeface="Tahoma"/>
              </a:rPr>
              <a:t>Sergio Ochoa D.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0" y="395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0" y="422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Conclusiones..</a:t>
            </a: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20560" indent="-52056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En esta disciplina no se puede descansar... Lamentablemente!!!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205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20560" indent="-52056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Rol de una Universidad con respecto a los Profesional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205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20560" indent="-52056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Rol del curso con respecto a usted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20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Preguntas General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777960" y="1600200"/>
            <a:ext cx="81770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205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20560" indent="-52056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¿En qué cree usted que puede trabajar un Ingeniero en Computación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205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20560" indent="-52056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¿En qué cree que va a trabajar usted durante los próximos 5 años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205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20560" indent="-52056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¿y en los próximos 30 años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Preguntas General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777960" y="1600200"/>
            <a:ext cx="81770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10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10120" indent="-51012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¿Cómo cree que es el mercado laboral chileno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10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10120" indent="-51012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¿Cómo cree que es el ambiente laboral en una típica empresa chilena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10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10120" indent="-51012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¿Cuál cree que son los principales problemas que aquejan a las empresas de desarrollo de software en Chile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Preguntas General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777960" y="1600200"/>
            <a:ext cx="81770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205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20560" indent="-520560"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¿Cuál es el principal patrimonio de una empresa de desarrollo de software en Chile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205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20560" indent="-520560"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¿Cuál o cuáles deberían serlo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205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20560" indent="-520560">
              <a:spcBef>
                <a:spcPts val="700"/>
              </a:spcBef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¿Siente que está preparado para montar una empresa en este momento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205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20560" indent="-520560">
              <a:spcBef>
                <a:spcPts val="700"/>
              </a:spcBef>
              <a:buSzPct val="1130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¿Cuándo es un buen momento para hacerlo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Preguntas General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777960" y="1600200"/>
            <a:ext cx="81770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Cuando usted va a formar una empresa desarrolladora de software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¿Qué recursos prevé para comenzar a trabajar?  ¿por qué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Cuando usted va a contratar el desarrollo de un software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¿Qué le va a exigir a la empresa desarrolladora?  ¿por qué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¿Qué le va a exigir al software?  ¿por qué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Preguntas General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777960" y="1600200"/>
            <a:ext cx="81770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-4618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¿Qué es ”éxito” en un desarrollo de software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461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¿Qué papel juega la gestión de proyectos, dentro de una empresa desarrolladora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461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¿y la parte técnica? ¿cuál es más importante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Preguntas General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-4618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¿Cómo estimar tiempo y costos de desarrollo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461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¿Cuál es la fase más importante para los desarrolladores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461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¿y para el cliente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Preguntas General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755640" y="162864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-4618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¿Es posible mantenerse actualizado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461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¿Es necesario planificar mi empresa a largo plazo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461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¿Qué pasa con el organigrama de mi empresa? ¿Cuándo se define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461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¿Con qué estructura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Preguntas General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-4618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¿Cómo será el personal de mi empresa? ¿especialistas o hombres-orquesta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461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¿Mi empresa debe hacer todo, o puedo tercerizar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461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Marketing y Diseño Gráfico..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19T15:53:33Z</dcterms:created>
  <dc:creator>Mercedario</dc:creator>
  <dc:description/>
  <dc:language>en-US</dc:language>
  <cp:lastModifiedBy>Sergio F. Ochoa</cp:lastModifiedBy>
  <dcterms:modified xsi:type="dcterms:W3CDTF">2005-11-15T11:13:02Z</dcterms:modified>
  <cp:revision>38</cp:revision>
  <dc:subject/>
  <dc:title>CC51A – Ingeniería de Software</dc:title>
</cp:coreProperties>
</file>