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153-E0BC-4247-8B59-6CB4D406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B5F-7249-4370-AE33-1A8058CE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1BD-C081-4CF0-8C24-C4F0E0C2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E4E-9A2D-464E-A7D8-BBEE550F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1B4D-CF4D-4141-99A0-FFC93E16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E2F2-828E-4152-A016-04F98080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AC18-D602-4F4D-A7A1-6FAB6E2B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5E81-DB0A-4DFD-98B1-C85DD236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023C-6EE6-4995-8459-114CD2D8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79EB-978B-4982-AC10-8B726E37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FBDD-6AEE-4F88-B529-7B9D5A2C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8C6-4619-415F-BFCE-499CC412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25CD-A632-4E61-8EBC-AADD971C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A8F7-8550-4C8B-BEC7-9C8EE6B1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EC30-6A93-4B07-B51A-CAB3AADC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0BE8-F7E2-4C3D-A2F7-68BB536E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12CC-049A-42CB-89AB-9F8FEAB1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428-91BF-464B-BC44-957218BF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5BB-8AC6-4C25-BE31-9C59F99A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BED-0431-4E27-9145-D795537E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D96-9A69-4F81-981D-47CDC169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F94-2311-4F38-9CD5-3D275B38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A50-AB71-4770-934E-D0F175BC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414-2D0C-4CDA-869C-CF694CC1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5122-FBC7-4573-A974-9512E45BCE2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3FF4-A483-4E52-8036-E848D16195A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usted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que va a trabajar usted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Siente que está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5-11-15T11:13:02Z</dcterms:modified>
  <cp:revision>38</cp:revision>
  <dc:subject/>
  <dc:title>CC51A – Ingeniería de Software</dc:title>
</cp:coreProperties>
</file>