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52D82-B904-4FC7-8C03-84714DDA7618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ra las pruebas unitarias debemos crear un “ambiente” apropiado para la función que queremos probar. Esto significa tener algo que invoce a la función a probar y tener las funciones invocadas. Tal vez no todo esto existe aún, puesto que está en desarrol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la función invocadora no existe aún, se fabrica una función invocadora llamada en inglés “test driver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algunas de las funciones invocadas no existen, se fabrican funciones simples con la misma interfaz de las que serán invocadas luego. En inglés se llaman “stub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Obviamente, los test drivers y los stubs deben estar correctos: hágalas muy si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los sistemas embebidos, a veces esto se complica, porque hay dependencias temporales (uso de semáforos, interrupciones) que dificultan crear un ambiente para probar una fun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la plantilla del documento de diseño de este curso tenemos la especificación funcional  en secciones 2.1 a 2.5, la estrategia de prueba en la sección 2.6, y el diseño detallado en la sección 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66B-0152-4559-9ECB-43C8B768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998-CC23-43D6-8208-64AB037B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6D8-2A9D-44ED-B078-27193FB8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9E29-6A83-49AA-88DE-2D736AD2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5015-8758-4D7A-B87E-4B57EA04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DCBF-D19E-41ED-9191-6D634D7A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C6E1-A3B4-414F-A202-1085AEBC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DD99-806D-4F68-9BE6-75C8FA62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6A5E-DBD3-4A48-B758-A71F2C36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AB96-EBEA-43D0-A2F6-191046CC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90FC-BB18-4989-BA09-BE4D98D9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4671-459E-4F28-B455-9D7C6BAE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122A-1327-4A13-8DBE-9FC2A178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6525-9492-4135-8611-FE68F28D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FBE7-4BF2-459F-B0C5-4B905FF3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8D2B-24D3-4DFE-B079-2180EA38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258E-74A7-49C4-ADCE-B1B856E8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3EB-AF30-42A9-AED4-360699F0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2B3-682A-463A-A53C-CC7CAB6E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F2D-0CBF-4788-83A0-C4AA9FDD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5D9-D4D4-44A7-BB38-6962503A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FA2-6CD5-4EE6-8B40-E2954CD0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6D8-3D5A-4192-A406-3243400C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9CC-CB3B-4E6C-9410-57D3F26C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8095-9507-4C23-8334-06F7B48FC0A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E987-6278-4FBF-9B3E-3E0334DD2D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Prueba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Herramient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Hay herramientas que generan casos de prueba en forma “inteligente”, de alguna manera eligiendo un número relativamente limitado de casos de prueba (robot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as herramientas pueden probar los casos (generan código para el test driv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as herramientas computan cobertura de código e incluso cobertura de camin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ara sistemas embebidos de comunicaciones (como radios de dos vías), las herramientas se comunican con un modelo ejecutable de otros sistemas con los que se interactú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1360" indent="-4413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pruebas de integración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son realizadas sobre agrupaciones de componentes/funcion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 examinan las interfaces para asegurar que es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mponentes individuales son llamados cuando es necesario y qu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atos que se transmiten entre dichos componentes son los requerid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Asegurar que no hay errores de interfaces; encontrar defectos en e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Debemos planificar las pruebas de integr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En el Documento de Arquitectura, o bien en el Plan de Pruebas de Sistem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Hay que destinar recursos a esto (gente y tiemp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ípicamente se necesita andamiaje e incluso simuladores al comienzo de la integ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ix: 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l probar cada módulo individualmente es necesario crear módulos auxiliares qu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mulen las acciones de los módulos invocados por el módulo que se está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oband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simismo se han de crear módulos "conductores" para establecer las pre-condicion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ecesarias, llamar al módulo objeto de la prueba y examinar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sultados de la prueb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bido a todo esto, a menudo se combinan ambos tipos de prueba: unitarias y d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tegración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or ejemplo a través de la prueba llamada “desarrollo incremental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ix: 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Desarrollo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cremen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l tipo de prueba incremental consiste en agregar cada módulo o component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dividual al conjunto de componentes existentes y el conjunto resultante s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prueba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sto reduce la necesidad de crear módulos conductor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permitiend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además examinar más detalladamente las interface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Cuando las pruebas unitaria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y de integración se realizan separadamente es difícil identificar los component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dividuales o módulos que causan resultados incorrecto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o más probable es que los problemas que surjan 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corporar un nuevo component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, surjan de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este último o 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de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las interfaces entre él y los otros component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de integració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importante determinar la secuencia en que se van a producir e integrar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mponent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rategia de arriba a abajo (top-down)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primer componente o módulo que se desarrolla y prueba es el que está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rriba en la jerarquí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os módulos de nivel más bajo se sustituyen po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auxiliare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que simulan el resto de la funcionalida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n este caso no son necesarios módulos conduct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na ventaja de esta estrategia es que las interfaces entre los módulos so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badas en una fase temprana y con frecuenci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de integraci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ó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 (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rategia de abajo a arriba (bottom-up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n este caso se crean primero los componentes de más bajo nivel y se crea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conductores para simular 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vocacion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auxiliares son necesarios en raras ocas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e tipo de enfoque de las pruebas permite un desarrollo más parale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za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o qu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enfoqu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Top-Down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, pero presenta mayores dificultades a la hora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lanificar y de gestiona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las prueb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strategias de integrac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ó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 (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combina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 menudo es útil aplicar las estrategias anteriores conjuntamente. Así, s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sarrollarán partes del sistema de forma "top-down", mientras que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mponentes más crític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(de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nivel más baj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se desarrollarán "bottom-up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n este caso es necesaria una planificación cuidadosa y coordinada de mod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 los componentes individuales se "encuentren" en el centr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opósito: Asegurar que se cumplen los requisitos de soft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ste es un proceso formal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ificado en el Plan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 base son los </a:t>
            </a:r>
            <a:r>
              <a:rPr b="0" i="1" lang="es-MX" sz="2800" spc="-1" strike="noStrike">
                <a:solidFill>
                  <a:srgbClr val="40458c"/>
                </a:solidFill>
                <a:latin typeface="Tahoma"/>
              </a:rPr>
              <a:t>casos de prueba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definidos en la Especificación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Resultados se registran en el Acta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3059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 alcance es el sistema complet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 Las pruebas típicas que deben hacerse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funcion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terminar que se han cumplido los requisitos de software del sistem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y qu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éste realiza correctamente todas las funciones especific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as en los requisitos de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comunic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terminan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s interfaces entre los componentes del sistema funciona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decuadamente. Esto se refiere tanto 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s comunicaciones entre dispositiv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remotos, las interfaces entre diferentes módu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, interfaces hombre-máquina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2105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rend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terminar que los tiempos de respuesta están dentro d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intervalos establecidos en las especificaciones del sistem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volum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examinar el funcionamiento del sistema cuando está trabajand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 grandes volúmenes de datos, simulando la carga de trabajo esperad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sobrecarga (o stres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el funcionamiento del sistema en el umbral límite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recursos, someti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a cargas excesiva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disponibilidad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mostrar que el sistema puede recuperarse ante fallas, sin pérdidas indebidas de da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 Esto considera el hardware y 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onocer los distintos tipos de pruebas a los que debe someterse un sistema de soft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n esta clase verem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unitar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integ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sistem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regres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20400" y="1523880"/>
            <a:ext cx="84992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facilidad de 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la adaptabilidad del sistema a las necesidades d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suarios, tanto para asegurarse que se acomoda al modo habitual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rabajo de éstos, como para determinar si les facilita su trabaj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los procedimientos de operación, incluyendo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cedimientos de inicio y fin de trabajo y la facilidad de operació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entor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verificar las interacciones del sistema con otros sistemas, dentr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l mismo entorn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segur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verificar los mecanismos de control de acceso al sistema par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vitar alteraciones indebidas en los da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Prueba de Usuario/Acep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Certificar que los requisitos del cliente se han cumplido satisfactoriamente y por lo tanto se puede iniciar la producción (o la marcha blanc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sta etapa –también llamada pruebas de aceptación–  debe estar a cargo de un equipo independiente del de desarrol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uede ser otra gente de la emp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uede ser el cliente, si hay uno específico, capaz de hacer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Hay empresas que ofrecen este servi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 y de Acep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uebas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de Acept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on aquellas pruebas que realiza el usuario/cliente con el objeto de comprobar si el sistema es aceptable para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as pruebas son del mismo tipo que las mencionadas anteriormente, pero son determinadas por el usuario, en lugar de serlo por el equip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n tipo especial de estas pruebas es el de la  ejecución en paralelo con el viejo sistema (legado), para comparar los resultados producidos por ambas ejecu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chequea fundamentalmente: correctitud, robustez, performance y docu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regres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Asegurar que cambios en el software no introducen nuevos defec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Se ejecutan luego de modificar el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nsisten en </a:t>
            </a:r>
            <a:r>
              <a:rPr b="0" i="1" lang="es-MX" sz="2800" spc="-1" strike="noStrike">
                <a:solidFill>
                  <a:srgbClr val="40458c"/>
                </a:solidFill>
                <a:latin typeface="Tahoma"/>
              </a:rPr>
              <a:t>repetir las pruebas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que ya se han hecho al sistema en una versión anterior, y comparar el resultado actual con el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Aquí hay un beneficio enorme al tener un ambiente automatizado de prueb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Finalización de las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83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difícil asegurar que el último error detectado, era el único qu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daba. Sin embargo, existen métodos para mostrar cuándo está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óximo el fin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erminar la prueba cuando el tiempo establecido para la misma ha expirad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erminar la prueba cuando todos los casos de prueba diseñados, se ejecutan sin detecta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rror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Otros métodos más complicados de aplicar pero más efectivo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l número total de errores del programa (en base a estadísticas de proyectos anteriores)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l porcentaje de estos errores que pueden encontrarse fácilment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 qué fracción de errores se origina en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iertos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ces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(áreas conflictivas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Criterio de Finaliz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unidad: aplicar un métod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Integración: se finaliza cuando se cumplieron los XXX meses programados y se han hallado y corregido XXX errores.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Sistema: se finaliza cuando se cumplieron los YYY meses programados y se han hallado y YYY errores.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Un criterio adicional lo puede proveer la </a:t>
            </a:r>
            <a:r>
              <a:rPr b="1" lang="es-MX" sz="2300" spc="-1" strike="noStrike">
                <a:solidFill>
                  <a:srgbClr val="40458c"/>
                </a:solidFill>
                <a:latin typeface="Tahoma"/>
              </a:rPr>
              <a:t>cobertura de las pruebas</a:t>
            </a: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, o sea la fracción de las líneas ejecutadas en las prueba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En los dos últimos casos es importante llegar a comprobar que seguir testeando es improdu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Aceptación: generalmente involucra algunos meses (2-6) dependiendo del nivel de criticidad del sist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¿Por qué probamos el softwar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9560" indent="-529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asegurar que el sistema es consistente con los requisitos y las necesidades de los usuarios y client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9560" indent="-529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hacer un primer diagnóstico de la calidad del producto desarroll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9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9560" indent="-529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ello, hay varios tipos de prueb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00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mo profesional hazlas a to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00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n este curso bastan pruebas de sistema y de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odelo de ciclo de vida en 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7002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Requisitos d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Usuari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30480" y="2766960"/>
            <a:ext cx="144756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Requisitos de Softwa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92240" y="3833640"/>
            <a:ext cx="1447920" cy="6400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Arquitect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54360" y="49006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Diseño Detall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68960" y="49006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Unitari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49640" y="610560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Codific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1080" y="3833640"/>
            <a:ext cx="1447560" cy="6400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Integr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92840" y="276696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Siste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3" name=""/>
          <p:cNvCxnSpPr/>
          <p:nvPr/>
        </p:nvCxnSpPr>
        <p:spPr>
          <a:xfrm>
            <a:off x="1839600" y="208080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34" name=""/>
          <p:cNvCxnSpPr>
            <a:stCxn id="225" idx="2"/>
            <a:endCxn id="226" idx="0"/>
          </p:cNvCxnSpPr>
          <p:nvPr/>
        </p:nvCxnSpPr>
        <p:spPr>
          <a:xfrm>
            <a:off x="1192320" y="2340000"/>
            <a:ext cx="7624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6" idx="2"/>
            <a:endCxn id="227" idx="0"/>
          </p:cNvCxnSpPr>
          <p:nvPr/>
        </p:nvCxnSpPr>
        <p:spPr>
          <a:xfrm>
            <a:off x="1953720" y="340668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7" idx="2"/>
            <a:endCxn id="228" idx="0"/>
          </p:cNvCxnSpPr>
          <p:nvPr/>
        </p:nvCxnSpPr>
        <p:spPr>
          <a:xfrm>
            <a:off x="2715840" y="447372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8" idx="2"/>
            <a:endCxn id="230" idx="0"/>
          </p:cNvCxnSpPr>
          <p:nvPr/>
        </p:nvCxnSpPr>
        <p:spPr>
          <a:xfrm>
            <a:off x="3478320" y="5540400"/>
            <a:ext cx="1296000" cy="5659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0" idx="0"/>
            <a:endCxn id="229" idx="2"/>
          </p:cNvCxnSpPr>
          <p:nvPr/>
        </p:nvCxnSpPr>
        <p:spPr>
          <a:xfrm flipV="1">
            <a:off x="4773240" y="5540040"/>
            <a:ext cx="1220040" cy="5659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9" idx="0"/>
            <a:endCxn id="231" idx="2"/>
          </p:cNvCxnSpPr>
          <p:nvPr/>
        </p:nvCxnSpPr>
        <p:spPr>
          <a:xfrm flipV="1">
            <a:off x="5992920" y="4473360"/>
            <a:ext cx="7624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1" idx="0"/>
            <a:endCxn id="232" idx="2"/>
          </p:cNvCxnSpPr>
          <p:nvPr/>
        </p:nvCxnSpPr>
        <p:spPr>
          <a:xfrm flipV="1">
            <a:off x="6754320" y="340632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7380360" y="1700280"/>
            <a:ext cx="166536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Usuario/Acep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2" idx="0"/>
            <a:endCxn id="241" idx="2"/>
          </p:cNvCxnSpPr>
          <p:nvPr/>
        </p:nvCxnSpPr>
        <p:spPr>
          <a:xfrm flipV="1">
            <a:off x="7516800" y="2339640"/>
            <a:ext cx="6976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5" idx="3"/>
            <a:endCxn id="241" idx="1"/>
          </p:cNvCxnSpPr>
          <p:nvPr/>
        </p:nvCxnSpPr>
        <p:spPr>
          <a:xfrm>
            <a:off x="1916280" y="2020680"/>
            <a:ext cx="546480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4" name=""/>
          <p:cNvCxnSpPr>
            <a:stCxn id="226" idx="3"/>
            <a:endCxn id="232" idx="1"/>
          </p:cNvCxnSpPr>
          <p:nvPr/>
        </p:nvCxnSpPr>
        <p:spPr>
          <a:xfrm>
            <a:off x="2678040" y="3087360"/>
            <a:ext cx="411552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5" name=""/>
          <p:cNvCxnSpPr>
            <a:stCxn id="227" idx="3"/>
            <a:endCxn id="231" idx="1"/>
          </p:cNvCxnSpPr>
          <p:nvPr/>
        </p:nvCxnSpPr>
        <p:spPr>
          <a:xfrm>
            <a:off x="3439800" y="4154040"/>
            <a:ext cx="259164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6" name=""/>
          <p:cNvCxnSpPr>
            <a:stCxn id="228" idx="3"/>
            <a:endCxn id="229" idx="1"/>
          </p:cNvCxnSpPr>
          <p:nvPr/>
        </p:nvCxnSpPr>
        <p:spPr>
          <a:xfrm>
            <a:off x="4201920" y="5221080"/>
            <a:ext cx="106740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Tipos de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unitarias o de módulos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unit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integración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integration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sistema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system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Usuario/Aceptación (</a:t>
            </a:r>
            <a:r>
              <a:rPr b="0" i="1" lang="es-MX" sz="3200" spc="-1" strike="noStrike">
                <a:solidFill>
                  <a:srgbClr val="40458c"/>
                </a:solidFill>
                <a:latin typeface="Tahoma"/>
              </a:rPr>
              <a:t>qualification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regresión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regression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unita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4608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ropósito: Encontrar defectos en un módulo o fu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Normalmente las pruebas unitarias son hechas por el programador del módu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ara probar una función deb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lamar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ner subfunciones para invo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364000" y="1989000"/>
            <a:ext cx="3657600" cy="2590560"/>
            <a:chOff x="5364000" y="1989000"/>
            <a:chExt cx="3657600" cy="2590560"/>
          </a:xfrm>
        </p:grpSpPr>
        <p:sp>
          <p:nvSpPr>
            <p:cNvPr id="252" name=""/>
            <p:cNvSpPr/>
            <p:nvPr/>
          </p:nvSpPr>
          <p:spPr>
            <a:xfrm>
              <a:off x="6583320" y="1989000"/>
              <a:ext cx="13716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Test Drive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83320" y="3055680"/>
              <a:ext cx="13716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Your functio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64000" y="4122360"/>
              <a:ext cx="6858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35800" y="4122360"/>
              <a:ext cx="6858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54720" y="4122360"/>
              <a:ext cx="6858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69120" y="2446200"/>
              <a:ext cx="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68560" y="3512880"/>
              <a:ext cx="16002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735600" y="3512880"/>
              <a:ext cx="53352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9120" y="3512880"/>
              <a:ext cx="144756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45080" y="4122360"/>
              <a:ext cx="6858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69120" y="3512880"/>
              <a:ext cx="4572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Diseño de pruebas unita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s pruebas de cada función se especifican junto a la especificación de cada fu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Debemos asegurarnos de incluir pruebas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asos habituales y casos extremos de los parámet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odas las excep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odos los tipos de efectos later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Un mismo caso de prueba puede mostrar una excepción y un efecto later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specificación de un prueba unita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000" y="169056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Valor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torn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retornado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tado Inicia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ondiciones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l estado inicial del sistema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cepció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xcepción que se devuelve en este caso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ct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fectos laterales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para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este caso o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bien</a:t>
            </a: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Observación    Qué sucedió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ultado        No probado/Cumple/No Cump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Funciones de un módu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2560" indent="-502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o anterior se apunta a probar cada función por separ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i las funciones de un módulo interactúan, debemos probar las interac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i no interactúan el módulo tiene cero cohe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2560" indent="-502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 estrategia de prueba de un módulo va junto a su especificación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2560" indent="-502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l límite entre la prueba de un módulo complejo y la prueba de integración es muy fin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módulo complejo es un subsistema que debe integra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6-10-26T11:30:55Z</dcterms:modified>
  <cp:revision>76</cp:revision>
  <dc:subject/>
  <dc:title>CC51A – Ingeniería de Software</dc:title>
</cp:coreProperties>
</file>