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E84CC-C595-431E-BD1C-D841C25AB4D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455-B136-4B90-AD28-8432AF55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A7D-5C0B-416F-ABAE-D73F6B05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968-24BA-4524-9414-6AF613B5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AF4-C992-4A42-95FB-2238877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78B5-B477-4C3C-BE71-F94FE9D5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1898-A178-404E-AFC0-789A8A4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006-E093-4161-8B1C-FB24D442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CFE9-9DB7-4D9E-BE2B-55518526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FC40-AAB7-40C4-8075-A2FDBB6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BAE-3F0E-4C73-8AD0-4EF24260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36FE-4749-40F2-8576-8387FBF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129-4E06-4953-876C-F3BB090C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8FF-C8E5-4081-95C6-0A335E76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AEBA-5658-4399-86AE-489F5D4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B8D-DBBD-4942-BE48-1EC0128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A7C8-1E4C-436D-874F-7DC70BE8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2830-2FCA-4939-9C33-DE2E178B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1F0-1615-4732-9D57-F8DEA0D3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F26-6338-4568-9C4E-21F47BE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02F-808F-4199-83D3-535C322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C09-3847-46A6-90ED-F741C0F0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900-27A3-4E7F-BC53-032589C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F3B-C673-4E8D-B61E-7B6FEC05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2AE-52E8-428A-9DD3-71D26B1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9D8-29E4-4DC9-9894-25B8ABFC74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54DD-4D41-4E9E-B1BA-F3878B7C64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los requisitos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 (o str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,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 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no interactúan el módulo tiene cero cohe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26T11:30:55Z</dcterms:modified>
  <cp:revision>76</cp:revision>
  <dc:subject/>
  <dc:title>CC51A – Ingeniería de Software</dc:title>
</cp:coreProperties>
</file>