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BC5-2DAF-44FF-98CA-8951B5A5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001-BE3E-4AAA-8B4E-2D762A90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C70-B5A1-4722-9939-F49A250A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8A7-66C4-44FD-9EFF-333E1E92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2753-27C9-4F22-BB64-9ABC9B8F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2E3B-7950-4F3E-A2EA-163CD498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A838-EDAD-47EF-9C5D-F53F38F9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E08D-8EC4-4AA3-A928-6B8ECF9B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7334-D4DC-42DF-8E7D-8AE9EAE2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8359-0791-4706-8996-FA283A9E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4CAC-080C-4B27-BA3B-B6922250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012-E017-4C0F-9D35-E2FD2480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0E65-DFF0-472B-8E4E-5648B8FF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0326-0667-4924-9D5C-B9FC7F0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D1BB-E259-4F08-B48A-35C68D7D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AA8E-3FF5-4147-B209-19399886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8B4C-95AC-4305-831E-72A8A2F3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C9C-CB34-489A-A4AD-27814860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898-0307-4C43-93ED-4A60F537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90B-AE68-4503-B9BB-4C16723C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F8B-ECF8-4445-AC52-6C499D56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ECD-E73E-4393-8EED-ED637B21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9E2-E095-4FB7-894A-56C4220F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32D-62DD-475E-B658-F246C23B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F0FF-AB0F-4DBF-882C-B3B86F3977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F9FF-D21C-4998-B807-70AF1EF95B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unción principal d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herramientas usa 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ventajas/desventajas trae consigo este grup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el mejoramiento de procesos? y ¿Para que sirv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es son los 3 factores críticos a tener en cuenta, para realizar este mejorami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gano/pierdo implementando un sistema de mejoramiento continuo en mi empr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CMM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ignifica que mi empresa haya certificado CMM o ISO9000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que todas las empresas  caminen hacia una certificación? ¿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6-09T17:24:23Z</dcterms:modified>
  <cp:revision>16</cp:revision>
  <dc:subject/>
  <dc:title>CC51A – Ingeniería de Software</dc:title>
</cp:coreProperties>
</file>