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557-33A0-46DC-A69A-D067206D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72E-1D94-4B33-8AB9-FE211752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D68-D178-4AB5-AEBF-6FA50C73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D69-BDC1-43B7-9DDA-01B6BB81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FC9E-354A-450C-B9B1-6B07CD3C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9C9A-EFA2-4AAF-AED3-2A0D880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30AF-386D-4099-A659-DFACAF65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C5EA-C0EC-4051-9EFC-0F28EBB9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8894-0934-4E8E-B454-1B5828CD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D41C-F7D4-4026-B4E6-98D63599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12B6-6124-4DE3-B4FF-CAC778B8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F13-4601-496F-A560-14A8FC75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1112-A841-4B27-99B4-CED3DD13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0493-9ED7-415C-838C-AF5BF00A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93D7-D59C-4A8D-8A72-9230EC28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4971-0922-4618-B3E8-5B6E2340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038A-72C3-44CD-9DBC-81138730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4F8-04D0-4C06-88B9-AF1D0CAE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AC5-CD3D-4F7D-AE7C-DEDE663B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39F-07D5-41AC-8BD6-3DC17F12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CF1-4080-41E0-8284-12AF16A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837-786B-4E89-9FD0-B4287A8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6B54-DCE4-4866-A95A-2403CE05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515-9AB5-4D83-A61B-69F06999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753F-4D02-4788-9D33-5C884756A5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F92F-BE76-407F-A68D-34B93E12B5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unción principal d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herramientas usa el SQA Group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ventajas/desventajas trae consigo este grup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el mejoramiento de procesos? y ¿Para que sirv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es son los 3 factores críticos a tener en cuenta, para realizar este mejorami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gano/pierdo implementando un sistema de mejoramiento continuo en mi empr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CMM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ignifica que mi empresa haya certificado CMM o ISO9000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que todas las empresas  caminen hacia una certificación? ¿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6-09T17:24:23Z</dcterms:modified>
  <cp:revision>16</cp:revision>
  <dc:subject/>
  <dc:title>CC51A – Ingeniería de Software</dc:title>
</cp:coreProperties>
</file>