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081F-FCAE-47B7-8497-27FF8F7F5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32FA-EC5B-4F69-8DEB-5C430088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7F11-6442-44ED-8A99-AC4151CB3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361D-5588-4D75-901E-358D1FDE4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A04A-FCF8-461F-A1F2-3B18B039F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7F37-3AA5-47B1-A631-1ABFB796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B504-E16C-4B51-AEC0-3477B3C6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83BF-1F96-46CF-ACBF-7304E620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A6EB-6410-47BD-A19F-93F3B168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7AA0-6A89-4B94-8C64-8AF7E18E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0B6A-B405-4BE9-9683-AE772A9A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B7DC-C099-44A1-A1BE-4A3B8391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A4CE-9D2A-4C71-9447-D23638DE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B01C-86FC-4943-9C49-4BF66133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F751-BD9F-4F51-B077-31E4A06F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D3D6-44B7-41B4-906C-EB660A383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543C-5346-4A16-AA9E-613383FA7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25E0-C9A5-46C2-A921-C879A520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61EC-7DC4-4033-9D41-C2158922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51D1-8DFF-4E9A-B616-C375916C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1EAB-FDBF-4ADC-B04F-E214BDD7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A76C-236A-41CF-9251-27EAAAC5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5658-D1DB-49EB-A1E4-C8443379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1DFD-4721-4B2D-AF39-CBBF25CE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261F-897D-43D1-B658-98294E4E28D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31A9-555F-4655-A25A-A2CAB8970B5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Discusión sobre el Capítulo 4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 es la función principal del SQA Group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herramientas usa el SQA Group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ventajas/desventajas trae consigo este grup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significa el mejoramiento de procesos? y ¿Para que sirve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es son los 3 factores críticos a tener en cuenta, para realizar este mejoramient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gano/pierdo implementando un sistema de mejoramiento continuo en mi empresa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es CMM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significa que mi empresa haya certificado CMM o ISO9000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s necesario que todas las empresas  caminen hacia una certificación? ¿Por qué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7:44:22Z</dcterms:created>
  <dc:creator>Mercedario</dc:creator>
  <dc:description/>
  <dc:language>en-US</dc:language>
  <cp:lastModifiedBy>Sergio F. Ochoa</cp:lastModifiedBy>
  <dcterms:modified xsi:type="dcterms:W3CDTF">2005-06-09T17:24:23Z</dcterms:modified>
  <cp:revision>16</cp:revision>
  <dc:subject/>
  <dc:title>CC51A – Ingeniería de Software</dc:title>
</cp:coreProperties>
</file>