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66B5-7BB5-4081-884A-42B866864D4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37E4-1176-4C90-A555-71F8DDEF2A5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4E87-2D92-4800-AFE2-CA05A54F9E9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FCD2-DAB8-4FD3-B221-9C759348DD2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06BE-6D4C-4FCA-B57A-4BF411AA0CB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6038-53E0-4C43-A50A-2E1F2C2BBC7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2F3E-2C5C-482C-9C66-7C14FC58692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9DDD-74D7-4B3B-BE1E-0EEECAF4B7C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BF89-777F-4B05-978D-72539D9842F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63A0-AC40-4E4A-9076-04785BAC8BF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5C4F-EC09-460A-BA52-CE9E73674E6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4749-E40B-43D5-8D3D-150C383C6F8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BD6F-5857-4BB3-BAB5-62AC4835EE4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B1C1-1E35-4CA4-93E5-CFBFDC674AE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0D05-1C64-447A-A1D5-31B18FB8B0E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AAF3-33F0-4DD2-8127-7D0E25342E1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45A4-CD8D-4A32-ABB2-376D9DC5CB2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012C-5217-423E-8697-CA6219FFD3E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BF93-6AFB-4C16-AC8E-968FDB160E1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D2AA-0D38-4DB9-920C-594E5BDC57A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AB28-D969-4BA5-A0B6-F3EC695D8FB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D668-79F4-45D5-8A93-FFCA5F5CD78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868A-9808-46FE-89E4-F4593DFA7C9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1CC4-3B3A-4B65-9F2A-A63A681DE4F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C24E-289D-404D-ADFC-1F1833EAF3E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FB61-4270-4261-94CC-BD2A14E6D22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FE60-AF4F-4562-88C0-6E92FB4E414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002B-9EB0-40C9-B585-A6E20FF46C0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6254-E394-4ABF-BD74-42A5678E08B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535A-CC5E-4C76-BFD0-BC52EA8CC6B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9396-8B37-463B-ADE8-BDAFEBA1740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FC31-B615-4B3C-8366-2497D029CFF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4324-F104-4C5B-B5BF-7581374DE5C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9B19-A538-4215-9F8B-31710BFB60B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EFBC-182D-4D2C-8200-A7B4FDE4DA0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4E95-DB2B-473E-86B9-9539D75873A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93B7-EFBF-44B5-AEA1-F6D2D3FA201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88F4-EC0E-43E6-93F7-7E8C2CDBE68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C44D-26A8-4876-996F-026C3645C6C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BB32-282C-4662-8C3F-853242B77AB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A33A-B221-44F6-954E-546127AECAF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6839-B3DD-4030-BED0-0010C1C71CF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8070-1AD7-4545-A949-CFA936A13DB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B379-1DDC-4CCF-B2AB-7E9C5995826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8EEB-DF81-4AE9-98F2-FECAD9BE1C7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E66F-FDF6-4CFE-A69D-B1E681256A3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4DAC-43E7-4ADA-B820-5CFE22C5074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7CDA-7E77-4DFC-9E4C-98E7EB12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A713-3892-440E-AB60-07043543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5E5D-F1A8-4735-AD26-099DA1652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2AAA-6B21-4D85-AE16-65CF4C40E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2A0B-E16E-4B6B-91D9-82451A07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F36F-725D-4542-923B-F620CDF2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F055-F56E-4141-9525-C221CA18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3896-41E5-471F-AA05-A214C261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F1E5-56D8-4E7A-8CAE-E7A00F05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8EC5-AD83-4A15-B29C-14BAE187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F236-245A-432F-AD41-AC0695E3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BB62-CF36-42B5-B182-24E9B889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DA41-20A7-4CDB-A777-263F7BD6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D3DD-5854-41F3-ADCF-303DD01F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0ACE-ED23-48E2-A7E5-72DBF851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2C20-E0CC-4846-A46F-CAC5643E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2B54-5046-4661-80C8-F27DAE0DE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0F27-A85E-4F72-8518-EC4BBCC2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8435-0F2F-4E97-9AFE-2A23BBAC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37EB-879A-4D7A-9CB1-1FFE5D06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3114-578F-4AD0-8658-EDE3F150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4307-B256-4840-A5B7-EB9CF206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79BB-9003-4BB7-89D8-64A45EE2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8618-F980-4CDC-9D60-A80E065C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40E7-04FD-4040-9F58-53FAE9B2B6E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AE79-7817-4453-8264-03B98A58FA9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useit.com/alertbox/" TargetMode="External"/><Relationship Id="rId2" Type="http://schemas.openxmlformats.org/officeDocument/2006/relationships/hyperlink" Target="http://www.useit.com/alertbox/" TargetMode="External"/><Relationship Id="rId3" Type="http://schemas.openxmlformats.org/officeDocument/2006/relationships/hyperlink" Target="http://www.useit.com/alertbox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useit.com/alertbox/9605.html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webpagesthatsuck.com/" TargetMode="External"/><Relationship Id="rId5" Type="http://schemas.openxmlformats.org/officeDocument/2006/relationships/hyperlink" Target="http://www.webpagesthatsuck.com/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www.dsiegel.com/tips/" TargetMode="External"/><Relationship Id="rId8" Type="http://schemas.openxmlformats.org/officeDocument/2006/relationships/hyperlink" Target="http://www.dsiegel.com/tips/" TargetMode="External"/><Relationship Id="rId9" Type="http://schemas.openxmlformats.org/officeDocument/2006/relationships/hyperlink" Target="http://www.dsiegel.com/tips/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Diseñando para la Web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9528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00280" y="2156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obiern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006560" y="1484280"/>
          <a:ext cx="7400880" cy="469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1484280"/>
                    <a:ext cx="7400880" cy="46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0" y="6165720"/>
            <a:ext cx="91440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Integración de los organismos gubernamentale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Mismas ventajas que en una empresa (Intranet)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00280" y="27900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un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019160" y="1484280"/>
          <a:ext cx="7378560" cy="46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9160" y="1484280"/>
                    <a:ext cx="7378560" cy="46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5840" y="5734080"/>
            <a:ext cx="9128160" cy="107820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Radio, T.V., PushTechnologies.                   - Acceso a B.D. Históricas de las agencias de noticias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Almacenan y distribuyen la historia del mundo, en forma detallad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Información mundial al Instante (reportes del tiempo, comportamiento de los mercados, etc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86960" y="32976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ntreten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819440" y="1484280"/>
          <a:ext cx="6322680" cy="483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9440" y="1484280"/>
                    <a:ext cx="6322680" cy="48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15840" y="6100920"/>
            <a:ext cx="912816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cceso Instantáneo a un gran pool de Entretenimientos, sin moverse de su cas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os costos de acceso son menores (no hay viajes, varios pueden usar la misma entrada, etc) 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s Web Page representan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77600" y="1628640"/>
            <a:ext cx="81262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90000"/>
              </a:lnSpc>
              <a:spcBef>
                <a:spcPts val="1199"/>
              </a:spcBef>
              <a:spcAft>
                <a:spcPts val="15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ista de la Información del Usuario, sobre una pantall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spcBef>
                <a:spcPts val="1199"/>
              </a:spcBef>
              <a:spcAft>
                <a:spcPts val="1599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idad de Naveg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spcBef>
                <a:spcPts val="1199"/>
              </a:spcBef>
              <a:spcAft>
                <a:spcPts val="1599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rección para obtener información a través de 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spcBef>
                <a:spcPts val="1199"/>
              </a:spcBef>
              <a:spcAft>
                <a:spcPts val="1599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positorio de Inform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ágina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es la unidad atómica que unifica a estos concep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ortancia del Diseño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 buen diseño en Web permite 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umentar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entas de una Empre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ponibilidad de Productos y Recurs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lexibilidad en las Tare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municación entre las Person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elocidad de acceso a los Recurs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tegración con los sistemas ya existent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ortancia del Diseño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62828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 buen diseño en Web permite  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disminui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576"/>
              </a:spcBef>
              <a:spcAft>
                <a:spcPts val="140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irculación de Pape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576"/>
              </a:spcBef>
              <a:spcAft>
                <a:spcPts val="140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stos en Comunicacio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576"/>
              </a:spcBef>
              <a:spcAft>
                <a:spcPts val="140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stos de Personal (uso de agente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576"/>
              </a:spcBef>
              <a:spcAft>
                <a:spcPts val="140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Restricciones de Uso (sólo se necesita un browser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1576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stas para la Usabilidad de las Páginas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Título de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Tamaño y el Color del Tex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 Estructuración de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s Suposiciones hech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 Retroalimentación que brin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Formato y Distribución de las Imáge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ntener la Coherencia en todas las Pági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6219720"/>
            <a:ext cx="8318520" cy="58068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ipulando estas variables, mis páginas van a ser las amigable para el usuario, más usables e intuitiv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ítulos en Páginas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985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25"/>
              </a:spcBef>
              <a:spcAft>
                <a:spcPts val="876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título debe ser representativo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104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el usuario, y arañas (search engine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1225"/>
              </a:spcBef>
              <a:spcAft>
                <a:spcPts val="876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be tener suficiente inform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104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guíar la navegación del usuario en forma preci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1225"/>
              </a:spcBef>
              <a:spcAft>
                <a:spcPts val="876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ítulos largos cansan a los usuari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104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ar información abreviada y representativa, por ej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876"/>
              </a:spcBef>
              <a:spcAft>
                <a:spcPts val="624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y Company - Home page” vs. “Welcome to My ...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1225"/>
              </a:spcBef>
              <a:spcAft>
                <a:spcPts val="876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áginas diferentes -&gt; títulos diferen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amaño del Texto y Col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130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use la combinación 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Azu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oj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nsa la vis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use muchas combinaciones “Tamaño / Font” distint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ceptable en frases pequeñ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es recomendable en párrafos o unidades de texto mayor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orque desorienta al usuar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ansa la vist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o queda claro qué se intenta comunicar con ese contras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507960" y="6219720"/>
            <a:ext cx="8344080" cy="33732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porque haya muchos recursos (tamaño, estilo y color) disponibles, debo usar a todo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jorar los Preview (Thumbnail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985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umbnails (previews de imágen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uestran el preview de una imagen (generalmente grande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chic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rtar o escalar no funcionan bi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993600" y="4014720"/>
            <a:ext cx="6384960" cy="261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7960" y="1828800"/>
            <a:ext cx="8177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troducción a Internet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ortancia del Diseño en 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istas para mejorar la Usabilida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gunas Herramientas: Animaciones, Frames, y Link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10 errores típicos del diseño par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9800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altar lo Relevante Reduciendo las Imáge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18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imero recortar y luego escal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j.: para lograr una imagen que es el 10% del original,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rtar el 32% (más relevante) de la imag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uego escalar un 32% (reducir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32 * .32 = .1 del origin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alance entre detalle y contex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2036880" y="5378400"/>
            <a:ext cx="4570200" cy="1363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 Haga Supos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880" y="1557000"/>
            <a:ext cx="811224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rows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usan diferentes programas como browsers, y también diferentes versiones de ell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tscape, Explorer, Lynx, Opera, Mozilla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amaño de las Ventan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todos los usuarios usan el tamaño por defecto que tienen de ventanas (por gusto o por restricciones de su monitor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critura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aya al grano, con los tex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5% más lenta es la lectura en una pantalla de computadora, respecto de un texto impr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palabrerío cansa a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criba pensando en Escanea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personas escanean la información de las páginas web, y sólo leen lo que les intere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tructure la información con 2 o 3 niveles de títul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se encabezados representativos y resaltad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critura en la Web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1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hipertexto para estructurar la informació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400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ta la información en módulos coherentes sobre tópicos relacion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400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 el estilo de pirámide invertida (muestre primero las conclusione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s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troalimentación (Feedback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un link apunta a un objeto muy grande (imagen, video, o pág. HTML), indique en el link el tamaño del mismo (entre paréntesi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amaño de las pist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nga el tamaño de la imagen en el tag IMG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strar la estructura de la página, antes de que lleguen todas las imáge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la Gran Ausen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La Coherencia en las páginas de un site permit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navegación intuitiv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mostrar al site como un to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integrar el contenido y las herramientas. presentad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identificar las páginas de una empresa sin necesidad de leer el contenido (publicidad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ublicitar “un estilo”, al interior de la empresa (en el caso de intranet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la Gran Ausen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795320" y="1612800"/>
          <a:ext cx="5694480" cy="49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5320" y="1612800"/>
                    <a:ext cx="569448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2916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Gran Ausente (cont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37560" cy="33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olucion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tyle Sheet (Hojas de Estilo): Disponibles a partir de HTML 3.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….. CSS (Cascading Style Sheet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otenciado en XML 1.0….. XSL (eXtensible Stylesheet Languag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77600" y="1828800"/>
            <a:ext cx="82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tudio a cerca de la Usabilidad: se estudiaron los 9 mejores web si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cluyendo CNN, Disney, HP, Fidelity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 realizaron empresas independi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atos obteni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ocenas de horas de observación de usu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 tuvo en cuenta la composición de los sites, a la hora de realizar los anális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18640" y="1697040"/>
            <a:ext cx="798516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ingún site fue muy buen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sas mal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home pages dan poca información acerca del contenido total del si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s páginas “legibles” fueron menos efectiv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no leen, ojea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oraciones bien formadas pueden ocultar información clav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erne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1660320"/>
            <a:ext cx="789948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red Internet o super-red, interconecta a la mayor parte del plane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illones de usuarios (y clientes potenciales) acceden diariamente a ell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cada vez se hace más necesaria 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Internet plantea un nuevo escenario para el desarrollo de aplica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886200" y="4114800"/>
          <a:ext cx="2362320" cy="14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114800"/>
                    <a:ext cx="236232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536400" y="5730840"/>
            <a:ext cx="8293320" cy="107820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municación mundial a bajo costo                  - Millones de colaboradores, clientes, etc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positorio mundial de información                  - Acceso a servicios en lugares remo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yores capacidades de exportar o importar   - Globalización del mundo ........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77960" y="1828800"/>
            <a:ext cx="819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tiempo de “download” no fue un tema importa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se detectó correlación entre demora y frustr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diseño gráfico tuvo poco ef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navegación debe estar integrada al conten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no, el usuario encuentra al site “poco usable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parar el contenido del diseño (estructur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iolación del “protocolo de ventas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tuación estándar “humano - humano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l usuario da información personal, sólo si compr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tuación estándar basada en W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l usuario tiene que dar la información personal primero, si quiere compra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violación de este protocolo, muchas veces auyenta a los posibles cli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lgunas Herramienta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l diseño de páginas web usables, no pasa por utilizar un cierto editor o herramienta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Pasa por hacer un uso adecuado de los recursos disponibles, como por ejempl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ra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ink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máge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nimac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tc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im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14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n buenas para llamar la aten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o no deben ser continuas (usar estados rotativ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velocidad de animación debe ser baj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uarios Fastidiado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animaciones hacen más difícil la lectu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tra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Útiles para distribuir inform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y usadas en páginas comercia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919160" y="1865160"/>
            <a:ext cx="5327640" cy="3835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965240" y="1832040"/>
            <a:ext cx="5276880" cy="4451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ram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son malos, pero..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ntenga el esquema de frames en todas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abuse de los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alice la necesidad o no de las barras de scroll, para cada fram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n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 usuario no le gustan los links cor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.: “If you click on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Disneylan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will you get a map of the park? Ticket Information, etc?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links largos atraen al usu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.: “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How to Read the Pricing and Rating Listing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Pricing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How to Read Pricing &amp; Rating Listings)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usar links embebidos en párraf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cen más difícil la búsqueda de infor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enera una sensación de “información incompleta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nk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nks dentro de las págin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scroll de las páginas puede ocultar línks útiles para el usu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ga páginas cortas para evitar lo anteri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links circulares causan confusión al usuari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uenos Lin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654200" y="1666800"/>
            <a:ext cx="5759280" cy="433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licaciones Típicas de Interne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25400" y="1547280"/>
            <a:ext cx="5064120" cy="471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-mai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T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ln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tros.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o fundamentalmente: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            “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WEB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os 10 Errores Típicos en Diseño para Web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28400" y="2919240"/>
            <a:ext cx="6840360" cy="20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 Nielsen: “Heuristic Evaluation”.            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www.useit.com/alertbox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/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82400" y="240840"/>
            <a:ext cx="84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os 10 Errores Típicos del Diseño par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04760" y="1828440"/>
            <a:ext cx="66294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0. Grandes Tiempos de Descarga (downloa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9. Información Desactualiz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. Colores y Consistenc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7. Navegación Inadecuada (no hay diseño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. Páginas Demasiado Grand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Páginas Huérfan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URLs Complej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Abuso de Animac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Mecanismos para Atracción de Usu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Uso Inapropiado de Fra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10. Grandes Tiempos de Descarga (download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regla de los 10 segun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iempo máximo de espera antes de que el usuario comience a perder interé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s un factor humano muy estudiado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sta 15 segundos son aceptables en la We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personas se acostumbran a soportar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o sólo en páginas importan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redes han mejorado su velocidad, pero también la cantidad de usuarios se ha increment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peso de las páginas web no se ha reduc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9. Información Desactualizad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Web es como un gran jardín, dónde usted es el jardiner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y que arrancar la maleza y dejar las flores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mayoría de las personas crean contenidos, pero no los mantienen actualizado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volumen de basura en la Web crece más rápidamente que el de la información úti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un link es aún relevante, manténgalo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 otro caso, quíte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8. Link con Colores no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nk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nks a páginas no revisadas están en </a:t>
            </a: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Azu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nks a páginas revisadas están en </a:t>
            </a:r>
            <a:r>
              <a:rPr b="0" lang="en-US" sz="2400" spc="-1" strike="noStrike">
                <a:solidFill>
                  <a:srgbClr val="cc00ff"/>
                </a:solidFill>
                <a:latin typeface="Tahoma"/>
              </a:rPr>
              <a:t>púrpur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oj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cambie estos col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 una de las pocas ayudas para la navegación, que funcionan en casi todos los browser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onsistencia es importante para el Usu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subraye objetos con rojo/azul/púrpura, pueden confundirse con un link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838080" y="3429000"/>
            <a:ext cx="754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muestre cosas que parecen botones, a menos que efectivamente sea un botó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sist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944800" y="1841400"/>
            <a:ext cx="3240000" cy="1198800"/>
          </a:xfrm>
          <a:prstGeom prst="rect">
            <a:avLst/>
          </a:prstGeom>
          <a:ln w="0">
            <a:noFill/>
          </a:ln>
        </p:spPr>
      </p:pic>
      <p:grpSp>
        <p:nvGrpSpPr>
          <p:cNvPr id="332" name=""/>
          <p:cNvGrpSpPr/>
          <p:nvPr/>
        </p:nvGrpSpPr>
        <p:grpSpPr>
          <a:xfrm>
            <a:off x="2822400" y="631440"/>
            <a:ext cx="4810320" cy="3386520"/>
            <a:chOff x="2822400" y="631440"/>
            <a:chExt cx="4810320" cy="3386520"/>
          </a:xfrm>
        </p:grpSpPr>
        <p:grpSp>
          <p:nvGrpSpPr>
            <p:cNvPr id="333" name=""/>
            <p:cNvGrpSpPr/>
            <p:nvPr/>
          </p:nvGrpSpPr>
          <p:grpSpPr>
            <a:xfrm>
              <a:off x="2822400" y="631440"/>
              <a:ext cx="3564720" cy="3386520"/>
              <a:chOff x="2822400" y="631440"/>
              <a:chExt cx="3564720" cy="3386520"/>
            </a:xfrm>
          </p:grpSpPr>
          <p:sp>
            <p:nvSpPr>
              <p:cNvPr id="334" name=""/>
              <p:cNvSpPr/>
              <p:nvPr/>
            </p:nvSpPr>
            <p:spPr>
              <a:xfrm>
                <a:off x="2886120" y="1657440"/>
                <a:ext cx="3403440" cy="1522440"/>
              </a:xfrm>
              <a:custGeom>
                <a:avLst/>
                <a:gdLst/>
                <a:ahLst/>
                <a:rect l="l" t="t" r="r" b="b"/>
                <a:pathLst>
                  <a:path w="1888" h="851">
                    <a:moveTo>
                      <a:pt x="0" y="0"/>
                    </a:moveTo>
                    <a:cubicBezTo>
                      <a:pt x="61" y="102"/>
                      <a:pt x="251" y="123"/>
                      <a:pt x="345" y="153"/>
                    </a:cubicBezTo>
                    <a:cubicBezTo>
                      <a:pt x="531" y="211"/>
                      <a:pt x="721" y="260"/>
                      <a:pt x="909" y="313"/>
                    </a:cubicBezTo>
                    <a:cubicBezTo>
                      <a:pt x="973" y="331"/>
                      <a:pt x="1042" y="334"/>
                      <a:pt x="1101" y="364"/>
                    </a:cubicBezTo>
                    <a:cubicBezTo>
                      <a:pt x="1186" y="408"/>
                      <a:pt x="1263" y="427"/>
                      <a:pt x="1357" y="448"/>
                    </a:cubicBezTo>
                    <a:cubicBezTo>
                      <a:pt x="1413" y="483"/>
                      <a:pt x="1469" y="518"/>
                      <a:pt x="1523" y="556"/>
                    </a:cubicBezTo>
                    <a:cubicBezTo>
                      <a:pt x="1533" y="563"/>
                      <a:pt x="1545" y="568"/>
                      <a:pt x="1555" y="576"/>
                    </a:cubicBezTo>
                    <a:cubicBezTo>
                      <a:pt x="1569" y="587"/>
                      <a:pt x="1593" y="614"/>
                      <a:pt x="1593" y="614"/>
                    </a:cubicBezTo>
                    <a:cubicBezTo>
                      <a:pt x="1626" y="704"/>
                      <a:pt x="1694" y="751"/>
                      <a:pt x="1773" y="800"/>
                    </a:cubicBezTo>
                    <a:cubicBezTo>
                      <a:pt x="1797" y="815"/>
                      <a:pt x="1822" y="830"/>
                      <a:pt x="1849" y="838"/>
                    </a:cubicBezTo>
                    <a:cubicBezTo>
                      <a:pt x="1862" y="842"/>
                      <a:pt x="1888" y="851"/>
                      <a:pt x="1888" y="851"/>
                    </a:cubicBezTo>
                  </a:path>
                </a:pathLst>
              </a:custGeom>
              <a:noFill/>
              <a:ln w="57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8330400">
                <a:off x="2902680" y="1563480"/>
                <a:ext cx="3403800" cy="1522440"/>
              </a:xfrm>
              <a:custGeom>
                <a:avLst/>
                <a:gdLst/>
                <a:ahLst/>
                <a:rect l="l" t="t" r="r" b="b"/>
                <a:pathLst>
                  <a:path w="1888" h="851">
                    <a:moveTo>
                      <a:pt x="0" y="0"/>
                    </a:moveTo>
                    <a:cubicBezTo>
                      <a:pt x="61" y="102"/>
                      <a:pt x="251" y="123"/>
                      <a:pt x="345" y="153"/>
                    </a:cubicBezTo>
                    <a:cubicBezTo>
                      <a:pt x="531" y="211"/>
                      <a:pt x="721" y="260"/>
                      <a:pt x="909" y="313"/>
                    </a:cubicBezTo>
                    <a:cubicBezTo>
                      <a:pt x="973" y="331"/>
                      <a:pt x="1042" y="334"/>
                      <a:pt x="1101" y="364"/>
                    </a:cubicBezTo>
                    <a:cubicBezTo>
                      <a:pt x="1186" y="408"/>
                      <a:pt x="1263" y="427"/>
                      <a:pt x="1357" y="448"/>
                    </a:cubicBezTo>
                    <a:cubicBezTo>
                      <a:pt x="1413" y="483"/>
                      <a:pt x="1469" y="518"/>
                      <a:pt x="1523" y="556"/>
                    </a:cubicBezTo>
                    <a:cubicBezTo>
                      <a:pt x="1533" y="563"/>
                      <a:pt x="1545" y="568"/>
                      <a:pt x="1555" y="576"/>
                    </a:cubicBezTo>
                    <a:cubicBezTo>
                      <a:pt x="1569" y="587"/>
                      <a:pt x="1593" y="614"/>
                      <a:pt x="1593" y="614"/>
                    </a:cubicBezTo>
                    <a:cubicBezTo>
                      <a:pt x="1626" y="704"/>
                      <a:pt x="1694" y="751"/>
                      <a:pt x="1773" y="800"/>
                    </a:cubicBezTo>
                    <a:cubicBezTo>
                      <a:pt x="1797" y="815"/>
                      <a:pt x="1822" y="830"/>
                      <a:pt x="1849" y="838"/>
                    </a:cubicBezTo>
                    <a:cubicBezTo>
                      <a:pt x="1862" y="842"/>
                      <a:pt x="1888" y="851"/>
                      <a:pt x="1888" y="851"/>
                    </a:cubicBezTo>
                  </a:path>
                </a:pathLst>
              </a:custGeom>
              <a:noFill/>
              <a:ln w="57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6391440" y="1847880"/>
              <a:ext cx="1241280" cy="520560"/>
              <a:chOff x="6391440" y="1847880"/>
              <a:chExt cx="1241280" cy="520560"/>
            </a:xfrm>
          </p:grpSpPr>
          <p:sp>
            <p:nvSpPr>
              <p:cNvPr id="337" name=""/>
              <p:cNvSpPr/>
              <p:nvPr/>
            </p:nvSpPr>
            <p:spPr>
              <a:xfrm>
                <a:off x="6708240" y="1847880"/>
                <a:ext cx="924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b2b2b2"/>
                    </a:solidFill>
                    <a:latin typeface="SigLisa"/>
                  </a:rPr>
                  <a:t>Bad!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6391440" y="2041560"/>
                <a:ext cx="272880" cy="8244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7. Navegación Inadecuada (no hay diseño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usuario no conoce su Si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iene dificultad para encontrar inform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hay un camino claro para obtener la información (algún tipo de estructur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unicar la estructura del Si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eer un mapa del site (subliminal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usuario sabrá dónde está y a dónde quiere i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eer alguna herramienta de búsque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mejor soporte para la navegación, nunca será sufic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é Podría Ser Peor Que Esto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94532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6. Páginas Demasiado Grandes (larga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ólo el 10% de los usuarios usan la barra de scroll para revisar las partes no visibles en la presentación inicial de la págin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s cosas importantes y la estructura de navegación de la página debería estar siempre en la parte más alt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nodos “hoja” pueden ser un poco más larg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interesadas en ellos, los leerá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o, no abuse con es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é Podría Estar Mal Aquí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071720" y="2314440"/>
            <a:ext cx="74199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licaciones a partir de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301480" y="1587240"/>
            <a:ext cx="488628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duc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ercio Electrón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gurida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stión Empresar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obiern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unic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tretenimien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tc..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. Páginas Huérfan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 todas las páginas debería indicarse el Web Site al que percenece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usuarios podrían accederlas a través de un link extern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da página debería te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 link al home pag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guna indicación del lugar que ocupa, dentro de la estructura del si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4. URLs Complej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debe incluir direcciones (IP) de máqui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usuarios tratan de decodificar el URL de la págin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inferir la estructura del Web Si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 pierde el soporte para la navegación y el sentido de la ubicación dentro del si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URLs deberían ser legibles para las perso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nombres usados en cada URL deberían ser representariv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deben incluir caracteres especiales, ni combinaciones Mayúscula/Minúcul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3. Animaciones Permanen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use movimiento permanente en las animacion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aptura de movimiento tiene un poder especial dentro del sistema de percepción humano, úselo adecuadam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usuario necesita tranquilidad para asimilar la información que ud. pretende entregar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&lt;BLINK&gt; es simplemente MAL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2. Mecanismos de Atracción de Usuarios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61840" y="1676520"/>
            <a:ext cx="8282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mienta respecto a lo que ofrece y/o regal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intente atraer a la muchedumbre, el costo asociado es muy alto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 su sistema se cae mientras consultan, los usuarios nunca regresará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r Advertencias, en caso de ser necesari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r ej.: el software es de prueba, y vencerá su licencia de uso en 30 dí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1. Uso de Inapropiado de 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ueden confundir a los 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ompe el modelo de página Web que tiene e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acciones del usuario pierden predicti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quién sabe qué información aparecerá dónde, cu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ndo usted hace un click en un link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?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frames deben ser a lo más tr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ben usarse para reflejar la estructu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estructura dada, debe respetarse en todas las páginas, en forma consist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so inapropiado de Frame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5960" y="1752120"/>
            <a:ext cx="822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motores de búsqueda tienen problemas con la información en los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gunos estudios encontraron que la mayoría de los usuarios prefieren los sites sin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dvertencia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 diseñadores muy experimentados pueden (algunas veces) usar frames para mejorar el impacto de una págin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ero debe usarlos tan económicamente como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a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osibl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2280" y="2916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532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unque hemos avanzado mucho, la construcción de sistemas para Internet aún está verde..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undamentalmente en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Metodologías de apoyo al desarroll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Herramientas de Construcción (especialmente diseñ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Madurez de las tecnologías involucradas (representación de datos, seguridad, privacidad, etc.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iseñar para la web no es fácil, pero hay que abordar este desafío lo antes posible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 con respecto a esto, no hay alternativas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ternet tal como la conocemos ahora, no durará mucho. Sin e</a:t>
            </a: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mbrago, es de esperar que los conceptos se mantengan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ferenc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ielsen’s top 10 li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www.useit.com/alertbox/9605.htm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b pages that suc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http://www.webpagesthatsuck.com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t tips for design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http://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www.dsiegel.com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/tips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r Interface Engineer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</a:rPr>
              <a:t>http:///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</a:rPr>
              <a:t>www.uie.co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31716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ducación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4640" y="1638000"/>
            <a:ext cx="798516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n aparecido muchas herramientas para impartir conocimientos a través de la We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893960" y="2644920"/>
          <a:ext cx="5253120" cy="37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3960" y="2644920"/>
                    <a:ext cx="5253120" cy="37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523800" y="6464160"/>
            <a:ext cx="5384880" cy="33732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ado del arte en el mercado de Educación a Distanci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ercio Electr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677960" y="1484280"/>
          <a:ext cx="6031080" cy="48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1484280"/>
                    <a:ext cx="6031080" cy="48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955800" y="6093000"/>
            <a:ext cx="791208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24 hs y 365 días al año vendiendo sin empleado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millones de potenciales clientes.                - Se requiere muy poca infraestructur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86960" y="25380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gur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170000" y="1484280"/>
          <a:ext cx="721188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0000" y="1484280"/>
                    <a:ext cx="721188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536400" y="6097680"/>
            <a:ext cx="834408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olicía, Aduana, Ejército, Agencias de Investigaciones, etc.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municación barata, fácil y rápida.      - Capacidades de audio, video, imágenes y texto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86960" y="24084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estión Empresarial (Intranet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77960" y="1484280"/>
          <a:ext cx="761832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1484280"/>
                    <a:ext cx="761832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15840" y="6145200"/>
            <a:ext cx="912816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Independencia del puesto de trabajo, S.O., Aplicación Cliente  - Mejores canales de comunic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irculación de documentos electrónicos en vez de papel          - Aumento de la eficienci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5T16:18:49Z</dcterms:created>
  <dc:creator>sochoa</dc:creator>
  <dc:description/>
  <dc:language>en-US</dc:language>
  <cp:lastModifiedBy>Sergio F. Ochoa</cp:lastModifiedBy>
  <cp:lastPrinted>2000-04-26T16:56:46Z</cp:lastPrinted>
  <dcterms:modified xsi:type="dcterms:W3CDTF">2006-10-24T11:32:41Z</dcterms:modified>
  <cp:revision>71</cp:revision>
  <dc:subject/>
  <dc:title>Diseñando para la Web (#1)</dc:title>
</cp:coreProperties>
</file>