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CF6F-35D0-4DC3-A00F-A7B870DDED4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A707-A830-41FC-A85A-F18EE74EA1C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6C7D-F876-40C4-8E22-FC3B5FDC1F1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D793-75C1-4BB4-BC62-C135DC8F5DE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E3C6-8CCC-44A1-ACB0-C3B0E2B3B06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9001-6B29-46F4-AE88-7A43B15FC69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E1BE-955D-47F7-924F-B3954D8875F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18D8-FE0A-43F0-9A0B-4DB652E126D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1773-4CBF-4861-99CD-171C3E81EDC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0DF4-7C83-4F0E-BA8A-3EE42057189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BDB6-F88C-44A1-9628-3A5FDB7F253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A5DA-58C2-4E89-AABB-29DB983D1E4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37AC-168C-4749-A9D0-0310121EA09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81E2-EB06-4731-8AEF-27512804A0D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B858-6F92-4D54-8C18-379424E5DDF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CF64-45B3-4009-8C13-EBD5A1B6250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7882-ACBC-4CA4-BCE0-0E23A847944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D87B-C8D4-4F84-8791-4061EF3B15E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A342-EB7A-46E1-96BA-C808785A7F0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569F-5153-4CEB-9C9D-C075802D981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76CB-DB6F-4B8B-A426-D85431BF74E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FE59-904C-4C42-9AED-B79758CFDB5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DF11-9FBD-4F84-A778-2299C783829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DC4A-E232-4DA9-B046-FE07F4B4014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FDED-04AC-4E28-86CA-ED7D2CC079B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525D-6183-4396-B424-BA2AE0FD291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C0C4-BECB-42A2-B467-475A4997526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AD58-AA6F-4855-8A80-808902E59EC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3F71B-D25C-4476-A3A8-321DD77BE11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8BF9-F7BB-4B3F-88A3-F42A66841FB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2A11-4BD2-4E0D-93E0-4C59D4D2DA7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999F-1D64-4CE7-A71F-6CFB39FC087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05BB-1B9E-4448-875B-84DBA78F5A8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D3CF-B5DC-4804-AC43-59E4A49765A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489D-290C-4EDF-AE64-7CB0D3527BD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A846-1B73-4B6F-89A6-892CF479BF3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5401-FB74-46BB-8397-0F50F6D322C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BE9C-DF1A-4A01-806F-F4359E9AD46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7A7A-E455-464A-A174-0D7D95E81FA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3985-63DD-45F5-A1E1-F90D270E3CD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A654-1A70-4586-AFCA-E5FB92B33DE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BFB9-974B-4105-81F5-C99B887553B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7B8A-6A93-4705-9E2B-DD59CFA60FE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D323-1D58-42E2-83D4-58C2DAD98BB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CBFE-8DB6-4FC0-B74A-D8DFD628C15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FAAF-D3E5-4AAA-BEEB-D0146BCEFEC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0DEB-EDDC-4D86-A43B-CA5445E3475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4EB9-B7B7-4C00-BAEA-0EE9DE5B5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6E13-1888-43E1-AC06-85786F2E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9D01-277D-4124-A320-A4C2ACE58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E30E-9F96-4148-86E3-AE16EA2F6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9944-52E1-47E9-89D6-3BF67D1D4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26A8-C5E1-4F27-80D0-D574ABF9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4387-F734-4111-8FAA-8D783103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9BCB-3506-457E-9CC4-61094286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6DBC-8B11-4F71-9412-F76C8FE3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0D4E-FA70-4237-BE5C-1D4601FA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9535-CED3-40BC-96F8-EF2BC241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B7D1-6F02-4145-934D-1C3147C2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3384-F417-44A3-93D8-18C12A5A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60825-7089-40CC-9EDF-391DEDB9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EE64-6481-45AA-9CA9-FDED8850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0E11-50A1-41D9-9A82-8C49820D8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0D6D-2B9C-40FE-8598-CB1A04BF7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1AAC-4342-42F0-BAB7-3967898D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44E2-629C-47C6-ACC6-A270DC36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3571-0CBE-4389-A180-670F3289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C993-F282-44D9-8F3B-CF601A63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4272-C1E0-4491-A712-4B619993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7172-7978-48A0-9A96-C37854C0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F809-DC35-436A-BC25-62455D47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6357-A725-4ADF-BC62-E4D7A497631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FB33-30E9-4580-BC8B-AA34261DAB2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useit.com/alertbox/" TargetMode="External"/><Relationship Id="rId2" Type="http://schemas.openxmlformats.org/officeDocument/2006/relationships/hyperlink" Target="http://www.useit.com/alertbox/" TargetMode="External"/><Relationship Id="rId3" Type="http://schemas.openxmlformats.org/officeDocument/2006/relationships/hyperlink" Target="http://www.useit.com/alertbox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useit.com/alertbox/9605.html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webpagesthatsuck.com/" TargetMode="External"/><Relationship Id="rId5" Type="http://schemas.openxmlformats.org/officeDocument/2006/relationships/hyperlink" Target="http://www.webpagesthatsuck.com/" TargetMode="External"/><Relationship Id="rId6" Type="http://schemas.openxmlformats.org/officeDocument/2006/relationships/image" Target="../media/image2.png"/><Relationship Id="rId7" Type="http://schemas.openxmlformats.org/officeDocument/2006/relationships/hyperlink" Target="http://www.dsiegel.com/tips/" TargetMode="External"/><Relationship Id="rId8" Type="http://schemas.openxmlformats.org/officeDocument/2006/relationships/hyperlink" Target="http://www.dsiegel.com/tips/" TargetMode="External"/><Relationship Id="rId9" Type="http://schemas.openxmlformats.org/officeDocument/2006/relationships/hyperlink" Target="http://www.dsiegel.com/tips/" TargetMode="External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Diseñando para la Web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495288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00280" y="21564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obiern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006560" y="1484280"/>
          <a:ext cx="7400880" cy="469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6560" y="1484280"/>
                    <a:ext cx="7400880" cy="46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0" y="6165720"/>
            <a:ext cx="91440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Integración de los organismos gubernamentales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Mismas ventajas que en una empresa (Intranet)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00280" y="27900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unic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019160" y="1484280"/>
          <a:ext cx="7378560" cy="46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9160" y="1484280"/>
                    <a:ext cx="7378560" cy="46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15840" y="5734080"/>
            <a:ext cx="9128160" cy="1078200"/>
          </a:xfrm>
          <a:prstGeom prst="rect">
            <a:avLst/>
          </a:prstGeom>
          <a:solidFill>
            <a:srgbClr val="fcfdc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Radio, T.V., PushTechnologies.                   - Acceso a B.D. Históricas de las agencias de noticias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Almacenan y distribuyen la historia del mundo, en forma detallad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Información mundial al Instante (reportes del tiempo, comportamiento de los mercados, etc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86960" y="329760"/>
            <a:ext cx="797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ntreteni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1819440" y="1484280"/>
          <a:ext cx="6322680" cy="483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9440" y="1484280"/>
                    <a:ext cx="6322680" cy="48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15840" y="6100920"/>
            <a:ext cx="912816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cceso Instantáneo a un gran pool de Entretenimientos, sin moverse de su cas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Los costos de acceso son menores (no hay viajes, varios pueden usar la misma entrada, etc) 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s Web Page representan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77600" y="1628640"/>
            <a:ext cx="81262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lnSpc>
                <a:spcPct val="90000"/>
              </a:lnSpc>
              <a:spcBef>
                <a:spcPts val="1199"/>
              </a:spcBef>
              <a:spcAft>
                <a:spcPts val="1599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ista de la Información del Usuario, sobre una pantall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spcBef>
                <a:spcPts val="1199"/>
              </a:spcBef>
              <a:spcAft>
                <a:spcPts val="1599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idad de Navegac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spcBef>
                <a:spcPts val="1199"/>
              </a:spcBef>
              <a:spcAft>
                <a:spcPts val="1599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irección para obtener información a través de la Web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spcBef>
                <a:spcPts val="1199"/>
              </a:spcBef>
              <a:spcAft>
                <a:spcPts val="1599"/>
              </a:spcAft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positorio de Informac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ágina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es la unidad atómica que unifica a estos concep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mportancia del Diseño en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 buen diseño en Web permite 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aumentar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entas de una Empres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isponibilidad de Productos y Recurs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lexibilidad en las Tare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municación entre las Person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elocidad de acceso a los Recurs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tegración con los sistemas ya existent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mportancia del Diseño en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62828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 buen diseño en Web permite  </a:t>
            </a: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disminuir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576"/>
              </a:spcBef>
              <a:spcAft>
                <a:spcPts val="140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irculación de Pape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576"/>
              </a:spcBef>
              <a:spcAft>
                <a:spcPts val="140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stos en Comunicacion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576"/>
              </a:spcBef>
              <a:spcAft>
                <a:spcPts val="140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stos de Personal (uso de agente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576"/>
              </a:spcBef>
              <a:spcAft>
                <a:spcPts val="140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Restricciones de Uso (sólo se necesita un browser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1576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istas para la Usabilidad de las Páginas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el Título de las Pági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el Tamaño y el Color del Tex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la Estructuración de las Pági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las Suposiciones hech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la Retroalimentación que brin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el Formato y Distribución de las Imágen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ntener la Coherencia en todas las Págin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6219720"/>
            <a:ext cx="8318520" cy="58068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ipulando estas variables, mis páginas van a ser las amigable para el usuario, más usables e intuitiv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ítulos en Páginas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985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225"/>
              </a:spcBef>
              <a:spcAft>
                <a:spcPts val="876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título debe ser representativo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104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 el usuario, y arañas (search engine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1225"/>
              </a:spcBef>
              <a:spcAft>
                <a:spcPts val="876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be tener suficiente inform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104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 guíar la navegación del usuario en forma precis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1225"/>
              </a:spcBef>
              <a:spcAft>
                <a:spcPts val="876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ítulos largos cansan a los usuari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104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sar información abreviada y representativa, por ej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spcBef>
                <a:spcPts val="876"/>
              </a:spcBef>
              <a:spcAft>
                <a:spcPts val="624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y Company - Home page” vs. “Welcome to My ...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1225"/>
              </a:spcBef>
              <a:spcAft>
                <a:spcPts val="876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áginas diferentes -&gt; títulos diferent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amaño del Texto y Colo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130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use la combinación </a:t>
            </a: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Azul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Roj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ansa la vis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use muchas combinaciones “Tamaño / Font” distint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ceptable en frases pequeñ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es recomendable en párrafos o unidades de texto mayor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751"/>
              </a:spcBef>
              <a:spcAft>
                <a:spcPts val="499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orque desorienta al usuari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751"/>
              </a:spcBef>
              <a:spcAft>
                <a:spcPts val="499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ansa la vist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751"/>
              </a:spcBef>
              <a:spcAft>
                <a:spcPts val="499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o queda claro qué se intenta comunicar con ese contrast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507960" y="6219720"/>
            <a:ext cx="8344080" cy="33732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 porque haya muchos recursos (tamaño, estilo y color) disponibles, debo usar a todos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ejorar los Preview (Thumbnail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985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umbnails (previews de imágene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uestran el preview de una imagen (generalmente grande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chic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cortar o escalar no funcionan bi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993600" y="4014720"/>
            <a:ext cx="6384960" cy="2619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77960" y="1828800"/>
            <a:ext cx="8177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troducción a Internet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 Web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mportancia del Diseño en la Web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istas para mejorar la Usabilida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lgunas Herramientas: Animaciones, Frames, y Link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os 10 errores típicos del diseño para Web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19800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altar lo Relevante Reduciendo las Imáge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18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imero recortar y luego escal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j.: para lograr una imagen que es el 10% del original, deb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cortar el 32% (más relevante) de la imag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uego escalar un 32% (reducir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32 * .32 = .1 del origina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alance entre detalle y contex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2036880" y="5378400"/>
            <a:ext cx="4570200" cy="1363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 Haga Supos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50880" y="1557000"/>
            <a:ext cx="811224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rows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personas usan diferentes programas como browsers, y también diferentes versiones de ell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etscape, Explorer, Lynx, Opera, Mozilla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amaño de las Ventan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todos los usuarios usan el tamaño por defecto que tienen de ventanas (por gusto o por restricciones de su monitor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critura en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aya al grano, con los tex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5% más lenta es la lectura en una pantalla de computadora, respecto de un texto impre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palabrerío cansa al usu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criba pensando en Escaneabi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s personas escanean la información de las páginas web, y sólo leen lo que les interes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tructure la información con 2 o 3 niveles de títul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use encabezados representativos y resaltad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critura en la Web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1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 hipertexto para estructurar la información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400"/>
              </a:spcBef>
              <a:spcAft>
                <a:spcPts val="876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rta la información en módulos coherentes sobre tópicos relacion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400"/>
              </a:spcBef>
              <a:spcAft>
                <a:spcPts val="876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e el estilo de pirámide invertida (muestre primero las conclusione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is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troalimentación (Feedback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 un link apunta a un objeto muy grande (imagen, video, o pág. HTML), indique en el link el tamaño del mismo (entre paréntesi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amaño de las pist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nga el tamaño de la imagen en el tag IMG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ostrar la estructura de la página, antes de que lleguen todas las imáge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 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oherencia: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la Gran Ausent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La Coherencia en las páginas de un site permit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navegación intuitiv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mostrar al site como un to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integrar el contenido y las herramientas. presentad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identificar las páginas de una empresa sin necesidad de leer el contenido (publicidad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ublicitar “un estilo”, al interior de la empresa (en el caso de intranet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11360" y="24084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 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oherencia: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la Gran Ausent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795320" y="1612800"/>
          <a:ext cx="5694480" cy="494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5320" y="1612800"/>
                    <a:ext cx="5694480" cy="49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2280" y="2916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La </a:t>
            </a:r>
            <a:r>
              <a:rPr b="1" lang="es-ES" sz="4400" spc="-1" strike="noStrike">
                <a:solidFill>
                  <a:srgbClr val="660066"/>
                </a:solidFill>
                <a:latin typeface="Tahoma"/>
              </a:rPr>
              <a:t>Coherencia:</a:t>
            </a: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 Gran Ausente (cont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37560" cy="33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Solucion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Style Sheet (Hojas de Estilo): Disponibles a partir de HTML 3.2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….. CSS (Cascading Style Sheet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otenciado en XML 1.0….. XSL (eXtensible Stylesheet Language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77600" y="1828800"/>
            <a:ext cx="82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tudio a cerca de la Usabilidad: se estudiaron los 9 mejores web si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cluyendo CNN, Disney, HP, Fidelity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 realizaron empresas independien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atos obteni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ocenas de horas de observación de usuar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 tuvo en cuenta la composición de los sites, a la hora de realizar los análisi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18640" y="1697040"/>
            <a:ext cx="798516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ingún site fue muy buen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sas mal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home pages dan poca información acerca del contenido total del si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s páginas “legibles” fueron menos efectiv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personas no leen, ojea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oraciones bien formadas pueden ocultar información clav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terne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040" y="1660320"/>
            <a:ext cx="789948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red Internet o super-red, interconecta a la mayor parte del plane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illones de usuarios (y clientes potenciales) acceden diariamente a ell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 cada vez se hace más necesaria .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Internet plantea un nuevo escenario para el desarrollo de aplicac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886200" y="4114800"/>
          <a:ext cx="2362320" cy="14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4114800"/>
                    <a:ext cx="236232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536400" y="5730840"/>
            <a:ext cx="8293320" cy="107820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omunicación mundial a bajo costo                  - Millones de colaboradores, clientes, etc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positorio mundial de información                  - Acceso a servicios en lugares remot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ayores capacidades de exportar o importar   - Globalización del mundo ........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77960" y="1828800"/>
            <a:ext cx="819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tiempo de “download” no fue un tema importa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se detectó correlación entre demora y frustr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diseño gráfico tuvo poco ef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navegación debe estar integrada al conteni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 no, el usuario encuentra al site “poco usable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parar el contenido del diseño (estructur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iolación del “protocolo de ventas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tuación estándar “humano - humano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l usuario da información personal, sólo si compr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tuación estándar basada en We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l usuario tiene que dar la información personal primero, si quiere comprar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violación de este protocolo, muchas veces auyenta a los posibles clien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lgunas Herramienta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l diseño de páginas web usables, no pasa por utilizar un cierto editor o herramienta.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 Pasa por hacer un uso adecuado de los recursos disponibles, como por ejempl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ram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ink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mágene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nimacio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tc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im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14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n buenas para llamar la aten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ro no deben ser continuas (usar estados rotativ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 velocidad de animación debe ser baj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uarios Fastidiado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s animaciones hacen más difícil la lectur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istra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Útiles para distribuir inform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uy usadas en páginas comercia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ram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919160" y="1865160"/>
            <a:ext cx="5327640" cy="3835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ram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1965240" y="1832040"/>
            <a:ext cx="5276880" cy="4451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ram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son malos, pero..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ntenga el esquema de frames en todas las pági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abuse de los fram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nalice la necesidad o no de las barras de scroll, para cada fram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ink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 usuario no le gustan los links cor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j.: “If you click on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Disneylan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will you get a map of the park? Ticket Information, etc?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links largos atraen al usuar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j.: “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How to Read the Pricing and Rating Listing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Pricing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(How to Read Pricing &amp; Rating Listings)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usar links embebidos en párraf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acen más difícil la búsqueda de inform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enera una sensación de “información incompleta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ink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nks dentro de las págin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scroll de las páginas puede ocultar línks útiles para el usu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ga páginas cortas para evitar lo anterio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os links circulares causan confusión al usuari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uenos Link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654200" y="1666800"/>
            <a:ext cx="5759280" cy="4337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licaciones Típicas de Interne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25400" y="1547280"/>
            <a:ext cx="5064120" cy="471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-mai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T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elne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tros.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o fundamentalmente: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             “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 WEB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os 10 Errores Típicos en Diseño para Web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328400" y="2919240"/>
            <a:ext cx="6840360" cy="20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 Nielsen: “Heuristic Evaluation”.             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www.useit.com/alertbox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/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82400" y="240840"/>
            <a:ext cx="84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os 10 Errores Típicos del Diseño par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04760" y="1828440"/>
            <a:ext cx="66294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0. Grandes Tiempos de Descarga (download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9. Información Desactualiza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8. Colores y Consistenc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7. Navegación Inadecuada (no hay diseño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6. Páginas Demasiado Grand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. Páginas Huérfan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URLs Complej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Abuso de Animacio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Mecanismos para Atracción de Usuar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Uso Inapropiado de Fram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10. Grandes Tiempos de Descarga (download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regla de los 10 segund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iempo máximo de espera antes de que el usuario comience a perder interés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s un factor humano muy estudiado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sta 15 segundos son aceptables en la We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s personas se acostumbran a soportar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ro sólo en páginas important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redes han mejorado su velocidad, pero también la cantidad de usuarios se ha incrementa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peso de las páginas web no se ha reduci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9. Información Desactualizad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Web es como un gran jardín, dónde usted es el jardinero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ay que arrancar la maleza y dejar las flores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mayoría de las personas crean contenidos, pero no los mantienen actualizado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volumen de basura en la Web crece más rápidamente que el de la información úti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 un link es aún relevante, manténgalo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n otro caso, quíte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8. Link con Colores no Estándar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nk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nks a páginas no revisadas están en </a:t>
            </a: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Azu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nks a páginas revisadas están en </a:t>
            </a:r>
            <a:r>
              <a:rPr b="0" lang="en-US" sz="2400" spc="-1" strike="noStrike">
                <a:solidFill>
                  <a:srgbClr val="cc00ff"/>
                </a:solidFill>
                <a:latin typeface="Tahoma"/>
              </a:rPr>
              <a:t>púrpur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roj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cambie estos color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 una de las pocas ayudas para la navegación, que funcionan en casi todos los browser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consistencia es importante para el Usuar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subraye objetos con rojo/azul/púrpura, pueden confundirse con un link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838080" y="3429000"/>
            <a:ext cx="754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muestre cosas que parecen botones, a menos que efectivamente sea un botón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sist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2944800" y="1841400"/>
            <a:ext cx="3240000" cy="1198800"/>
          </a:xfrm>
          <a:prstGeom prst="rect">
            <a:avLst/>
          </a:prstGeom>
          <a:ln w="0">
            <a:noFill/>
          </a:ln>
        </p:spPr>
      </p:pic>
      <p:grpSp>
        <p:nvGrpSpPr>
          <p:cNvPr id="332" name=""/>
          <p:cNvGrpSpPr/>
          <p:nvPr/>
        </p:nvGrpSpPr>
        <p:grpSpPr>
          <a:xfrm>
            <a:off x="2822400" y="631440"/>
            <a:ext cx="4810320" cy="3386520"/>
            <a:chOff x="2822400" y="631440"/>
            <a:chExt cx="4810320" cy="3386520"/>
          </a:xfrm>
        </p:grpSpPr>
        <p:grpSp>
          <p:nvGrpSpPr>
            <p:cNvPr id="333" name=""/>
            <p:cNvGrpSpPr/>
            <p:nvPr/>
          </p:nvGrpSpPr>
          <p:grpSpPr>
            <a:xfrm>
              <a:off x="2822400" y="631440"/>
              <a:ext cx="3564720" cy="3386520"/>
              <a:chOff x="2822400" y="631440"/>
              <a:chExt cx="3564720" cy="3386520"/>
            </a:xfrm>
          </p:grpSpPr>
          <p:sp>
            <p:nvSpPr>
              <p:cNvPr id="334" name=""/>
              <p:cNvSpPr/>
              <p:nvPr/>
            </p:nvSpPr>
            <p:spPr>
              <a:xfrm>
                <a:off x="2886120" y="1657440"/>
                <a:ext cx="3403440" cy="1522440"/>
              </a:xfrm>
              <a:custGeom>
                <a:avLst/>
                <a:gdLst/>
                <a:ahLst/>
                <a:rect l="l" t="t" r="r" b="b"/>
                <a:pathLst>
                  <a:path w="1888" h="851">
                    <a:moveTo>
                      <a:pt x="0" y="0"/>
                    </a:moveTo>
                    <a:cubicBezTo>
                      <a:pt x="61" y="102"/>
                      <a:pt x="251" y="123"/>
                      <a:pt x="345" y="153"/>
                    </a:cubicBezTo>
                    <a:cubicBezTo>
                      <a:pt x="531" y="211"/>
                      <a:pt x="721" y="260"/>
                      <a:pt x="909" y="313"/>
                    </a:cubicBezTo>
                    <a:cubicBezTo>
                      <a:pt x="973" y="331"/>
                      <a:pt x="1042" y="334"/>
                      <a:pt x="1101" y="364"/>
                    </a:cubicBezTo>
                    <a:cubicBezTo>
                      <a:pt x="1186" y="408"/>
                      <a:pt x="1263" y="427"/>
                      <a:pt x="1357" y="448"/>
                    </a:cubicBezTo>
                    <a:cubicBezTo>
                      <a:pt x="1413" y="483"/>
                      <a:pt x="1469" y="518"/>
                      <a:pt x="1523" y="556"/>
                    </a:cubicBezTo>
                    <a:cubicBezTo>
                      <a:pt x="1533" y="563"/>
                      <a:pt x="1545" y="568"/>
                      <a:pt x="1555" y="576"/>
                    </a:cubicBezTo>
                    <a:cubicBezTo>
                      <a:pt x="1569" y="587"/>
                      <a:pt x="1593" y="614"/>
                      <a:pt x="1593" y="614"/>
                    </a:cubicBezTo>
                    <a:cubicBezTo>
                      <a:pt x="1626" y="704"/>
                      <a:pt x="1694" y="751"/>
                      <a:pt x="1773" y="800"/>
                    </a:cubicBezTo>
                    <a:cubicBezTo>
                      <a:pt x="1797" y="815"/>
                      <a:pt x="1822" y="830"/>
                      <a:pt x="1849" y="838"/>
                    </a:cubicBezTo>
                    <a:cubicBezTo>
                      <a:pt x="1862" y="842"/>
                      <a:pt x="1888" y="851"/>
                      <a:pt x="1888" y="851"/>
                    </a:cubicBezTo>
                  </a:path>
                </a:pathLst>
              </a:custGeom>
              <a:noFill/>
              <a:ln w="57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8330400">
                <a:off x="2902680" y="1563480"/>
                <a:ext cx="3403800" cy="1522440"/>
              </a:xfrm>
              <a:custGeom>
                <a:avLst/>
                <a:gdLst/>
                <a:ahLst/>
                <a:rect l="l" t="t" r="r" b="b"/>
                <a:pathLst>
                  <a:path w="1888" h="851">
                    <a:moveTo>
                      <a:pt x="0" y="0"/>
                    </a:moveTo>
                    <a:cubicBezTo>
                      <a:pt x="61" y="102"/>
                      <a:pt x="251" y="123"/>
                      <a:pt x="345" y="153"/>
                    </a:cubicBezTo>
                    <a:cubicBezTo>
                      <a:pt x="531" y="211"/>
                      <a:pt x="721" y="260"/>
                      <a:pt x="909" y="313"/>
                    </a:cubicBezTo>
                    <a:cubicBezTo>
                      <a:pt x="973" y="331"/>
                      <a:pt x="1042" y="334"/>
                      <a:pt x="1101" y="364"/>
                    </a:cubicBezTo>
                    <a:cubicBezTo>
                      <a:pt x="1186" y="408"/>
                      <a:pt x="1263" y="427"/>
                      <a:pt x="1357" y="448"/>
                    </a:cubicBezTo>
                    <a:cubicBezTo>
                      <a:pt x="1413" y="483"/>
                      <a:pt x="1469" y="518"/>
                      <a:pt x="1523" y="556"/>
                    </a:cubicBezTo>
                    <a:cubicBezTo>
                      <a:pt x="1533" y="563"/>
                      <a:pt x="1545" y="568"/>
                      <a:pt x="1555" y="576"/>
                    </a:cubicBezTo>
                    <a:cubicBezTo>
                      <a:pt x="1569" y="587"/>
                      <a:pt x="1593" y="614"/>
                      <a:pt x="1593" y="614"/>
                    </a:cubicBezTo>
                    <a:cubicBezTo>
                      <a:pt x="1626" y="704"/>
                      <a:pt x="1694" y="751"/>
                      <a:pt x="1773" y="800"/>
                    </a:cubicBezTo>
                    <a:cubicBezTo>
                      <a:pt x="1797" y="815"/>
                      <a:pt x="1822" y="830"/>
                      <a:pt x="1849" y="838"/>
                    </a:cubicBezTo>
                    <a:cubicBezTo>
                      <a:pt x="1862" y="842"/>
                      <a:pt x="1888" y="851"/>
                      <a:pt x="1888" y="851"/>
                    </a:cubicBezTo>
                  </a:path>
                </a:pathLst>
              </a:custGeom>
              <a:noFill/>
              <a:ln w="57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6391440" y="1847880"/>
              <a:ext cx="1241280" cy="520560"/>
              <a:chOff x="6391440" y="1847880"/>
              <a:chExt cx="1241280" cy="520560"/>
            </a:xfrm>
          </p:grpSpPr>
          <p:sp>
            <p:nvSpPr>
              <p:cNvPr id="337" name=""/>
              <p:cNvSpPr/>
              <p:nvPr/>
            </p:nvSpPr>
            <p:spPr>
              <a:xfrm>
                <a:off x="6708240" y="1847880"/>
                <a:ext cx="924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b2b2b2"/>
                    </a:solidFill>
                    <a:latin typeface="SigLisa"/>
                  </a:rPr>
                  <a:t>Bad!</a:t>
                </a:r>
                <a:endParaRPr b="0" lang="en-US" sz="2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6391440" y="2041560"/>
                <a:ext cx="272880" cy="8244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7. Navegación Inadecuada (no hay diseño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 usuario no conoce su Sit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iene dificultad para encontrar inform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hay un camino claro para obtener la información (algún tipo de estructura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unicar la estructura del Sit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veer un mapa del site (subliminal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usuario sabrá dónde está y a dónde quiere i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veer alguna herramienta de búsqued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mejor soporte para la navegación, nunca será sufici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é Podría Ser Peor Que Esto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94532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6. Páginas Demasiado Grandes (larga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ólo el 10% de los usuarios usan la barra de scroll para revisar las partes no visibles en la presentación inicial de la págin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s cosas importantes y la estructura de navegación de la página debería estar siempre en la parte más alt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os nodos “hoja” pueden ser un poco más larg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personas interesadas en ellos, los leerá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o, no abuse con es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é Podría Estar Mal Aquí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1071720" y="2314440"/>
            <a:ext cx="74199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licaciones a partir de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301480" y="1587240"/>
            <a:ext cx="488628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duc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ercio Electrónic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gurida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estión Empresari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obiern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unic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ntretenimien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tc..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. Páginas Huérfan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n todas las páginas debería indicarse el Web Site al que percenece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usuarios podrían accederlas a través de un link extern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ada página debería te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 link al home pag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guna indicación del lugar que ocupa, dentro de la estructura del si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4. URLs Complej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debe incluir direcciones (IP) de máquin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usuarios tratan de decodificar el URL de la págin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 inferir la estructura del Web Si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 pierde el soporte para la navegación y el sentido de la ubicación dentro del sit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URLs deberían ser legibles para las person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s nombres usados en cada URL deberían ser representariv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deben incluir caracteres especiales, ni combinaciones Mayúscula/Minúcul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3. Animaciones Permanent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use movimiento permanente en las animacion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captura de movimiento tiene un poder especial dentro del sistema de percepción humano, úselo adecuadam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 usuario necesita tranquilidad para asimilar la información que ud. pretende entregar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 &lt;BLINK&gt; es simplemente MAL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2. Mecanismos de Atracción de Usuarios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61840" y="1676520"/>
            <a:ext cx="8282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mienta respecto a lo que ofrece y/o regal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intente atraer a la muchedumbre, el costo asociado es muy alto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 su sistema se cae mientras consultan, los usuarios nunca regresará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ar Advertencias, en caso de ser necesari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r ej.: el software es de prueba, y vencerá su licencia de uso en 30 dí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1. Uso de Inapropiado de Fram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ueden confundir a los usua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ompe el modelo de página Web que tiene el usu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acciones del usuario pierden predictibi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¿quién sabe qué información aparecerá dónde, cu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ndo usted hace un click en un link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?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frames deben ser a lo más tr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ben usarse para reflejar la estructur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 estructura dada, debe respetarse en todas las páginas, en forma consist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so inapropiado de Frame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15960" y="1752120"/>
            <a:ext cx="822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motores de búsqueda tienen problemas con la información en los fram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gunos estudios encontraron que la mayoría de los usuarios prefieren los sites sin fram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Advertencia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: diseñadores muy experimentados pueden (algunas veces) usar frames para mejorar el impacto de una página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ero debe usarlos tan económicamente como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a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osibl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2280" y="2916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532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747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unque hemos avanzado mucho, la construcción de sistemas para Internet aún está verde..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undamentalmente en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Metodologías de apoyo al desarroll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Herramientas de Construcción (especialmente diseño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Madurez de las tecnologías involucradas (representación de datos, seguridad, privacidad, etc.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747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iseñar para la web no es fácil, pero hay que abordar este desafío lo antes posible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 con respecto a esto, no hay alternativas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nternet tal como la conocemos ahora, no durará mucho. Sin e</a:t>
            </a: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mbrago, es de esperar que los conceptos se mantengan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ferenci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ielsen’s top 10 lis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http://www.useit.com/alertbox/9605.htm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eb pages that suc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http://www.webpagesthatsuck.com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/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t tips for design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http://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www.dsiegel.com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/tips/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r Interface Engineer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</a:rPr>
              <a:t>http:///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</a:rPr>
              <a:t>www.uie.co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31716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ducación en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4640" y="1638000"/>
            <a:ext cx="798516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n aparecido muchas herramientas para impartir conocimientos a través de la We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893960" y="2644920"/>
          <a:ext cx="5253120" cy="37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3960" y="2644920"/>
                    <a:ext cx="5253120" cy="37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523800" y="6464160"/>
            <a:ext cx="5384880" cy="33732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ado del arte en el mercado de Educación a Distanci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ercio Electr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677960" y="1484280"/>
          <a:ext cx="6031080" cy="48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7960" y="1484280"/>
                    <a:ext cx="6031080" cy="48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955800" y="6093000"/>
            <a:ext cx="7912080" cy="70776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24 hs y 365 días al año vendiendo sin empleados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millones de potenciales clientes.                - Se requiere muy poca infraestructur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86960" y="253800"/>
            <a:ext cx="797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gur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170000" y="1484280"/>
          <a:ext cx="7211880" cy="46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0000" y="1484280"/>
                    <a:ext cx="721188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536400" y="6097680"/>
            <a:ext cx="8344080" cy="70776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olicía, Aduana, Ejército, Agencias de Investigaciones, etc. 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omunicación barata, fácil y rápida.      - Capacidades de audio, video, imágenes y texto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86960" y="240840"/>
            <a:ext cx="797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estión Empresarial (Intranet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777960" y="1484280"/>
          <a:ext cx="7618320" cy="47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960" y="1484280"/>
                    <a:ext cx="7618320" cy="47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15840" y="6145200"/>
            <a:ext cx="912816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Independencia del puesto de trabajo, S.O., Aplicación Cliente  - Mejores canales de comunic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Circulación de documentos electrónicos en vez de papel          - Aumento de la eficienci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5T16:18:49Z</dcterms:created>
  <dc:creator>sochoa</dc:creator>
  <dc:description/>
  <dc:language>en-US</dc:language>
  <cp:lastModifiedBy>Sergio F. Ochoa</cp:lastModifiedBy>
  <cp:lastPrinted>2000-04-26T16:56:46Z</cp:lastPrinted>
  <dcterms:modified xsi:type="dcterms:W3CDTF">2006-10-24T11:32:41Z</dcterms:modified>
  <cp:revision>71</cp:revision>
  <dc:subject/>
  <dc:title>Diseñando para la Web (#1)</dc:title>
</cp:coreProperties>
</file>