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457-D59D-49A6-A1C3-FABC1589FD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1DF-39BA-49AF-A189-614C46AE4B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66E4-1218-449B-B978-D01C7EDDED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4E83-F178-45ED-BC7E-1DAAAE41AD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F9ED-C235-4980-81F7-A3D088E7089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3A5-008F-41AD-8457-784CE39E5DB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B5AD-BBFA-4C3D-A6F9-E9B5D562A7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A750-A11A-459B-A2F2-4A244EC5B7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F1A-FE7F-49D9-A804-671646679B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F038-91E4-4C87-A8D5-76D51CBEBD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ADA-45D9-4EC3-9736-D465E1F138D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98CE-9DAB-44B7-9F74-B0E837AF32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38F5-8C33-496A-948E-B403A4CBEE9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FDFE-071F-40AD-969C-A1C9D5145B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D492-E305-49CB-8765-77B4BD3AFE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CC71-03E3-4CCD-B9F0-0CC2D06D82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55B1-B320-4045-8C22-F4F72132B4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0B6-A678-4CAE-92D2-8C3C2EC54F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1437-A9F9-4BA2-B10C-A8748E7A1DF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CBE6-CC4B-47CB-8D68-AD6D71F965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0265-AF56-4752-8D16-3304DC1A1A7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696D-3904-4039-A132-ECEB2B7041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04C8-4975-4AFC-9847-8EB6B72D28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81FF-73D4-40C4-83A4-1B0C94DE51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D2F1-AD05-4F8E-8457-B8DFD6A0A1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9B74-BCB0-452E-85FF-D86953984F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9E6-B226-4A32-8655-F027BB4BAB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4F50-B13B-4B16-9534-4BFCA381E3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27FB-E714-4E11-8D95-647A12C793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9322-487F-43E1-8CDD-355BF568EC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DA66-44AD-43B2-A2B8-B21AA8EE4B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461-8566-46DA-860A-DF823671816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9DD9-6D55-4556-B4A0-37C10E08DA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961B-4634-4651-830D-4E47AEB853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9620-926A-476E-9B85-7AAAB34296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1FFF-3867-41A3-AAED-9D78EBF65C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7EFB-C88A-41EA-9CBB-8E1F1EEDC3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5CB9-61AB-4712-9510-10D2AA6D27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47A1-801C-41E8-BC70-5E809F51FB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E0E-49AF-4465-AFE3-E3D79F477A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C498-62F5-44FF-9FAC-4E11D703E1A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8E1F-F3C0-4CB5-93E3-17A14C7A05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5C95-A02C-49C2-B1F0-B606928367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3D7E-FE69-4439-BAEF-32D2765D30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5973-5315-4AFC-8159-08FB366430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8401-D76E-4221-84E1-8EE2FAE4A05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D8FB-B19F-4C1E-8C21-2788D63D05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DD2-6C3F-4BFB-9C2A-92C8B2E4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BEF-F2B5-4518-BF03-41350690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EF8-7409-4CC9-A43B-7598FDE4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FB0-1912-40A1-A46D-37BB0288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E6C4-324F-4332-B1F4-0CD55AE7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686A-DDDF-49F7-873E-42DE058D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2FC7-F368-4E6E-A0DA-7CCA7878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A509-19E7-4F62-8388-76364F4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36C0-5FA7-4A62-8981-80A50926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51F-830D-453B-93DC-73F8DF5C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3BC-EBD8-42CF-9931-9E9C39F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091-2292-4336-8F4F-D00DF0A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2849-F403-4B99-8182-55619280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563-5474-402B-9C03-39AC351D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32F-6A80-4AC0-9242-6633F9B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4B5-5542-4B74-B8AE-2CF31F3E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969C-3E03-49CB-8ABB-BBCC57F9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7F3-4D11-4C8E-AC70-E37A233A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EAF-CDDC-4B2A-B19A-D2895805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384-37EC-485D-BC38-0ABBBB9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74F-F41D-4530-ADCB-C730221F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F9B-3EE5-4D50-91A2-C98A660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3C5-92FD-4F5E-AE54-F59F6877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707-F7BA-40AF-92ED-7B716FF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6CD5-EC61-4656-A527-D99EEB4EB7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74C-F986-4524-B5AC-62C82D2C8C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484280"/>
          <a:ext cx="740088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484280"/>
                    <a:ext cx="74008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6165720"/>
            <a:ext cx="91440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48428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48428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73408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484280"/>
          <a:ext cx="632268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484280"/>
                    <a:ext cx="632268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610092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576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6219720"/>
            <a:ext cx="8318520" cy="58068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98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876"/>
              </a:spcBef>
              <a:spcAft>
                <a:spcPts val="624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6219720"/>
            <a:ext cx="83440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53784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557000"/>
            <a:ext cx="8112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6400" y="5730840"/>
            <a:ext cx="829332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6464160"/>
            <a:ext cx="53848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484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484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6093000"/>
            <a:ext cx="7912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48428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48428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609768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48428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48428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6-10-24T11:32:41Z</dcterms:modified>
  <cp:revision>71</cp:revision>
  <dc:subject/>
  <dc:title>Diseñando para la Web (#1)</dc:title>
</cp:coreProperties>
</file>