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E6D0-21C9-4D0B-B4C8-0E44067418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079-D05B-449E-B058-9E06B85971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B0D3-07AF-4187-95F2-77993D7263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7255-D083-42B0-AA05-C1F2A6E261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0E0-F281-4710-94A4-9F52A2A7BD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540-FA45-4777-A3D2-86F40E4D01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30E6-3AB4-45D5-9659-109AF73AEB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3713-6BB7-440A-914E-0BAFF94E09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932E-2784-4329-BA32-027F86032A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CB4-5F2F-47C4-A5B6-B7708D8CEF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20B-8662-45EB-B2D2-37B8B419C9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2C93-285D-40C7-B2FE-CF4F4513BE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0F6B-7400-4C0D-892A-2F9F640272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3B85-F5DE-4E5B-B4E6-39273CFF04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E42E-A928-4DBE-B4A3-CF715596B1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285-2D24-40D6-9AAB-744827B811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C306-6639-4496-B248-7BF4AFA473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55D-09B4-4BC0-9ACF-D70A9B49BB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56C6-9CBE-48DC-9E50-E4999D5E7F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E24-EF0D-4BE0-B267-574E956348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F3E1-92E2-4D2B-9D25-A44C41C076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975-B29B-4C70-87B3-F0F11C90D7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57C-4650-4B93-887C-C5C68F8D4A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7A81-3794-49FE-8B12-9D80B1B70F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666F-1BDE-4107-93B7-BA5EA29890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C695-F98A-4F30-BEDB-746D2CEF4B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80B3-E5C2-40BD-A3C3-D6805BA564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A91-009E-4082-9A82-C2ED4F8BE6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CC2F-77EC-4389-9538-673E1BDDEB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FB7-1398-400D-ABE6-653757A815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A9A3-BEB5-4DDA-9BCE-1CF54518BA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D112-5793-4FC5-BC51-87FD9CB683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563-5CBC-4F75-9566-EB2F2A8EE2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AD7C-14E9-4EDA-9CC5-F059737724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A7B-F6E4-4633-A95B-EBB8503384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7E9-665A-4E23-908A-D4CED0E60A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8E1-F319-4681-A74F-245405B05D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EE9-155B-43EA-B8AA-AA9D27D6D0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B36-A821-4F95-AE0D-9649EC9F29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2F1-7C2B-4B2A-BA90-DDA1643C8F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3EE-33ED-43A9-A8B1-3C8E4C4DE0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E470-6A55-4102-B25E-C17D9B48CE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B6B-93F8-41F4-8F70-868482588E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F54-F9C9-47BF-8195-EABF9567B2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6A4-F628-4522-A7FB-0758854973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D09C-35D2-412A-B298-09CA7E7968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3F38-FF4D-40B4-BDB0-A456AD6E07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FBF-A814-40AF-97CE-6D6249EC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170-6C08-4798-B59C-A6B38F8B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3C4-C9EC-4515-9796-B3CF0EA1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E57-A936-4E3F-8C78-56180773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386-F111-4B75-8563-44BC4FDE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BE4-D40A-4BE5-8885-076E321E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04F0-9FCC-44B1-82A6-32C2580E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7953-2CCB-4BD2-B81B-EACF9BE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FA8A-98FB-4CE8-83A1-12A0446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97B2-8B8A-4BCB-8F6D-A09D6D88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17BA-34B1-4099-9A29-0D698D0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9F8-C46F-4D30-9E80-2B036880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92B-0AEC-491C-8714-4C6AB62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71D8-0591-42BB-98F0-DB95EC3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6685-D4BE-418B-A14D-64E4F74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123D-C63E-494D-BE5D-B84D4AB7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B45-DC9F-4E7C-AD08-32DE56EA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45E-CA43-411B-933E-367ECFFE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0A4-65DD-4FF6-A525-CB1D396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388-973C-4F55-92FA-EC3F7BC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510-C347-4B9D-A0AF-2C3F8D6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11B-AF88-43FA-8AAB-1CCF14D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C75-C64C-4FF6-8B22-7D2DFB3A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CB8-5062-4807-A04A-6F62750A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90E3-2C18-4555-A85C-8D2A07B453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5649-314E-4FC2-91A7-7BE4030546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484280"/>
          <a:ext cx="740088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484280"/>
                    <a:ext cx="74008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6165720"/>
            <a:ext cx="91440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48428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48428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73408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484280"/>
          <a:ext cx="632268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484280"/>
                    <a:ext cx="632268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610092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576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6219720"/>
            <a:ext cx="8318520" cy="58068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98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876"/>
              </a:spcBef>
              <a:spcAft>
                <a:spcPts val="624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6219720"/>
            <a:ext cx="83440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53784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557000"/>
            <a:ext cx="8112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6400" y="5730840"/>
            <a:ext cx="829332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6464160"/>
            <a:ext cx="53848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484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484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6093000"/>
            <a:ext cx="7912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48428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48428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609768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48428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48428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6-10-24T11:32:41Z</dcterms:modified>
  <cp:revision>71</cp:revision>
  <dc:subject/>
  <dc:title>Diseñando para la Web (#1)</dc:title>
</cp:coreProperties>
</file>