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0F595-9CE5-4379-A75E-8C1430F306FC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CE0F6-4767-4A11-BD91-ABCFDDD6CE48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A47A9-338B-4339-AB71-E6157E4959C9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32F0D-8EA7-40FA-9960-C5192C2810B0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A80C0-8A04-4BB8-9237-15D963789C01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F6172-6712-4F36-9CCF-CDDC0D0D42B4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B529B-F145-41CC-9BD5-503B3B5589D0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7C101-61B6-4450-ADF9-A984E6803AF8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7D78B-96CD-4E0F-B772-917A490DF85E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73A9F-600B-4E86-AC73-786872CBB920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494E8-D384-4011-A54B-35F4766F3CFD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B39DE-FF3A-45AD-99C5-DC7EE3D07E61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318F4-0DE2-4A64-AE1E-2393117A13D4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C3E63-0672-48AA-A18E-B1A1D6460A79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0EA26-C94C-4970-A06B-0E34F233A9DD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01AC7-0B2D-4CA5-BB3A-DADAB1225D04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CB969-EA24-4D3A-B4A6-D006C6D61C31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23CCE-D314-4DE4-9B4C-8EAF7D315508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C801D-90FB-4AAC-94F7-62ED9573C319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AEC39-4786-4F10-BF96-9A39A279B053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5CDB3-F11F-4A80-B05C-9458701F4453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BAC29-B1A5-4C5C-984C-0CBD678152D1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3481D-9266-4C0D-AD97-13D2D79CFDC1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13079-1872-44F7-BBFB-53E214D35808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BF744-D4CE-4DA2-8EA0-686F35C3D04C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756B1-6B3F-45D4-B754-F91632BE53F6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CC53F-A527-4CCD-ABD7-8266B652C35A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14432-78E5-45CC-BE3B-8043BF64B4B8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9DD68-ACFA-4BA0-8F00-65FC31E2C7C5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08CB6-8D90-4534-854B-58D98FD708D6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89EEF-D231-42B7-8E54-F89F018960CE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14C30-EAD2-4B33-BEB6-3841EED6E8D6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FB424-59EB-48E6-958E-BA18958B817A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270BF-DDA9-4C65-A963-FB2535CB7002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3A7D9-941D-4B0D-8C11-7C78F70C6338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40A93-9631-4BEE-BFB8-56ECB4510CC3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75C73-7EA5-4CA3-AD07-5714EEAD87C5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12A0E-B13E-4EDF-8928-75B898E0F17A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FFEC8-0A6F-43AE-B6C0-B4505C9D2336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C0772-E5D0-4FDF-9CC8-F68283DBB7E0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F8325-73B7-4A63-9F88-97DAFF9F5BC2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63CC9-CAAE-4B6A-9BBC-401D60E3C238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6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624E7-DC44-48DF-90F4-18FE9F9D2E7B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1F31A-7E78-4FE5-97AF-277EC3D6C93B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D6A7E-76CF-4646-8F8C-CEE48DC20639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527EF-6623-41C3-B9E3-66C6BBCD5E9B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AB6F5-EAD0-41DC-B3E2-4125DD0999BE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7F5EA-DFA0-442F-88AD-E5708DE92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5B34D-53B8-4A5E-A4C0-70B3DBBF0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132AA-CCBA-4D6E-96FC-45B999190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BB86B-748D-40B4-8A58-26AF17F76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F38FB-05CC-43BB-BE59-43E621F41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CDC98-E4E3-4766-A3E2-DF046EAC6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B38A8-2D89-4D43-B610-439B0C434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0A6A1-6398-44CA-A48C-33535F757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7A769-43B5-4516-9A12-BA4EB8DA9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91317-A99E-42E5-B82F-C1AAE755F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554E0-B2BC-4341-AE28-F3313C033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986AC-6BF0-4310-B561-FA91CC0A9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4DBCC-F665-4201-B645-BAD422167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FF895-F278-417E-A91B-DFE781C12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92FFF-6D2F-4CF1-9823-7A0A891DF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294F2-58E9-4279-8FDD-AD11AA7E2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248A4-2DF6-4864-91B3-C0031DE30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CC8DD-4956-4FF9-8F49-CE3542BAA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4639B-8036-4D50-B20C-0EDF4EFF0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38F91-4BDE-4A54-A3F2-BBF65B039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C9982-6A2B-4D22-B9FC-0B0E66B0E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718FA-9D36-4EA7-8AAA-C8322AAB8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767C0-D39E-430C-B710-FAE6F7B2C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FE07D-F136-4BEC-81F1-7737FFF32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A8B44-A389-4DD1-BE21-ED7209A92334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BD35C-BAB8-4C7A-9518-C36E23DAF24E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hyperlink" Target="http://www.useit.com/alertbox/" TargetMode="External"/><Relationship Id="rId2" Type="http://schemas.openxmlformats.org/officeDocument/2006/relationships/hyperlink" Target="http://www.useit.com/alertbox/" TargetMode="External"/><Relationship Id="rId3" Type="http://schemas.openxmlformats.org/officeDocument/2006/relationships/hyperlink" Target="http://www.useit.com/alertbox/" TargetMode="External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useit.com/alertbox/9605.html" TargetMode="External"/><Relationship Id="rId3" Type="http://schemas.openxmlformats.org/officeDocument/2006/relationships/image" Target="../media/image2.png"/><Relationship Id="rId4" Type="http://schemas.openxmlformats.org/officeDocument/2006/relationships/hyperlink" Target="http://www.webpagesthatsuck.com/" TargetMode="External"/><Relationship Id="rId5" Type="http://schemas.openxmlformats.org/officeDocument/2006/relationships/hyperlink" Target="http://www.webpagesthatsuck.com/" TargetMode="External"/><Relationship Id="rId6" Type="http://schemas.openxmlformats.org/officeDocument/2006/relationships/image" Target="../media/image2.png"/><Relationship Id="rId7" Type="http://schemas.openxmlformats.org/officeDocument/2006/relationships/hyperlink" Target="http://www.dsiegel.com/tips/" TargetMode="External"/><Relationship Id="rId8" Type="http://schemas.openxmlformats.org/officeDocument/2006/relationships/hyperlink" Target="http://www.dsiegel.com/tips/" TargetMode="External"/><Relationship Id="rId9" Type="http://schemas.openxmlformats.org/officeDocument/2006/relationships/hyperlink" Target="http://www.dsiegel.com/tips/" TargetMode="External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3.xml"/><Relationship Id="rId12" Type="http://schemas.openxmlformats.org/officeDocument/2006/relationships/notesSlide" Target="../notesSlides/notesSlide5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CC51A – Ingeniería de Softwar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990720" y="3309840"/>
            <a:ext cx="7035840" cy="9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40458c"/>
                </a:solidFill>
                <a:latin typeface="Tahoma"/>
              </a:rPr>
              <a:t>Diseñando para la Web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4952880"/>
            <a:ext cx="8534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40458c"/>
                </a:solidFill>
                <a:latin typeface="Tahoma"/>
              </a:rPr>
              <a:t>Sergio Ochoa D.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395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0" y="422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00280" y="215640"/>
            <a:ext cx="797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Gobiern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1006560" y="1484280"/>
          <a:ext cx="7400880" cy="469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6560" y="1484280"/>
                    <a:ext cx="7400880" cy="469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1" name=""/>
          <p:cNvSpPr/>
          <p:nvPr/>
        </p:nvSpPr>
        <p:spPr>
          <a:xfrm>
            <a:off x="0" y="6165720"/>
            <a:ext cx="91440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40458c"/>
            </a:solidFill>
            <a:miter/>
          </a:ln>
          <a:effectLst>
            <a:outerShdw dist="107932" dir="2700000" blurRad="0" rotWithShape="0">
              <a:srgbClr val="b7c1e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Integración de los organismos gubernamentales.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Mismas ventajas que en una empresa (Intranet).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00280" y="279000"/>
            <a:ext cx="797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omunica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253" name=""/>
          <p:cNvGraphicFramePr/>
          <p:nvPr/>
        </p:nvGraphicFramePr>
        <p:xfrm>
          <a:off x="1019160" y="1484280"/>
          <a:ext cx="7378560" cy="469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19160" y="1484280"/>
                    <a:ext cx="7378560" cy="469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5" name=""/>
          <p:cNvSpPr/>
          <p:nvPr/>
        </p:nvSpPr>
        <p:spPr>
          <a:xfrm>
            <a:off x="15840" y="5734080"/>
            <a:ext cx="9128160" cy="1078200"/>
          </a:xfrm>
          <a:prstGeom prst="rect">
            <a:avLst/>
          </a:prstGeom>
          <a:solidFill>
            <a:srgbClr val="fcfdc6"/>
          </a:solidFill>
          <a:ln w="9360">
            <a:solidFill>
              <a:srgbClr val="40458c"/>
            </a:solidFill>
            <a:miter/>
          </a:ln>
          <a:effectLst>
            <a:outerShdw dist="107932" dir="2700000" blurRad="0" rotWithShape="0">
              <a:srgbClr val="b7c1e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-Radio, T.V., PushTechnologies.                   - Acceso a B.D. Históricas de las agencias de noticias 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- Almacenan y distribuyen la historia del mundo, en forma detallada.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-Información mundial al Instante (reportes del tiempo, comportamiento de los mercados, etc)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786960" y="329760"/>
            <a:ext cx="7975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Entretenimient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257" name=""/>
          <p:cNvGraphicFramePr/>
          <p:nvPr/>
        </p:nvGraphicFramePr>
        <p:xfrm>
          <a:off x="1819440" y="1484280"/>
          <a:ext cx="6322680" cy="4837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19440" y="1484280"/>
                    <a:ext cx="6322680" cy="483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9" name=""/>
          <p:cNvSpPr/>
          <p:nvPr/>
        </p:nvSpPr>
        <p:spPr>
          <a:xfrm>
            <a:off x="15840" y="6100920"/>
            <a:ext cx="912816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40458c"/>
            </a:solidFill>
            <a:miter/>
          </a:ln>
          <a:effectLst>
            <a:outerShdw dist="107932" dir="2700000" blurRad="0" rotWithShape="0">
              <a:srgbClr val="b7c1e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Acceso Instantáneo a un gran pool de Entretenimientos, sin moverse de su casa.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Los costos de acceso son menores (no hay viajes, varios pueden usar la misma entrada, etc) .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Las Web Page representan..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777600" y="1628640"/>
            <a:ext cx="812628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4600" indent="-444600">
              <a:lnSpc>
                <a:spcPct val="90000"/>
              </a:lnSpc>
              <a:spcBef>
                <a:spcPts val="1199"/>
              </a:spcBef>
              <a:spcAft>
                <a:spcPts val="1599"/>
              </a:spcAft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Vista de la Información del Usuario, sobre una pantalla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444600" indent="-444600">
              <a:lnSpc>
                <a:spcPct val="90000"/>
              </a:lnSpc>
              <a:spcBef>
                <a:spcPts val="1199"/>
              </a:spcBef>
              <a:spcAft>
                <a:spcPts val="1599"/>
              </a:spcAft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Unidad de Navegación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444600" indent="-444600">
              <a:lnSpc>
                <a:spcPct val="90000"/>
              </a:lnSpc>
              <a:spcBef>
                <a:spcPts val="1199"/>
              </a:spcBef>
              <a:spcAft>
                <a:spcPts val="1599"/>
              </a:spcAft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Dirección para obtener información a través de la Web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444600" indent="-444600">
              <a:lnSpc>
                <a:spcPct val="90000"/>
              </a:lnSpc>
              <a:spcBef>
                <a:spcPts val="1199"/>
              </a:spcBef>
              <a:spcAft>
                <a:spcPts val="1599"/>
              </a:spcAft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Repositorio de Información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444600" indent="-444600">
              <a:lnSpc>
                <a:spcPct val="90000"/>
              </a:lnSpc>
              <a:spcBef>
                <a:spcPts val="1049"/>
              </a:spcBef>
              <a:spcAft>
                <a:spcPts val="1400"/>
              </a:spcAft>
              <a:buSzPct val="1131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ágina: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es la unidad atómica que unifica a estos concepto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Importancia del Diseño en la Web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777240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400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Un buen diseño en Web permite  </a:t>
            </a:r>
            <a:r>
              <a:rPr b="1" lang="en-US" sz="2800" spc="-1" strike="noStrike">
                <a:solidFill>
                  <a:srgbClr val="40458c"/>
                </a:solidFill>
                <a:latin typeface="Tahoma"/>
              </a:rPr>
              <a:t>aumentar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1199"/>
              </a:spcBef>
              <a:spcAft>
                <a:spcPts val="119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Ventas de una Empres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1199"/>
              </a:spcBef>
              <a:spcAft>
                <a:spcPts val="119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Disponibilidad de Productos y Recurs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1199"/>
              </a:spcBef>
              <a:spcAft>
                <a:spcPts val="119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Flexibilidad en las Tarea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1199"/>
              </a:spcBef>
              <a:spcAft>
                <a:spcPts val="119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Comunicación entre las Persona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1199"/>
              </a:spcBef>
              <a:spcAft>
                <a:spcPts val="119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Velocidad de acceso a los Recurs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1199"/>
              </a:spcBef>
              <a:spcAft>
                <a:spcPts val="119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Integración con los sistemas ya existente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Importancia del Diseño en la Web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38080" y="162828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Un buen diseño en Web permite  </a:t>
            </a:r>
            <a:r>
              <a:rPr b="1" lang="en-US" sz="3200" spc="-1" strike="noStrike">
                <a:solidFill>
                  <a:srgbClr val="40458c"/>
                </a:solidFill>
                <a:latin typeface="Tahoma"/>
              </a:rPr>
              <a:t>disminuir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1576"/>
              </a:spcBef>
              <a:spcAft>
                <a:spcPts val="1400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irculación de Papel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1576"/>
              </a:spcBef>
              <a:spcAft>
                <a:spcPts val="1400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ostos en Comunicacione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1576"/>
              </a:spcBef>
              <a:spcAft>
                <a:spcPts val="1400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ostos de Personal (uso de agentes)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1576"/>
              </a:spcBef>
              <a:spcAft>
                <a:spcPts val="1400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as Restricciones de Uso (sólo se necesita un browser)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1576"/>
              </a:spcBef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istas para la Usabilidad de las Páginas Web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1557360"/>
            <a:ext cx="77724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spcAft>
                <a:spcPts val="876"/>
              </a:spcAft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Revisar el Título de las Página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spcAft>
                <a:spcPts val="876"/>
              </a:spcAft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Revisar el Tamaño y el Color del Text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spcAft>
                <a:spcPts val="876"/>
              </a:spcAft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Revisar la Estructuración de las Página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spcAft>
                <a:spcPts val="876"/>
              </a:spcAft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Revisar las Suposiciones hecha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spcAft>
                <a:spcPts val="876"/>
              </a:spcAft>
              <a:buSzPct val="12926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Revisar la Retroalimentación que brinda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spcAft>
                <a:spcPts val="876"/>
              </a:spcAft>
              <a:buSzPct val="12926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Revisar el Formato y Distribución de las Imágene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spcAft>
                <a:spcPts val="876"/>
              </a:spcAft>
              <a:buSzPct val="12926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Mantener la Coherencia en todas las Página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8" name=""/>
          <p:cNvSpPr/>
          <p:nvPr/>
        </p:nvSpPr>
        <p:spPr>
          <a:xfrm>
            <a:off x="533520" y="6219720"/>
            <a:ext cx="8318520" cy="580680"/>
          </a:xfrm>
          <a:prstGeom prst="rect">
            <a:avLst/>
          </a:prstGeom>
          <a:solidFill>
            <a:srgbClr val="fcfdc6"/>
          </a:solidFill>
          <a:ln w="12600">
            <a:solidFill>
              <a:srgbClr val="40458c"/>
            </a:solidFill>
            <a:miter/>
          </a:ln>
          <a:effectLst>
            <a:outerShdw dist="107932" dir="2700000" blurRad="0" rotWithShape="0">
              <a:srgbClr val="b7c1e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ipulando estas variables, mis páginas van a ser las amigable para el usuario, más usables e intuitiva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Títulos en Páginas Web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837720" y="1599840"/>
            <a:ext cx="79851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1225"/>
              </a:spcBef>
              <a:spcAft>
                <a:spcPts val="876"/>
              </a:spcAft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l título debe ser representativo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-271440">
              <a:spcBef>
                <a:spcPts val="1049"/>
              </a:spcBef>
              <a:spcAft>
                <a:spcPts val="75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para el usuario, y arañas (search engines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spcBef>
                <a:spcPts val="1225"/>
              </a:spcBef>
              <a:spcAft>
                <a:spcPts val="876"/>
              </a:spcAft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Debe tener suficiente informació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-271440">
              <a:spcBef>
                <a:spcPts val="1049"/>
              </a:spcBef>
              <a:spcAft>
                <a:spcPts val="75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para guíar la navegación del usuario en forma precis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spcBef>
                <a:spcPts val="1225"/>
              </a:spcBef>
              <a:spcAft>
                <a:spcPts val="876"/>
              </a:spcAft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Títulos largos cansan a los usuario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-271440">
              <a:spcBef>
                <a:spcPts val="1049"/>
              </a:spcBef>
              <a:spcAft>
                <a:spcPts val="75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usar información abreviada y representativa, por ej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085760" indent="-217080">
              <a:spcBef>
                <a:spcPts val="876"/>
              </a:spcBef>
              <a:spcAft>
                <a:spcPts val="624"/>
              </a:spcAft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My Company - Home page” vs. “Welcome to My ...”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spcBef>
                <a:spcPts val="1225"/>
              </a:spcBef>
              <a:spcAft>
                <a:spcPts val="876"/>
              </a:spcAft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áginas diferentes -&gt; títulos diferent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Tamaño del Texto y Color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1309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1049"/>
              </a:spcBef>
              <a:spcAft>
                <a:spcPts val="700"/>
              </a:spcAft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No use la combinación </a:t>
            </a:r>
            <a:r>
              <a:rPr b="0" lang="en-US" sz="2800" spc="-1" strike="noStrike">
                <a:solidFill>
                  <a:srgbClr val="0066ff"/>
                </a:solidFill>
                <a:latin typeface="Tahoma"/>
              </a:rPr>
              <a:t>Azul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/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Roj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901"/>
              </a:spcBef>
              <a:spcAft>
                <a:spcPts val="60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Cansa la vist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1049"/>
              </a:spcBef>
              <a:spcAft>
                <a:spcPts val="700"/>
              </a:spcAft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No use muchas combinaciones “Tamaño / Font” distinta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901"/>
              </a:spcBef>
              <a:spcAft>
                <a:spcPts val="60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ceptable en frases pequeña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901"/>
              </a:spcBef>
              <a:spcAft>
                <a:spcPts val="60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No es recomendable en párrafos o unidades de texto mayore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751"/>
              </a:spcBef>
              <a:spcAft>
                <a:spcPts val="499"/>
              </a:spcAft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porque desorienta al usuario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751"/>
              </a:spcBef>
              <a:spcAft>
                <a:spcPts val="499"/>
              </a:spcAft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cansa la vista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751"/>
              </a:spcBef>
              <a:spcAft>
                <a:spcPts val="499"/>
              </a:spcAft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no queda claro qué se intenta comunicar con ese contraste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3" name=""/>
          <p:cNvSpPr/>
          <p:nvPr/>
        </p:nvSpPr>
        <p:spPr>
          <a:xfrm>
            <a:off x="507960" y="6219720"/>
            <a:ext cx="8344080" cy="337320"/>
          </a:xfrm>
          <a:prstGeom prst="rect">
            <a:avLst/>
          </a:prstGeom>
          <a:solidFill>
            <a:srgbClr val="fcfdc6"/>
          </a:solidFill>
          <a:ln w="12600">
            <a:solidFill>
              <a:srgbClr val="40458c"/>
            </a:solidFill>
            <a:miter/>
          </a:ln>
          <a:effectLst>
            <a:outerShdw dist="107932" dir="2700000" blurRad="0" rotWithShape="0">
              <a:srgbClr val="b7c1e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No porque haya muchos recursos (tamaño, estilo y color) disponibles, debo usar a todos.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Mejorar los Preview (Thumbnails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761760" y="1523520"/>
            <a:ext cx="7985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Thumbnails (previews de imágenes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muestran el preview de una imagen (generalmente grande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chicar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recortar o escalar no funcionan bien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3"/>
          <a:stretch/>
        </p:blipFill>
        <p:spPr>
          <a:xfrm>
            <a:off x="993600" y="4014720"/>
            <a:ext cx="6384960" cy="26193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Estructura de la Presenta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777960" y="1828800"/>
            <a:ext cx="81770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Introducción a Internet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La Web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Importancia del Diseño en la Web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istas para mejorar la Usabilidad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Algunas Herramientas: Animaciones, Frames, y Links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Los 10 errores típicos del diseño para Web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440" y="198000"/>
            <a:ext cx="8134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Resaltar lo Relevante Reduciendo las Imágen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818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spcAft>
                <a:spcPts val="799"/>
              </a:spcAft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rimero recortar y luego escala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spcAft>
                <a:spcPts val="700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j.: para lograr una imagen que es el 10% del original, debe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spcAft>
                <a:spcPts val="601"/>
              </a:spcAft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recortar el 32% (más relevante) de la imagen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spcAft>
                <a:spcPts val="601"/>
              </a:spcAft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Luego escalar un 32% (reducir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spcAft>
                <a:spcPts val="601"/>
              </a:spcAft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.32 * .32 = .1 del origina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spcAft>
                <a:spcPts val="799"/>
              </a:spcAft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Balance entre detalle y contexto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3"/>
          <a:stretch/>
        </p:blipFill>
        <p:spPr>
          <a:xfrm>
            <a:off x="2036880" y="5378400"/>
            <a:ext cx="4570200" cy="13636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No Haga Suposicion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50880" y="1557000"/>
            <a:ext cx="811224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Browse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as personas usan diferentes programas como browsers, y también diferentes versiones de ello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Netscape, Explorer, Lynx, Opera, Mozilla, etc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amaño de las Ventana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No todos los usuarios usan el tamaño por defecto que tienen de ventanas (por gusto o por restricciones de su monitor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Escritura en la Web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755640" y="1628640"/>
            <a:ext cx="7772400" cy="50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Vaya al grano, con los texto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25% más lenta es la lectura en una pantalla de computadora, respecto de un texto impres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El palabrerío cansa al usuari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scriba pensando en Escaneabilidad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Las personas escanean la información de las páginas web, y sólo leen lo que les interes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Estructure la información con 2 o 3 niveles de título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use encabezados representativos y resaltado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Escritura en la Web (cont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09480" y="2133720"/>
            <a:ext cx="8175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Use hipertexto para estructurar la información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1400"/>
              </a:spcBef>
              <a:spcAft>
                <a:spcPts val="876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arta la información en módulos coherentes sobre tópicos relacionado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1400"/>
              </a:spcBef>
              <a:spcAft>
                <a:spcPts val="876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use el estilo de pirámide invertida (muestre primero las conclusiones)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istas General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Retroalimentación (Feedback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i un link apunta a un objeto muy grande (imagen, video, o pág. HTML), indique en el link el tamaño del mismo (entre paréntesis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Tamaño de las pista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ponga el tamaño de la imagen en el tag IMG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Mostrar la estructura de la página, antes de que lleguen todas las imágene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La </a:t>
            </a: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Coherencia: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 la Gran Ausent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   </a:t>
            </a: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La Coherencia en las páginas de un site permite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navegación intuitiva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mostrar al site como un tod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integrar el contenido y las herramientas. presentada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identificar las páginas de una empresa sin necesidad de leer el contenido (publicidad)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publicitar “un estilo”, al interior de la empresa (en el caso de intranets)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711360" y="24084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La </a:t>
            </a: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Coherencia: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 la Gran Ausent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291" name=""/>
          <p:cNvGraphicFramePr/>
          <p:nvPr/>
        </p:nvGraphicFramePr>
        <p:xfrm>
          <a:off x="1795320" y="1612800"/>
          <a:ext cx="5694480" cy="494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5320" y="1612800"/>
                    <a:ext cx="5694480" cy="494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52280" y="29160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La </a:t>
            </a:r>
            <a:r>
              <a:rPr b="1" lang="es-ES" sz="4400" spc="-1" strike="noStrike">
                <a:solidFill>
                  <a:srgbClr val="660066"/>
                </a:solidFill>
                <a:latin typeface="Tahoma"/>
              </a:rPr>
              <a:t>Coherencia:</a:t>
            </a: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 Gran Ausente (cont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7837560" cy="33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Soluciones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Style Sheet (Hojas de Estilo): Disponibles a partir de HTML 3.2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….. CSS (Cascading Style Sheets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Potenciado en XML 1.0….. XSL (eXtensible Stylesheet Language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Resultados Empírico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777600" y="1828800"/>
            <a:ext cx="821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studio a cerca de la Usabilidad: se estudiaron los 9 mejores web site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incluyendo CNN, Disney, HP, Fidelity, etc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o realizaron empresas independiente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Datos obtenido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Docenas de horas de observación de usuari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e tuvo en cuenta la composición de los sites, a la hora de realizar los análisi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Resultados Empíricos (cont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818640" y="1697040"/>
            <a:ext cx="798516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ingún site fue muy bueno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osas mala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as home pages dan poca información acerca del contenido total del site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Las páginas “legibles” fueron menos efectiva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as personas no leen, ojean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as oraciones bien formadas pueden ocultar información clave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Interne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914040" y="1660320"/>
            <a:ext cx="7899480" cy="51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La red Internet o super-red, interconecta a la mayor parte del planeta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Millones de usuarios (y clientes potenciales) acceden diariamente a ella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... cada vez se hace más necesaria ...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Internet plantea un nuevo escenario para el desarrollo de aplicacion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3886200" y="4114800"/>
          <a:ext cx="2362320" cy="145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86200" y="4114800"/>
                    <a:ext cx="2362320" cy="145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6" name=""/>
          <p:cNvSpPr/>
          <p:nvPr/>
        </p:nvSpPr>
        <p:spPr>
          <a:xfrm>
            <a:off x="536400" y="5730840"/>
            <a:ext cx="8293320" cy="1078200"/>
          </a:xfrm>
          <a:prstGeom prst="rect">
            <a:avLst/>
          </a:prstGeom>
          <a:solidFill>
            <a:srgbClr val="fcfdc6"/>
          </a:solidFill>
          <a:ln w="12600">
            <a:solidFill>
              <a:srgbClr val="40458c"/>
            </a:solidFill>
            <a:miter/>
          </a:ln>
          <a:effectLst>
            <a:outerShdw dist="107932" dir="2700000" blurRad="0" rotWithShape="0">
              <a:srgbClr val="b7c1e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Comunicación mundial a bajo costo                  - Millones de colaboradores, clientes, etc.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Repositorio mundial de información                  - Acceso a servicios en lugares remoto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Mayores capacidades de exportar o importar   - Globalización del mundo .........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Resultados Empíricos (cont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777960" y="1828800"/>
            <a:ext cx="8197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l tiempo de “download” no fue un tema importante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no se detectó correlación entre demora y frustració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l diseño gráfico tuvo poco efect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a navegación debe estar integrada al contenid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i no, el usuario encuentra al site “poco usable”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eparar el contenido del diseño (estructura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Resultados Empíricos (cont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Violación del “protocolo de ventas”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ituación estándar “humano - humano”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El usuario da información personal, sólo si compra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ituación estándar basada en Web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El usuario tiene que dar la información personal primero, si quiere comprar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a violación de este protocolo, muchas veces auyenta a los posibles cliente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Algunas Herramientas..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El diseño de páginas web usables, no pasa por utilizar un cierto editor o herramienta...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... Pasa por hacer un uso adecuado de los recursos disponibles, como por ejemplo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Frame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Link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Imágenes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Animacione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etc..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nima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761760" y="1600200"/>
            <a:ext cx="814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on buenas para llamar la atención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pero no deben ser continuas (usar estados rotativos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la velocidad de animación debe ser baj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Usuarios Fastidiados.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Las animaciones hacen más difícil la lectur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Distraen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Útiles para distribuir información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Muy usadas en páginas comerciale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Fram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1919160" y="1865160"/>
            <a:ext cx="5327640" cy="38354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Fram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10" name="" descr=""/>
          <p:cNvPicPr/>
          <p:nvPr/>
        </p:nvPicPr>
        <p:blipFill>
          <a:blip r:embed="rId1"/>
          <a:stretch/>
        </p:blipFill>
        <p:spPr>
          <a:xfrm>
            <a:off x="1965240" y="1832040"/>
            <a:ext cx="5276880" cy="44514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Resultados Empíricos (cont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ram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No son malos, pero...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Mantenga el esquema de frames en todas las página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No abuse de los frame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nalice la necesidad o no de las barras de scroll, para cada frame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Link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80773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l usuario no le gustan los links corto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Ej.: “If you click on </a:t>
            </a:r>
            <a:r>
              <a:rPr b="0" lang="en-US" sz="2400" spc="-1" strike="noStrike" u="sng">
                <a:solidFill>
                  <a:srgbClr val="40458c"/>
                </a:solidFill>
                <a:uFillTx/>
                <a:latin typeface="Tahoma"/>
              </a:rPr>
              <a:t>Disneyland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, will you get a map of the park? Ticket Information, etc?”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os links largos atraen al usuario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Ej.: “</a:t>
            </a:r>
            <a:r>
              <a:rPr b="0" lang="en-US" sz="2400" spc="-1" strike="noStrike" u="sng">
                <a:solidFill>
                  <a:srgbClr val="40458c"/>
                </a:solidFill>
                <a:uFillTx/>
                <a:latin typeface="Tahoma"/>
              </a:rPr>
              <a:t>How to Read the Pricing and Rating Listings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”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  </a:t>
            </a:r>
            <a:r>
              <a:rPr b="0" lang="en-US" sz="2400" spc="-1" strike="noStrike" u="sng">
                <a:solidFill>
                  <a:srgbClr val="40458c"/>
                </a:solidFill>
                <a:uFillTx/>
                <a:latin typeface="Tahoma"/>
              </a:rPr>
              <a:t>Pricing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(How to Read Pricing &amp; Rating Listings)”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No usar links embebidos en párrafo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Hacen más difícil la búsqueda de informació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Genera una sensación de “información incompleta”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Links (cont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Links dentro de las página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l scroll de las páginas puede ocultar línks útiles para el usuari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Haga páginas cortas para evitar lo anterior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Los links circulares causan confusión al usuario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Buenos Link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1654200" y="1666800"/>
            <a:ext cx="5759280" cy="43372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plicaciones Típicas de Interne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525400" y="1547280"/>
            <a:ext cx="5064120" cy="471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E-mai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TP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elne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ew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Otros...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ero fundamentalmente:  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                “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La WEB”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Los 10 Errores Típicos en Diseño para Web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1328400" y="2919240"/>
            <a:ext cx="6840360" cy="20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de Nielsen: “Heuristic Evaluation”.               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   </a:t>
            </a:r>
            <a:r>
              <a:rPr b="0" lang="en-US" sz="2400" spc="-1" strike="noStrike" u="sng">
                <a:solidFill>
                  <a:srgbClr val="6f89f7"/>
                </a:solidFill>
                <a:uFillTx/>
                <a:latin typeface="Tahoma"/>
                <a:hlinkClick r:id="rId1"/>
              </a:rPr>
              <a:t>http://</a:t>
            </a:r>
            <a:r>
              <a:rPr b="0" lang="en-US" sz="2400" spc="-1" strike="noStrike" u="sng">
                <a:solidFill>
                  <a:srgbClr val="6f89f7"/>
                </a:solidFill>
                <a:uFillTx/>
                <a:latin typeface="Tahoma"/>
                <a:hlinkClick r:id="rId2"/>
              </a:rPr>
              <a:t>www.useit.com/alertbox</a:t>
            </a:r>
            <a:r>
              <a:rPr b="0" lang="en-US" sz="2400" spc="-1" strike="noStrike" u="sng">
                <a:solidFill>
                  <a:srgbClr val="6f89f7"/>
                </a:solidFill>
                <a:uFillTx/>
                <a:latin typeface="Tahoma"/>
                <a:hlinkClick r:id="rId3"/>
              </a:rPr>
              <a:t>/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82400" y="240840"/>
            <a:ext cx="84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Los 10 Errores Típicos del Diseño para Web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904760" y="1828440"/>
            <a:ext cx="66294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10. Grandes Tiempos de Descarga (download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9. Información Desactualizad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8. Colores y Consistenci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7. Navegación Inadecuada (no hay diseño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6. Páginas Demasiado Grande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5. Páginas Huérfana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4. URLs Complejo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3. Abuso de Animacione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2. Mecanismos para Atracción de Usuari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1. Uso Inapropiado de Frame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10. Grandes Tiempos de Descarga (download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5345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a regla de los 10 segundo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iempo máximo de espera antes de que el usuario comience a perder interés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Es un factor humano muy estudiado.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Hasta 15 segundos son aceptables en la Web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Las personas se acostumbran a soportar…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…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pero sólo en páginas importante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as redes han mejorado su velocidad, pero también la cantidad de usuarios se ha incrementad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l peso de las páginas web no se ha reducid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9. Información Desactualizad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a Web es como un gran jardín, dónde usted es el jardinero.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hay que arrancar la maleza y dejar las flores”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a mayoría de las personas crean contenidos, pero no los mantienen actualizados.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l volumen de basura en la Web crece más rápidamente que el de la información útil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i un link es aún relevante, manténgalo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En otro caso, quítel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8. Link con Colores no Estándar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80773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inks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Links a páginas no revisadas están en </a:t>
            </a:r>
            <a:r>
              <a:rPr b="0" lang="en-US" sz="2400" spc="-1" strike="noStrike">
                <a:solidFill>
                  <a:srgbClr val="0066ff"/>
                </a:solidFill>
                <a:latin typeface="Tahoma"/>
              </a:rPr>
              <a:t>Azul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Links a páginas revisadas están en </a:t>
            </a:r>
            <a:r>
              <a:rPr b="0" lang="en-US" sz="2400" spc="-1" strike="noStrike">
                <a:solidFill>
                  <a:srgbClr val="cc00ff"/>
                </a:solidFill>
                <a:latin typeface="Tahoma"/>
              </a:rPr>
              <a:t>púrpura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/</a:t>
            </a:r>
            <a:r>
              <a:rPr b="0" lang="en-US" sz="2400" spc="-1" strike="noStrike">
                <a:solidFill>
                  <a:srgbClr val="cc0000"/>
                </a:solidFill>
                <a:latin typeface="Tahoma"/>
              </a:rPr>
              <a:t>roj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No cambie estos color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es una de las pocas ayudas para la navegación, que funcionan en casi todos los browser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a consistencia es importante para el Usuario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No subraye objetos con rojo/azul/púrpura, pueden confundirse con un link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838080" y="3429000"/>
            <a:ext cx="7540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No muestre cosas que parecen botones, a menos que efectivamente sea un botón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onsistenci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31" name="" descr=""/>
          <p:cNvPicPr/>
          <p:nvPr/>
        </p:nvPicPr>
        <p:blipFill>
          <a:blip r:embed="rId1"/>
          <a:stretch/>
        </p:blipFill>
        <p:spPr>
          <a:xfrm>
            <a:off x="2944800" y="1841400"/>
            <a:ext cx="3240000" cy="1198800"/>
          </a:xfrm>
          <a:prstGeom prst="rect">
            <a:avLst/>
          </a:prstGeom>
          <a:ln w="0">
            <a:noFill/>
          </a:ln>
        </p:spPr>
      </p:pic>
      <p:grpSp>
        <p:nvGrpSpPr>
          <p:cNvPr id="332" name=""/>
          <p:cNvGrpSpPr/>
          <p:nvPr/>
        </p:nvGrpSpPr>
        <p:grpSpPr>
          <a:xfrm>
            <a:off x="2822400" y="631440"/>
            <a:ext cx="4810320" cy="3386520"/>
            <a:chOff x="2822400" y="631440"/>
            <a:chExt cx="4810320" cy="3386520"/>
          </a:xfrm>
        </p:grpSpPr>
        <p:grpSp>
          <p:nvGrpSpPr>
            <p:cNvPr id="333" name=""/>
            <p:cNvGrpSpPr/>
            <p:nvPr/>
          </p:nvGrpSpPr>
          <p:grpSpPr>
            <a:xfrm>
              <a:off x="2822400" y="631440"/>
              <a:ext cx="3564720" cy="3386520"/>
              <a:chOff x="2822400" y="631440"/>
              <a:chExt cx="3564720" cy="3386520"/>
            </a:xfrm>
          </p:grpSpPr>
          <p:sp>
            <p:nvSpPr>
              <p:cNvPr id="334" name=""/>
              <p:cNvSpPr/>
              <p:nvPr/>
            </p:nvSpPr>
            <p:spPr>
              <a:xfrm>
                <a:off x="2886120" y="1657440"/>
                <a:ext cx="3403440" cy="1522440"/>
              </a:xfrm>
              <a:custGeom>
                <a:avLst/>
                <a:gdLst/>
                <a:ahLst/>
                <a:rect l="l" t="t" r="r" b="b"/>
                <a:pathLst>
                  <a:path w="1888" h="851">
                    <a:moveTo>
                      <a:pt x="0" y="0"/>
                    </a:moveTo>
                    <a:cubicBezTo>
                      <a:pt x="61" y="102"/>
                      <a:pt x="251" y="123"/>
                      <a:pt x="345" y="153"/>
                    </a:cubicBezTo>
                    <a:cubicBezTo>
                      <a:pt x="531" y="211"/>
                      <a:pt x="721" y="260"/>
                      <a:pt x="909" y="313"/>
                    </a:cubicBezTo>
                    <a:cubicBezTo>
                      <a:pt x="973" y="331"/>
                      <a:pt x="1042" y="334"/>
                      <a:pt x="1101" y="364"/>
                    </a:cubicBezTo>
                    <a:cubicBezTo>
                      <a:pt x="1186" y="408"/>
                      <a:pt x="1263" y="427"/>
                      <a:pt x="1357" y="448"/>
                    </a:cubicBezTo>
                    <a:cubicBezTo>
                      <a:pt x="1413" y="483"/>
                      <a:pt x="1469" y="518"/>
                      <a:pt x="1523" y="556"/>
                    </a:cubicBezTo>
                    <a:cubicBezTo>
                      <a:pt x="1533" y="563"/>
                      <a:pt x="1545" y="568"/>
                      <a:pt x="1555" y="576"/>
                    </a:cubicBezTo>
                    <a:cubicBezTo>
                      <a:pt x="1569" y="587"/>
                      <a:pt x="1593" y="614"/>
                      <a:pt x="1593" y="614"/>
                    </a:cubicBezTo>
                    <a:cubicBezTo>
                      <a:pt x="1626" y="704"/>
                      <a:pt x="1694" y="751"/>
                      <a:pt x="1773" y="800"/>
                    </a:cubicBezTo>
                    <a:cubicBezTo>
                      <a:pt x="1797" y="815"/>
                      <a:pt x="1822" y="830"/>
                      <a:pt x="1849" y="838"/>
                    </a:cubicBezTo>
                    <a:cubicBezTo>
                      <a:pt x="1862" y="842"/>
                      <a:pt x="1888" y="851"/>
                      <a:pt x="1888" y="851"/>
                    </a:cubicBezTo>
                  </a:path>
                </a:pathLst>
              </a:custGeom>
              <a:noFill/>
              <a:ln w="57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 rot="8330400">
                <a:off x="2902680" y="1563480"/>
                <a:ext cx="3403800" cy="1522440"/>
              </a:xfrm>
              <a:custGeom>
                <a:avLst/>
                <a:gdLst/>
                <a:ahLst/>
                <a:rect l="l" t="t" r="r" b="b"/>
                <a:pathLst>
                  <a:path w="1888" h="851">
                    <a:moveTo>
                      <a:pt x="0" y="0"/>
                    </a:moveTo>
                    <a:cubicBezTo>
                      <a:pt x="61" y="102"/>
                      <a:pt x="251" y="123"/>
                      <a:pt x="345" y="153"/>
                    </a:cubicBezTo>
                    <a:cubicBezTo>
                      <a:pt x="531" y="211"/>
                      <a:pt x="721" y="260"/>
                      <a:pt x="909" y="313"/>
                    </a:cubicBezTo>
                    <a:cubicBezTo>
                      <a:pt x="973" y="331"/>
                      <a:pt x="1042" y="334"/>
                      <a:pt x="1101" y="364"/>
                    </a:cubicBezTo>
                    <a:cubicBezTo>
                      <a:pt x="1186" y="408"/>
                      <a:pt x="1263" y="427"/>
                      <a:pt x="1357" y="448"/>
                    </a:cubicBezTo>
                    <a:cubicBezTo>
                      <a:pt x="1413" y="483"/>
                      <a:pt x="1469" y="518"/>
                      <a:pt x="1523" y="556"/>
                    </a:cubicBezTo>
                    <a:cubicBezTo>
                      <a:pt x="1533" y="563"/>
                      <a:pt x="1545" y="568"/>
                      <a:pt x="1555" y="576"/>
                    </a:cubicBezTo>
                    <a:cubicBezTo>
                      <a:pt x="1569" y="587"/>
                      <a:pt x="1593" y="614"/>
                      <a:pt x="1593" y="614"/>
                    </a:cubicBezTo>
                    <a:cubicBezTo>
                      <a:pt x="1626" y="704"/>
                      <a:pt x="1694" y="751"/>
                      <a:pt x="1773" y="800"/>
                    </a:cubicBezTo>
                    <a:cubicBezTo>
                      <a:pt x="1797" y="815"/>
                      <a:pt x="1822" y="830"/>
                      <a:pt x="1849" y="838"/>
                    </a:cubicBezTo>
                    <a:cubicBezTo>
                      <a:pt x="1862" y="842"/>
                      <a:pt x="1888" y="851"/>
                      <a:pt x="1888" y="851"/>
                    </a:cubicBezTo>
                  </a:path>
                </a:pathLst>
              </a:custGeom>
              <a:noFill/>
              <a:ln w="57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336" name=""/>
            <p:cNvGrpSpPr/>
            <p:nvPr/>
          </p:nvGrpSpPr>
          <p:grpSpPr>
            <a:xfrm>
              <a:off x="6391440" y="1847880"/>
              <a:ext cx="1241280" cy="520560"/>
              <a:chOff x="6391440" y="1847880"/>
              <a:chExt cx="1241280" cy="520560"/>
            </a:xfrm>
          </p:grpSpPr>
          <p:sp>
            <p:nvSpPr>
              <p:cNvPr id="337" name=""/>
              <p:cNvSpPr/>
              <p:nvPr/>
            </p:nvSpPr>
            <p:spPr>
              <a:xfrm>
                <a:off x="6708240" y="1847880"/>
                <a:ext cx="924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b2b2b2"/>
                    </a:solidFill>
                    <a:latin typeface="SigLisa"/>
                  </a:rPr>
                  <a:t>Bad!</a:t>
                </a:r>
                <a:endParaRPr b="0" lang="en-US" sz="28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flipH="1">
                <a:off x="6391440" y="2041560"/>
                <a:ext cx="272880" cy="82440"/>
              </a:xfrm>
              <a:prstGeom prst="line">
                <a:avLst/>
              </a:prstGeom>
              <a:ln w="38160">
                <a:solidFill>
                  <a:srgbClr val="b2b2b2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7. Navegación Inadecuada (no hay diseño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El usuario no conoce su Site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Tiene dificultad para encontrar información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No hay un camino claro para obtener la información (algún tipo de estructura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omunicar la estructura del Site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roveer un mapa del site (subliminal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el usuario sabrá dónde está y a dónde quiere ir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roveer alguna herramienta de búsqued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el mejor soporte para la navegación, nunca será suficiente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Qué Podría Ser Peor Que Esto?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2438280" y="1828800"/>
            <a:ext cx="4945320" cy="484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6. Páginas Demasiado Grandes (largas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ólo el 10% de los usuarios usan la barra de scroll para revisar las partes no visibles en la presentación inicial de la página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Las cosas importantes y la estructura de navegación de la página debería estar siempre en la parte más alta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Los nodos “hoja” pueden ser un poco más largo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as personas interesadas en ellos, los leerán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ero, no abuse con est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Qué Podría Estar Mal Aquí?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46" name="" descr=""/>
          <p:cNvPicPr/>
          <p:nvPr/>
        </p:nvPicPr>
        <p:blipFill>
          <a:blip r:embed="rId1"/>
          <a:stretch/>
        </p:blipFill>
        <p:spPr>
          <a:xfrm>
            <a:off x="1071720" y="2314440"/>
            <a:ext cx="7419960" cy="24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plicaciones a partir de la WEB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301480" y="1587240"/>
            <a:ext cx="4886280" cy="46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Educació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omercio Electrónico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guridad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Gestión Empresaria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Gobierno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1312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omunicació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1312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Entretenimiento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1312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etc....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. Páginas Huérfana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En todas las páginas debería indicarse el Web Site al que percenece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os usuarios podrían accederlas a través de un link extern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ada página debería tene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un link al home page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lguna indicación del lugar que ocupa, dentro de la estructura del site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4. URLs Complejo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No debe incluir direcciones (IP) de máquina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os usuarios tratan de decodificar el URL de la página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Para inferir la estructura del Web Sit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 pierde el soporte para la navegación y el sentido de la ubicación dentro del site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as URLs deberían ser legibles para las persona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Los nombres usados en cada URL deberían ser representariv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No deben incluir caracteres especiales, ni combinaciones Mayúscula/Minúcula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3. Animaciones Permanent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o use movimiento permanente en las animaciones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a captura de movimiento tiene un poder especial dentro del sistema de percepción humano, úselo adecuadamente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El usuario necesita tranquilidad para asimilar la información que ud. pretende entregarle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El &lt;BLINK&gt; es simplemente MALO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2. Mecanismos de Atracción de Usuarios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861840" y="1676520"/>
            <a:ext cx="8282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o mienta respecto a lo que ofrece y/o regala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o intente atraer a la muchedumbre, el costo asociado es muy alto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 su sistema se cae mientras consultan, los usuarios nunca regresarán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Usar Advertencias, en caso de ser necesario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or ej.: el software es de prueba, y vencerá su licencia de uso en 30 día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1. Uso de Inapropiado de Fram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4582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ueden confundir a los usuario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Rompe el modelo de página Web que tiene el usuari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as acciones del usuario pierden predictibilidad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¿quién sabe qué información aparecerá dónde, cu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a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ndo usted hace un click en un link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?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os frames deben ser a lo más tre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Deben usarse para reflejar la estructura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La estructura dada, debe respetarse en todas las páginas, en forma consistente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Uso inapropiado de Frames (cont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15960" y="1752120"/>
            <a:ext cx="82231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os motores de búsqueda tienen problemas con la información en los frame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lgunos estudios encontraron que la mayoría de los usuarios prefieren los sites sin frame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Tahoma"/>
              </a:rPr>
              <a:t>Advertencia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: diseñadores muy experimentados pueden (algunas veces) usar frames para mejorar el impacto de una página.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Pero debe usarlos tan económicamente como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a </a:t>
            </a: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posible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52280" y="29160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Conclusion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11280" y="1557000"/>
            <a:ext cx="853272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5747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Aunque hemos avanzado mucho, la construcción de sistemas para Internet aún está verde..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Fundamentalmente en: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Metodologías de apoyo al desarrollo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Herramientas de Construcción (especialmente diseño)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Madurez de las tecnologías involucradas (representación de datos, seguridad, privacidad, etc.)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747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Diseñar para la web no es fácil, pero hay que abordar este desafío lo antes posible..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... con respecto a esto, no hay alternativas..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SzPct val="1507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Internet tal como la conocemos ahora, no durará mucho. Sin e</a:t>
            </a:r>
            <a:r>
              <a:rPr b="0" lang="es-ES_tradnl" sz="2300" spc="-1" strike="noStrike">
                <a:solidFill>
                  <a:srgbClr val="40458c"/>
                </a:solidFill>
                <a:latin typeface="Tahoma"/>
              </a:rPr>
              <a:t>mbrago, es de esperar que los conceptos se mantengan.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Referencia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ielsen’s top 10 lis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f89f7"/>
                </a:solidFill>
                <a:uFillTx/>
                <a:latin typeface="Tahoma"/>
                <a:hlinkClick r:id="rId2"/>
              </a:rPr>
              <a:t>http://www.useit.com/alertbox/9605.htm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Web pages that suck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f89f7"/>
                </a:solidFill>
                <a:uFillTx/>
                <a:latin typeface="Tahoma"/>
                <a:hlinkClick r:id="rId4"/>
              </a:rPr>
              <a:t>http://www.webpagesthatsuck.com</a:t>
            </a:r>
            <a:r>
              <a:rPr b="0" lang="en-US" sz="2800" spc="-1" strike="noStrike" u="sng">
                <a:solidFill>
                  <a:srgbClr val="6f89f7"/>
                </a:solidFill>
                <a:uFillTx/>
                <a:latin typeface="Tahoma"/>
                <a:hlinkClick r:id="rId5"/>
              </a:rPr>
              <a:t>/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et tips for designer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f89f7"/>
                </a:solidFill>
                <a:uFillTx/>
                <a:latin typeface="Tahoma"/>
                <a:hlinkClick r:id="rId7"/>
              </a:rPr>
              <a:t>http://</a:t>
            </a:r>
            <a:r>
              <a:rPr b="0" lang="en-US" sz="2800" spc="-1" strike="noStrike" u="sng">
                <a:solidFill>
                  <a:srgbClr val="6f89f7"/>
                </a:solidFill>
                <a:uFillTx/>
                <a:latin typeface="Tahoma"/>
                <a:hlinkClick r:id="rId8"/>
              </a:rPr>
              <a:t>www.dsiegel.com</a:t>
            </a:r>
            <a:r>
              <a:rPr b="0" lang="en-US" sz="2800" spc="-1" strike="noStrike" u="sng">
                <a:solidFill>
                  <a:srgbClr val="6f89f7"/>
                </a:solidFill>
                <a:uFillTx/>
                <a:latin typeface="Tahoma"/>
                <a:hlinkClick r:id="rId9"/>
              </a:rPr>
              <a:t>/tips/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User Interface Engineering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f89f7"/>
                </a:solidFill>
                <a:uFillTx/>
                <a:latin typeface="Tahoma"/>
              </a:rPr>
              <a:t>http:///</a:t>
            </a:r>
            <a:r>
              <a:rPr b="0" lang="en-US" sz="2800" spc="-1" strike="noStrike" u="sng">
                <a:solidFill>
                  <a:srgbClr val="6f89f7"/>
                </a:solidFill>
                <a:uFillTx/>
                <a:latin typeface="Tahoma"/>
              </a:rPr>
              <a:t>www.uie.com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317160"/>
            <a:ext cx="797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Educación en la Web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764640" y="1638000"/>
            <a:ext cx="798516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  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Han aparecido muchas herramientas para impartir conocimientos a través de la Web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1893960" y="2644920"/>
          <a:ext cx="5253120" cy="377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93960" y="2644920"/>
                    <a:ext cx="5253120" cy="377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5" name=""/>
          <p:cNvSpPr/>
          <p:nvPr/>
        </p:nvSpPr>
        <p:spPr>
          <a:xfrm>
            <a:off x="523800" y="6464160"/>
            <a:ext cx="5384880" cy="337320"/>
          </a:xfrm>
          <a:prstGeom prst="rect">
            <a:avLst/>
          </a:prstGeom>
          <a:solidFill>
            <a:srgbClr val="fcfdc6"/>
          </a:solidFill>
          <a:ln w="12600">
            <a:solidFill>
              <a:srgbClr val="40458c"/>
            </a:solidFill>
            <a:miter/>
          </a:ln>
          <a:effectLst>
            <a:outerShdw dist="107932" dir="2700000" blurRad="0" rotWithShape="0">
              <a:srgbClr val="b7c1e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stado del arte en el mercado de Educación a Distancia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97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omercio Electrónic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1677960" y="1484280"/>
          <a:ext cx="6031080" cy="4892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7960" y="1484280"/>
                    <a:ext cx="6031080" cy="489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9" name=""/>
          <p:cNvSpPr/>
          <p:nvPr/>
        </p:nvSpPr>
        <p:spPr>
          <a:xfrm>
            <a:off x="955800" y="6093000"/>
            <a:ext cx="7912080" cy="707760"/>
          </a:xfrm>
          <a:prstGeom prst="rect">
            <a:avLst/>
          </a:prstGeom>
          <a:solidFill>
            <a:srgbClr val="fcfdc6"/>
          </a:solidFill>
          <a:ln w="12600">
            <a:solidFill>
              <a:srgbClr val="40458c"/>
            </a:solidFill>
            <a:miter/>
          </a:ln>
          <a:effectLst>
            <a:outerShdw dist="107932" dir="2700000" blurRad="0" rotWithShape="0">
              <a:srgbClr val="b7c1e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-24 hs y 365 días al año vendiendo sin empleados.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- millones de potenciales clientes.                - Se requiere muy poca infraestructura.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786960" y="253800"/>
            <a:ext cx="7975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Seguridad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1170000" y="1484280"/>
          <a:ext cx="7211880" cy="466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70000" y="1484280"/>
                    <a:ext cx="7211880" cy="466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3" name=""/>
          <p:cNvSpPr/>
          <p:nvPr/>
        </p:nvSpPr>
        <p:spPr>
          <a:xfrm>
            <a:off x="536400" y="6097680"/>
            <a:ext cx="8344080" cy="707760"/>
          </a:xfrm>
          <a:prstGeom prst="rect">
            <a:avLst/>
          </a:prstGeom>
          <a:solidFill>
            <a:srgbClr val="fcfdc6"/>
          </a:solidFill>
          <a:ln w="12600">
            <a:solidFill>
              <a:srgbClr val="40458c"/>
            </a:solidFill>
            <a:miter/>
          </a:ln>
          <a:effectLst>
            <a:outerShdw dist="107932" dir="2700000" blurRad="0" rotWithShape="0">
              <a:srgbClr val="b7c1e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Policía, Aduana, Ejército, Agencias de Investigaciones, etc.   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Comunicación barata, fácil y rápida.      - Capacidades de audio, video, imágenes y texto.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786960" y="240840"/>
            <a:ext cx="7975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Gestión Empresarial (Intranets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245" name=""/>
          <p:cNvGraphicFramePr/>
          <p:nvPr/>
        </p:nvGraphicFramePr>
        <p:xfrm>
          <a:off x="777960" y="1484280"/>
          <a:ext cx="7618320" cy="4707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7960" y="1484280"/>
                    <a:ext cx="7618320" cy="470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7" name=""/>
          <p:cNvSpPr/>
          <p:nvPr/>
        </p:nvSpPr>
        <p:spPr>
          <a:xfrm>
            <a:off x="15840" y="6145200"/>
            <a:ext cx="912816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40458c"/>
            </a:solidFill>
            <a:miter/>
          </a:ln>
          <a:effectLst>
            <a:outerShdw dist="107932" dir="2700000" blurRad="0" rotWithShape="0">
              <a:srgbClr val="b7c1e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Independencia del puesto de trabajo, S.O., Aplicación Cliente  - Mejores canales de comunicación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Circulación de documentos electrónicos en vez de papel          - Aumento de la eficiencia.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05T16:18:49Z</dcterms:created>
  <dc:creator>sochoa</dc:creator>
  <dc:description/>
  <dc:language>en-US</dc:language>
  <cp:lastModifiedBy>Sergio F. Ochoa</cp:lastModifiedBy>
  <cp:lastPrinted>2000-04-26T16:56:46Z</cp:lastPrinted>
  <dcterms:modified xsi:type="dcterms:W3CDTF">2006-10-24T11:32:41Z</dcterms:modified>
  <cp:revision>71</cp:revision>
  <dc:subject/>
  <dc:title>Diseñando para la Web (#1)</dc:title>
</cp:coreProperties>
</file>