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A52-9347-48A6-A458-83680308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A63-CE4C-403F-976D-3D8D102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720-AEBA-4671-9D09-38A30290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652-42A7-4977-BD41-6DC103F0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CECB-5486-4B0E-82BA-4C45FA66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716-A57B-4E04-BA56-6DD80794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620F-ABB0-4724-9579-C91906A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59B5-E360-4387-A2E3-52B61C8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DE65-A803-4697-8287-C7E1310E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C3A8-226B-4BEA-960E-31E6E04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6E0-8AD2-4DF0-962D-76A0B67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FEE-5CD6-4A22-B11D-A4C8C8B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3A65-4C7C-440E-907E-5D1F1A6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1E26-AB45-4F40-A2A7-C14E3D3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4F89-DFB8-4EE3-A712-84A1ACC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4417-DA90-4E51-A375-CAEC28B7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DAF-7D3B-456C-9DCB-86B83AF1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21C-FD69-4054-A72E-7DF237F6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5AF-F3CF-4DC0-A47D-4312D41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8DD-65D8-4E5A-B860-4693304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A2F-E004-4B26-A212-51566B7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7DA-5F01-4A08-A57B-EE90FBF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DCB-C284-4977-94BA-F6B2439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6D5-374C-4F74-8C9A-791467E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FDDC-66F5-442C-8B5E-987E798AA3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352-887A-4C24-82E8-09F996C508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6-10-12T12:34:27Z</dcterms:modified>
  <cp:revision>49</cp:revision>
  <dc:subject/>
  <dc:title>CC51A – Ingeniería de Software</dc:title>
</cp:coreProperties>
</file>