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95D-11AC-407C-8331-BBF2BD1F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D61-4CFB-482B-B916-6656E20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A96-E002-43B2-ADE2-1D9F8FFD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6EC-C8FC-4293-A4F4-528ACF81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5042-553B-44F7-9041-D5A91FEB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8A9E-A3DC-4DC7-B773-4DB7ED7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9701-9924-40AC-8690-7311CAFC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D01B-4703-4E7B-ABA1-C64FDC3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7DC7-779D-49D9-93A5-6442494C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EBAC-C6EB-4EB7-A753-27E3FA3F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2D44-4EE9-4F8B-8B6A-835820D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CED-C9F9-4455-B70A-9371903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92AC-5136-4341-B860-D3354A6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95B6-59E1-4FD6-B799-2ED05A55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DD2E-5B24-4C54-9ACC-DE9CDE19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9F1E-7BDB-4338-909C-28446B2D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954-D252-4345-923E-4D5925F7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C2D-BE74-4644-A19C-3231248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6C3-A802-416B-A696-20B06F4D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AB0-5D67-4C0B-BCE9-540D8AFD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B62-E2A4-4A77-AE4E-309CC5D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690-3B77-40B1-B220-5ABF57D4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1E3-031B-4D21-9C4A-2159D22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7C0-713E-4129-BCF7-D594713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7C4B-AF9B-4D83-9A5C-EAA6E5D561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20C3-3AC8-449B-9EF5-80BCE8C8DF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6-10-12T12:34:27Z</dcterms:modified>
  <cp:revision>49</cp:revision>
  <dc:subject/>
  <dc:title>CC51A – Ingeniería de Software</dc:title>
</cp:coreProperties>
</file>