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DF50-AD95-4C44-AD62-2F29DFBE7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6810-1E53-4FE6-BE48-C776ED7D1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F615-E121-42F3-A750-EE3661E8B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200E-0646-449A-B01D-67A82C547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FB51A-A725-4778-86BF-2D5E1BACC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730A6-71C7-4956-9F5F-F11B33482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FC618-1582-47E4-BCF5-87B5DB10D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ACF3C-0D93-4880-9172-6F11FB302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D9A90-010B-4C99-8FE3-8A36AE103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333BB-F70A-4345-8BDF-2531D04E7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D4BF5-7174-4D74-B766-579FAA979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87D6-5E65-4F62-8996-AA5D71E2D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157E7-61D9-4E60-A9E6-5282C2D26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5BD05-418D-491F-B5E0-4692B7C19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99820-8C2B-40E6-9B9B-B5A75CE9E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D0433-B398-403D-9CF7-FF7B709AC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FED40-2B2E-46FA-98F6-50727423F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37D7-3EE5-4C15-833D-C60115BB8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F09E-9A03-4796-BE2C-361AB9408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85BF-D0A1-440B-ABB8-EF85BF644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EBF8-0CBE-482E-B049-7FB74601A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C835-5C9A-475A-8384-5ECA04D4F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E12A-4F01-43E9-980E-3E8B00865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5C44-1F05-4232-A224-C6E80C12C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78197-A317-42F0-A5F2-D8A9F86BA972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25301-59BD-46E4-8294-4B0E2DCA7EF9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CC51A – Ingeniería de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990720" y="3309840"/>
            <a:ext cx="703584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40458c"/>
                </a:solidFill>
                <a:latin typeface="Tahoma"/>
              </a:rPr>
              <a:t>SQA (Software Quality Assurance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463860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Sergio Ochoa D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395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422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4638600"/>
            <a:ext cx="853452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Sergio Ochoa D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40458c"/>
                </a:solidFill>
                <a:latin typeface="Tahoma"/>
              </a:rPr>
              <a:t>Parte de este material ha sido cedido por el Prof. Jaime Navón, PhD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40458c"/>
                </a:solidFill>
                <a:latin typeface="Tahoma"/>
              </a:rPr>
              <a:t>(www.ing.puc.cl/~jnavon)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evisiones Técnicas Form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15328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SzPct val="16458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58c"/>
                </a:solidFill>
                <a:latin typeface="Arial"/>
              </a:rPr>
              <a:t>Participan entre 3 y 5 personas, y requiere reparación previa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SzPct val="16458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58c"/>
                </a:solidFill>
                <a:latin typeface="Arial"/>
              </a:rPr>
              <a:t>Foco en un segmento específico pequeño (1 módulo o documento)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SzPct val="16458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58c"/>
                </a:solidFill>
                <a:latin typeface="Arial"/>
              </a:rPr>
              <a:t>Participan los revisores (uno actúa de jefe) y el autor, y el moderador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58c"/>
                </a:solidFill>
                <a:latin typeface="Arial"/>
              </a:rPr>
              <a:t>Precondiciones: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58c"/>
                </a:solidFill>
                <a:latin typeface="Arial"/>
              </a:rPr>
              <a:t>Especificación precisa (formal o informal) sobre que es lo que ese código se supone que debe hacer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58c"/>
                </a:solidFill>
                <a:latin typeface="Arial"/>
              </a:rPr>
              <a:t>Miembros del grupo deben conocer estándares de codificación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58c"/>
                </a:solidFill>
                <a:latin typeface="Arial"/>
              </a:rPr>
              <a:t>No debe usarse para evaluación del personal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58c"/>
                </a:solidFill>
                <a:latin typeface="Arial"/>
              </a:rPr>
              <a:t>Dispuesto a aceptar costos extra (ahorro es en largo plazo)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lgunas Directrices..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15328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Revisar el producto y no al producto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Indicar los errores con tin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Hablar en tono constructiv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La idea no es avergonzar al productor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Mantenerse estrictamente dentro de la agend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No irse por las rama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El moderador es el responsabl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Limitar el debate. Algunos asuntos pueden dejarse para discusión posterior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Enunciar problemas pero no resolverlo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El problema debería ser resuelto por el autor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No es una sesión de resolución de problema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lgunas Directrices... (cont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3059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Tomar notas y/o grabar la revisió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Limitar número de participantes e insistir en </a:t>
            </a: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la 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preparación previ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458c"/>
                </a:solidFill>
                <a:latin typeface="Arial"/>
              </a:rPr>
              <a:t>Dos cabezas piensan más que una, pero 14 no necesariamente más que 4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458c"/>
                </a:solidFill>
                <a:latin typeface="Arial"/>
              </a:rPr>
              <a:t>El moderador puede solicitar comentarios por escrito antes de la reunión para asegurar que la preparación de los miembros es la adecuada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Desarrollar previamente “checklists” por cada producto a revisar (para mantener el foco de la revisión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Asignar recursos y tiempos para estas reunion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458c"/>
                </a:solidFill>
                <a:latin typeface="Arial"/>
              </a:rPr>
              <a:t>No olvidar que es parte del proceso!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458c"/>
                </a:solidFill>
                <a:latin typeface="Arial"/>
              </a:rPr>
              <a:t>Proporcionar entrenamiento para los revisores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0458c"/>
                </a:solidFill>
                <a:latin typeface="Arial"/>
              </a:rPr>
              <a:t>Es posible incluso revisar (auditar) las revisiones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lgunas Directrices... (cont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3059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La gente de SQA (en nuestro caso, “el tester”) debe registrar por escrito todos los errores/falencias encontrada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La gente de SQA (en nuestro caso, “el tester”) debe hacer un seguimiento de ellas y reportar su estado al administrador de proyect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Inspeccionar los productos usando como base los requisitos definidos siempre es una buena ide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Para ellos se debe conocer cuáles son los requisitos involucrados en el producto que se está revisand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Ventajas..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Se considera más efectivo que las pruebas para encontrar bugs (encuentra la causa del error en lugar del síntoma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Los programadores escriben sus programas sabiendo que otros los revisarán =&gt; fácil de entender, leer, y mantener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Los programadores aprenden de las revisiones, cómo hacer los programas más fáciles de entender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Se anula el efecto de “puntos ciegos” (programador es incapaz de ver ciertos errores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Es posible imponer estándares de codificación con facilidad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Explicar el código hace que el programador lo entienda cada vez mejor (los profesores saben esto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Reduce dramáticamente tiempo de prueba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esventajas..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09480" y="16686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876"/>
              </a:spcAft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Problemas de personalidad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7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Puede haber personas con buenas ideas no se expresa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7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Puede haber personas con malas ideas se expresan much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7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Algunas personas odian discutir o estar en desacuerd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7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Hay personas que odian revisar el trabajo de otr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7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Es fácil perderse en cosas triviales (punto, coma, etc.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876"/>
              </a:spcAft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Es agotador (pierde efectividad después de un par de horas o menos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unciona en la Práctic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62684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Bell Northern Research (subsidiaria de Northern Telecom, Compañía de Telecomunicaciones de Canadá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Sobre 10 MLOC de un software que controla un switch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Se inspeccionaron 2.5 MLOC a lo largo de 2 añ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Se encontraron alrededor de 0.8 a 1.0 errores por hora-hombr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Se encontraron alrededor de 37 errores por cada 1000 LOC (estudios dan 50 a 75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2.5 MLOC =&gt; 2500 x 37 = 92500 error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Se considera que un error detectado en etapa de testing puede tomar hasta 33 horas-hombre para diagnosticar y reparar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Ahorro de tiempo es enorme !!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unciona en la Práctic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1532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Bell Northern Research (subsidiaria de Northern Telecom, Compañía de Telecomunicaciones de Canadá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En la actualidad se está intentado incorporar la Web para hacer las revisiones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Se publica el códig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Los revisores pueden estar distribuidos geográficament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Se pueden realizar revisiones asíncronas o síncronas dependiendo de las herramientas disponibl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ntrol Estadístico de la Calida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4360" y="1699920"/>
            <a:ext cx="8154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751"/>
              </a:spcAft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Idea básica es gastar el tiempo en las cosas que son realmente importantes.  Debemos asegurarnos de determinar, qué es lo realmente importante?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7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El número de causas de la gran mayoría de los errores es relativamente limitad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7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La información sobre defectos es recogida y categorizad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7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Se intenta asociar cada defecto a la causa de origen (especificación, diseño, violación de estándar, etc.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751"/>
              </a:spcAft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Basándose en el principio de Pareto (20% de las causas producen el 80% de los errores) se aísla el 20% vital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751"/>
              </a:spcAft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Una vez que las principales causas se identifican, se corrigen los problemas que causaron los defect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jemplos de Categorí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777240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IES: especificación errónea o incomplet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MCC: mal interpretación de comunicación con client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IDS: desviación intencional de la especificació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VPS: violación de estándar de programació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EDR: error de representación de dat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IMI: interfaz de módulo inconsistent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EDL: error en diseño lógic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IET: testeo erróneo o incomplet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IID: documentación errónea o incomplet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PLT: error en lenguaj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HCI: interfaz ambigua o incomplet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MIS: miscelane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structura de la Present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7161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1800"/>
              </a:spcAft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Introducción a SQ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spcAft>
                <a:spcPts val="1800"/>
              </a:spcAft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El SQA Group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spcAft>
                <a:spcPts val="1800"/>
              </a:spcAft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Revisiones Técnicas Formal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spcAft>
                <a:spcPts val="1800"/>
              </a:spcAft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Algunas Directrices ..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spcAft>
                <a:spcPts val="1800"/>
              </a:spcAft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Ventajas y Desventajas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spcAft>
                <a:spcPts val="1800"/>
              </a:spcAft>
              <a:buSzPct val="1131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Datos de la Realidad ..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atos Reales ...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762120" y="1752480"/>
            <a:ext cx="8076960" cy="42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atos Reales..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8080" y="1557000"/>
            <a:ext cx="77724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En este ejemplo, IES + MCC + EDR producen más de la mitad de los errores (53%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Si consideramos sólo los errores serios, debería mirarse con atención IES, EDR, EDL, PLT [70%]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Las acciones a tomar dependen del tipo de error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Comprar herramientas case orientadas al análisi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Mejorar la calidad de las revision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Contratar expertos en modelación de dat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etc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Arial"/>
              </a:rPr>
              <a:t>Identificación de Riesg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8353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Riesgo es una situación que en caso de darse, se transforma en un problema para el proyecto… Por lo tanto, es necesario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Identificar posibles riesg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Causas y nivel de manejo de los riesg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Probabilidad de ocurrenci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Costo del riesgo (impacto), si es que se convierte en realidad (por lo tanto pasa a ser un problema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Medidas de precaución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476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Arial"/>
              </a:rPr>
              <a:t>Identificación de Riesg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532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"/>
              </a:rPr>
              <a:t>Cada medida de precaución debe incluir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Cost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Impacto sobre el proyect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"/>
              </a:rPr>
              <a:t>Tomar decisión respecto de cada riesgo desde el punto de vista del negocio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"/>
              </a:rPr>
              <a:t>No todos los riesgos necesitan ser administrado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2636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Arial"/>
              </a:rPr>
              <a:t>Ejemplos de Riesg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4000" y="1628640"/>
            <a:ext cx="828036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Requisitos cambiant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Problema pobremente definid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Rotación de persona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Cambios externo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Fallas en la plataforma de desarroll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Desconocimiento de la tecnología a utiliza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Desconocimiento del proceso de desarrollo a utiliza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Pérdidas de informació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Atraso en la ejecución del proyect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Alta dependencia de algún personaj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..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ómo Documentar los Riesgos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268200" y="2517840"/>
            <a:ext cx="8624880" cy="25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Conclusiones..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49"/>
              </a:spcBef>
              <a:buSzPct val="13927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Las actividades de SQA son necesarias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649"/>
              </a:spcBef>
              <a:buSzPct val="13927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La mayoría de los equipos de trabajo no las incorporan debido al aumento de los costos y tiempos de desarrollo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649"/>
              </a:spcBef>
              <a:buSzPct val="13927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.... al final terminan gastando más y tardando más por no haber incorporado actividades de SQA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649"/>
              </a:spcBef>
              <a:buSzPct val="13927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En el futuro inmediato, debido a la globalización, las empresas que no consideren al SQA como “necesario”, perecerán en manos de aquellos que sí lo hagan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649"/>
              </a:spcBef>
              <a:buSzPct val="13927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El costo del software ha bajado tanto que ahora los clientes buscan calidad. 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Conclusiones..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2880" indent="-542880">
              <a:spcBef>
                <a:spcPts val="649"/>
              </a:spcBef>
              <a:spcAft>
                <a:spcPts val="1301"/>
              </a:spcAft>
              <a:buSzPct val="1131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No pierda de vista los requisitos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542880" indent="-542880">
              <a:spcBef>
                <a:spcPts val="649"/>
              </a:spcBef>
              <a:spcAft>
                <a:spcPts val="1301"/>
              </a:spcAft>
              <a:buSzPct val="1131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Todos los productos intermedios de un desarrollo de software ESTAN relacionados, y existe entre ellos una correlación que DEBE verificar la gente de SQA (en nuestro caso, “el tester”)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542880" indent="-542880">
              <a:spcBef>
                <a:spcPts val="649"/>
              </a:spcBef>
              <a:spcAft>
                <a:spcPts val="1301"/>
              </a:spcAft>
              <a:buSzPct val="1131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La gente de SQA debe ser proactiva, pero cuidadosa en el trato personal con el resto del equipo de trabajo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542880" indent="-542880">
              <a:spcBef>
                <a:spcPts val="649"/>
              </a:spcBef>
              <a:spcAft>
                <a:spcPts val="1301"/>
              </a:spcAft>
              <a:buSzPct val="1131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La gente de SQA son los mejores aliados que un Administrador de proyectos puede tener….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l Grupo SQ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81532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Sirve como el representante del cliente (mira el producto desde el punto de vista del cliente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Asiste al grupo de desarrollo para lograr un producto final de “buena calidad” (que cumple con una lista de requisitos más exigente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Trata de responder preguntas del tipo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Se satisfacen los criterios de calidad especificados?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Se ha desarrollado en base a los estándares establecidos?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Coordina el manejo de los cambios (control de configuración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Identifica riesgos en forma tempran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Se preocupa de la estandarización de procesos y product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QA (Aseguramiento de la Calidad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Calidad de Software: </a:t>
            </a: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Cumplimiento de los requisitos explícitos: funcionales, de calidad y de restricció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Observaciones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Los requisitos son la base sobre la cual se juzga la calidad de un product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Si no se siguen los criterios de desarrollo definidos por los estándares usados, muy probablemente no se conseguirán buenos product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Hay además requisitos implícitos que a menudo no se mencionan (por ejemplo, fácil de mantener) que también es deseable respetar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Actividades del SQA Group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10920" y="1523880"/>
            <a:ext cx="8227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Preparar el plan de SQA (evaluaciones, auditorías, estándares, procedimientos de reporte de errores, templates de documentos, casos de prueba, estandarización de procedimientos, etc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96680" indent="-2739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El plan se prepara durante la etapa de planeación del proyect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96680" indent="-2739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El plan es revisado por todas las partes interesada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96680" indent="-2739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El plan es la base de todas las actividades de SQ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96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Participar en el diseño del desarrollo del proceso específico a ser usado en el proyecto (puede chequear cumplimiento de estándares externos como ISO 9001, etc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96680" indent="-2739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Revisar que las actividades se lleven a cabo de acuerdo al proceso descrito (identifica, documenta y monitorea las desviaciones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Actividades del SQA Group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1532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Participar en el diseño del desarrollo del proceso específico a ser usado en el proyecto (puede chequear cumplimiento de estándares externos como ISO 9001, etc.)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Auditar ciertos productos del proces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Asegurar que las desviaciones en los productos sean manejadas y documentadas de acuerdo a un procedimient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Registrar cualquier ítem insatisfactorio y reportar a la administración superior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La gente de SQA (en nuestro caso, “el tester”) son los mejores aliados del Adm. de Proyect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Actividades del SQA Group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Arial"/>
              </a:rPr>
              <a:t>Definición de los casos de prueba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En base a los requisitos de usuario, el SQA group debe generar los casos de prueba, para las pruebas a nivel de usuario (pruebas de usuario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En base a los requisitos de software, el SQA group debe generar el resto de los casos de prueba: prueba de módulos, de integración y de sistema (al menos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Arial"/>
              </a:rPr>
              <a:t>Ejecución de los casos de prueba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Durante el período de pruebas, el SQA Group debe coordinar las pruebas y revisar el cumplimiento de los requisitos definid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Reportar anomalías detectadas durante las prueba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evisiones Técnicas Form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Las revisiones constituyen una de las actividad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mas importantes de SQ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Propósito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Descubrir errores (función, lógica o implementación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Verificar que el software satisface los requisit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Asegurar que se cumplen los estándares predefinid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Lograr software desarrollado en forma uniform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Hacer más manejable los proyect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Se eliminan errores en forma relativamente temprana (barato y fácil de corregir)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evisiones Técnicas Form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98984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Puede hacerse con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Documentos de diseñ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Código fuente (listo para ser compilado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Planificacion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Cada revisión se conduce en forma de una reunión cuidadosamente planeada y controlad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Arial"/>
              </a:rPr>
              <a:t>Hay muchos tipos de revisiones... Algunos de ellos los vimos en la clase de “Revisiones de Software”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2T15:05:57Z</dcterms:created>
  <dc:creator>Mercedario</dc:creator>
  <dc:description/>
  <dc:language>en-US</dc:language>
  <cp:lastModifiedBy>Sergio F. Ochoa</cp:lastModifiedBy>
  <dcterms:modified xsi:type="dcterms:W3CDTF">2006-10-12T12:34:27Z</dcterms:modified>
  <cp:revision>49</cp:revision>
  <dc:subject/>
  <dc:title>CC51A – Ingeniería de Software</dc:title>
</cp:coreProperties>
</file>