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3DB-52E8-426D-939D-E0C89956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ED0-F964-48AE-840D-8683A65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3F5-E869-49AC-BDD3-F2CC02DF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F38-3B5F-4869-8BC0-A7DA5915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823F-F073-4566-9C76-B0557EA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0FF-5B94-4DF7-A39F-068E3B39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7125-3D07-4662-BE12-94F564C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ADB-7A2E-499F-936D-F12E9D8A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E2E-BC52-4CD4-B20F-A01B1B6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0F1B-6B24-4497-BB2E-F580F812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8B32-D352-4616-9D7B-9E146E3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FE9-4844-45E0-8F52-E30BC1D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67C-BDA0-48ED-B584-0CC83D6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638-E6D1-4C93-84C8-10B094B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2769-F7B6-4599-A4EF-6E48DD3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66C0-9DDD-4862-A2BB-7FDACF48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EC5-3B99-4319-9F10-CCDF0AF2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BEF-1D79-47A4-9B3C-ACC7002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917-01A6-4C15-9A75-1DD3C113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0D4-84C5-45AC-BF23-53C410C6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275-0C3A-40EC-8C84-8D394AB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955-D295-43C4-ADE4-9D2E7B1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CE0-96C3-4B07-ABAA-BD24BE1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4C2-53C6-4D0D-9814-D7E7757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75C-8842-478D-BF9E-55D0D48683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BB03-EB81-48C8-B137-CDCB003A3E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10T12:31:18Z</dcterms:modified>
  <cp:revision>86</cp:revision>
  <dc:subject/>
  <dc:title>CC51A – Ingeniería de Software</dc:title>
</cp:coreProperties>
</file>