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9D36-D716-4681-9252-40FF0084B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A5AC-3373-42F2-AF01-6A60A4A8C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05F0-9BF5-44AC-B504-14CD78599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44C9-7C0A-481D-81F5-208CB835B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2E7FB-7294-461E-B706-34131A301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BD92C-5FA9-4B4F-8164-C596826BF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DA248-FD3E-4F65-A135-F2A166F38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4F12B-A984-481E-BC3D-D8EE9BA26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107D8-C4C1-4066-BE73-579D06B0D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D26FB-89F9-4B9F-A298-2F07873AD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14396-1369-4049-BDF5-573FEE924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8287-E8CE-4DB7-A605-108A558B4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CA162-7D8C-4E57-AA58-64DC2D9A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34AA3-076F-4FC7-A8E5-A3A1E7BE2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38F8B-E45C-4922-8584-08637EDBC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797FE-4203-4E52-B358-D8985BA59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DB4E0-CD40-490D-A3FF-221432882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1B81-D99C-4D7E-8E26-119787F15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1590-B7ED-4AC2-96E2-5244A5BC5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6657-69E0-4D19-882C-6FFD46F8C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26AF-FF27-4928-8318-FB808AEF5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F44C-B432-4595-AD4F-27FB10736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23CE-BCA3-43B9-A87B-9E3F5172C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4E00-E521-4C89-8115-BE8E6E871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4823B-7588-47AC-A7C8-D4092FA3B70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CF47C-D850-4FAF-9262-EC885E17853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703584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0458c"/>
                </a:solidFill>
                <a:latin typeface="Tahoma"/>
              </a:rPr>
              <a:t>Puesta a Punto y Entrega del Producto (Transferencia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6386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21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ctividades de la Transferenc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208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Puesta en marcha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spcAft>
                <a:spcPts val="37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Paralelo o reemplazo (ver tiempos, recursos, etapas e hitos)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spcAft>
                <a:spcPts val="37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(… de nuevo…) No debe salir mal, pues las consecuencias podrían ser catastrófica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spcAft>
                <a:spcPts val="37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Paralelo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lnSpc>
                <a:spcPct val="80000"/>
              </a:lnSpc>
              <a:spcBef>
                <a:spcPts val="451"/>
              </a:spcBef>
              <a:spcAft>
                <a:spcPts val="337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Cómo hago convivir los legados con los nuevos sistemas?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lnSpc>
                <a:spcPct val="80000"/>
              </a:lnSpc>
              <a:spcBef>
                <a:spcPts val="451"/>
              </a:spcBef>
              <a:spcAft>
                <a:spcPts val="337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Cómo verifico la correspondencia de datos entre ambos escenarios?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lnSpc>
                <a:spcPct val="80000"/>
              </a:lnSpc>
              <a:spcBef>
                <a:spcPts val="451"/>
              </a:spcBef>
              <a:spcAft>
                <a:spcPts val="337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Cómo puedo garantizar que el código implementado (sólo) para el paralelo, está bueno y no me está metiendo errores en las BD legadas?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spcAft>
                <a:spcPts val="37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Reemplazo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lnSpc>
                <a:spcPct val="80000"/>
              </a:lnSpc>
              <a:spcBef>
                <a:spcPts val="451"/>
              </a:spcBef>
              <a:spcAft>
                <a:spcPts val="337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… </a:t>
            </a: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va a haber incendios… Cómo los pienso apagar? En cuánto tiempo?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lnSpc>
                <a:spcPct val="80000"/>
              </a:lnSpc>
              <a:spcBef>
                <a:spcPts val="451"/>
              </a:spcBef>
              <a:spcAft>
                <a:spcPts val="337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Qué pasa si el reemplazo no funciona?. Por ejemplo, la BD colapsa durante un peak, por falta de índices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spcAft>
                <a:spcPts val="37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l costo de volver atrás es </a:t>
            </a:r>
            <a:r>
              <a:rPr b="1" i="1" lang="es-ES" sz="2000" spc="-1" strike="noStrike">
                <a:solidFill>
                  <a:srgbClr val="40458c"/>
                </a:solidFill>
                <a:latin typeface="Tahoma"/>
              </a:rPr>
              <a:t>altísimo…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 La etapa de transferencia no puede salir mal!!!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Qué dice el estándar de la ESA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8229600" cy="51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Qué dice el estándar de la ESA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830592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363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Luego de la etapa de codificación se deben entregar 2 documento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2872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STD (Software Transfer Document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2872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PHD (Project History Document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63600" indent="-36360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En el STD se debería describir todo el proceso de transferencia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63600" indent="-36360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Para nuestros proyectos sólo consideraremos una versión simplificada del PHD (se presenta más adelante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63600" indent="-36360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Esta etapa culmina con: la puesta en producción del producto, y entrega del PHD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l PHD (Documento Histórico del Proyecto) Simplificad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10920" y="1557360"/>
            <a:ext cx="82818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Este documento se le entregará al CLIENTE, en papel, y en formato digita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La estructura del documento es la siguient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1. Identificación del Proyecto.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Es la carátula del informe, compuesta por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specificación del tipo de informe (Documento Histórico del Proyecto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Nombre del proyect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Fecha de términ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2. </a:t>
            </a: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Índice General.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Debe mostrar el contenido del resto del documento. Los documentos incluidos en éste, como el URD, SRD, y DD, no deben llevar índices propi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l PHD (Documento Histórico del Proyecto) Simplificad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0920" y="1523520"/>
            <a:ext cx="8304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3. Grupo de Trabajo.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Nómina de todos los miembros del grupo, el rol que desempeñó cada uno, y su dirección de e-mai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4. Documentos de Análisi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4.1. URD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4.2. SRD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5. Documento de Diseño.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Se adjunta el DD con el formato estableci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6. Documento de Pruebas.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Se adjuntan las pruebas diseñadas para verificar el cumplimiento de los requisitos de software y de usuario. Este documento incluye un resumen del estado de cumplimiento de los requisi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40458c"/>
                </a:solidFill>
                <a:latin typeface="Tahoma"/>
              </a:rPr>
              <a:t>Listado: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Id reg., tipo req., relevancia, nivel de cumplimiento actual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l PHD (Documento Histórico del Proyecto) Simplificad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7. Código Fuente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 Debe colocarse el código fuente del producto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l código debe estar “comentariado” como para que pueda ser mantenid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Cada página HTML debe tener al principio, un comentario que indique cuál es la función de ést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8. Indicaciones.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Acá debe especificarse toda aquella información que sea necesaria para el normal funcionamiento del produ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8.1. Proceso de instalación del software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8.2. Proceso de operación de software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ntrega Final del Curs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El día de la ENTREGA FINAL, cada grupo deberá entregar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al Profesor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Documento histórico del proyecto (en formato digital) según el formato antes especificad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Todos los archivos del sistema desarrollado en formato digital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al Cliente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Documento histórico del proyecto (en papel y en formato digital) según el formato antes especificad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l sistema desarrollado, instalado y funcionando en una máquina indicada por el CLIENTE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Los módulos cargadores/actualizadores para alimentar la base de datos del sistema, en caso de ser necesari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l Aprendizaje Post-Proyec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Algunos ítems para la reflexión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Cómo estuvieron los costos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y los tiempos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cómo estuvo la calidad del producto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cómo estuvo la satisfacción del cliente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qué tipo de información guardé a cerca de mi proceso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me sirve esa información para futuros desarrollos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qué tanto depende mi empresa, del equipo de trabajo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cuáles fueron los errores más dañinos para el proyecto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l Aprendizaje Post-Proyec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cuál fue su origen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cuáles fueron los problemas externos que más afectaron al proyecto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cómo voy a manejar estos problemas o debilidades durante el próximo proyecto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cómo funcionaron los miembros del equipo de desarrollo?... Específicamente el administrador del proye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cómo estuvo la comunicación al interior del grupo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se puede mejorar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cómo de comportó la tecnología empleada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¿necesito nuevas herramientas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l Aprendizaje Post-Proyec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¿cómo estuvo la fase de transferencia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¿en que se puede mejorar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¿cómo sacarle más provecho al desarrollo realizado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¿se puede empaquetar el producto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¿qué necesito para hacerlo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.... ¿qué tanto puede mejorar mi empresa a partir de lo aprendido en este proyecto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structura de la Presen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77960" y="1557000"/>
            <a:ext cx="817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Etapa de Transferenci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Qué Dice el Estándar de la ESA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l Documento Histórico del Proyecto (PHD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ntrega Fina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prendizaje Post-Proyec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ierre del Proyec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volu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clusion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336680" y="3111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Cierre del Proyec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Arial"/>
              </a:rPr>
              <a:t>Cierre del proyec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11280" y="1628280"/>
            <a:ext cx="8208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Acto </a:t>
            </a:r>
            <a:r>
              <a:rPr b="0" i="1" lang="es-ES" sz="2800" spc="-1" strike="noStrike">
                <a:solidFill>
                  <a:srgbClr val="660066"/>
                </a:solidFill>
                <a:latin typeface="Arial"/>
              </a:rPr>
              <a:t>formal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 y operativo en que el esfuerzo en el proyecto concluye, y se asume un nuevo estado de las personas, recursos, organización, negocio, 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Deben estar claras las </a:t>
            </a:r>
            <a:r>
              <a:rPr b="0" i="1" lang="es-ES" sz="2800" spc="-1" strike="noStrike">
                <a:solidFill>
                  <a:srgbClr val="660066"/>
                </a:solidFill>
                <a:latin typeface="Arial"/>
              </a:rPr>
              <a:t>condiciones de cierre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 (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aceptación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Tipos de cierre (normal, formal, negociado, político, ...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Identificación y evaluación de la situación de término y resultados del proyec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Arial"/>
              </a:rPr>
              <a:t>Cierre del proyec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8208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Difusión del cierre y del futuro (</a:t>
            </a:r>
            <a:r>
              <a:rPr b="0" lang="es-ES" sz="1800" spc="-1" strike="noStrike">
                <a:solidFill>
                  <a:srgbClr val="40458c"/>
                </a:solidFill>
                <a:latin typeface="Arial"/>
              </a:rPr>
              <a:t>¿cuál será nuestro rol en el proyecto implantado?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Se requiere la formalización correspondiente</a:t>
            </a:r>
            <a:br>
              <a:rPr sz="2800"/>
            </a:b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(actas, contratos, pagos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Identificación de aspectos pendientes, importancia y prioriza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Suele haber negociación y realización de ajust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Efectos futuros del proyecto (mantenimiento y/o evolución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Nuevos proyectos surgidos a partir de éste?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00000" y="3111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Formulación de la Evolución del Proyec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Arial"/>
              </a:rPr>
              <a:t>E</a:t>
            </a: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volu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80643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Al término del proyecto todo ha cambiad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En particular hay nuevas expectativ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El proyecto se evalúa injustament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ya no estamos en el “estado del arte”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han cambiado las prioridad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Hay nuevas alternativas para el proyec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de reemplaz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de crecimient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de fortalecimient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Arial"/>
              </a:rPr>
              <a:t>E</a:t>
            </a: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volu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80643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Hay nuevos proyect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de reemplaz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complementari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independient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Hay nuevas formas de evaluar, formular y administrar proyectos en la organiza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Si el desarrollo es interno a la organización, todos estos cambios deben ayudar a fortalecer el proceso de desarroll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Si el desarrollo es externo, se requiere que el desarrollador debe ser un tanto visionari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Arial"/>
              </a:rPr>
              <a:t>E</a:t>
            </a: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volu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84596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Hay que tener todo esto en cuenta, desde la planificación del proyecto…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Así nos va a doler menos cuando esto ocurra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…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. la parte buena es que si lo hemos hecho bien, las probabilidades de quedarnos con el cliente, son altas (debido principalmente a estos cambios)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La Fase de Transferencia puede verse desde el punto de vista del cliente o de la empresa desarrollador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Desde el punto de vista del client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s la fase más importante de todo el proyecto, ya que el cliente “espera” cosechar todo lo que ha sembrado (tiempo, dinero, compromiso, etc.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l trato (soporte) que reciba el cliente durante esta fase, influye directamente sobre su nivel de satisfacc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Si hubo problemas antes, pero está fase se hace bien, el cliente olvidará los problemas previos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Si no hubo problemas antes, pero está fase se hace mal, el cliente olvidará los éxitos previos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76080" y="1523880"/>
            <a:ext cx="81435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Desde el punto de vista de la empresa desarrolladora, es la posibilidad d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5000"/>
              </a:lnSpc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Obtener el “cheque más jugoso”…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5000"/>
              </a:lnSpc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Quedarme con el client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5000"/>
              </a:lnSpc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Obtener resultados tangibles que me ayuden a mejorar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85000"/>
              </a:lnSpc>
              <a:spcBef>
                <a:spcPts val="624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Registrar Los resultados del proceso de desarrollo deben medirse y guardarse “por escrito”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85000"/>
              </a:lnSpc>
              <a:spcBef>
                <a:spcPts val="624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Los miembros de cada rol deben presentar un documento que indique fortalezas y debilidades detectadas con respecto a su trabajo, y al funcionamiento colectiv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85000"/>
              </a:lnSpc>
              <a:spcBef>
                <a:spcPts val="624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Aunque al finalizar el proyecto todos evitan este trabajo, la autocrítica objetiva es fundamental para la supervivencia de mi empres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85000"/>
              </a:lnSpc>
              <a:spcBef>
                <a:spcPts val="624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Si no la documento, el único perjudicado soy y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La fase de transferencia lleva una nota importante en este curso…. Háganla bien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sto es importante para ustedes y para el futuro del proyect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tapa de transferenc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88960" y="1599840"/>
            <a:ext cx="83757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n esta fase hay varias actividades que deben ser planificadas, coordinadas, controladas y evaluada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Migración de Dat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Capacitación de Usuari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Puesta en marcha del nuevo softwar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Pruebas de Usuari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Recolección y Reparación de Error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Alternativas de Implantación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Certificación (marcha blanca, paralelos, etc.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Cierre de la situación anterior (apagar equipo, botar sistema, ...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Hay que determinar la necesidad (y posibilidad) de vuelta atrás…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8278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tapa de transferenc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2560" y="1557000"/>
            <a:ext cx="813744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Es la hora de la verda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Es también la ocasión más clara para identificar el fracaso del proye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Es necesario manejar los miedo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Difusió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Capacitació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Asistencia a usuari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Es necesario manejar la transición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Mecanismos de “vuelta atrás”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Consistencia de los dat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Traspasos entre sistema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Duplicidad en el trabaj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7240" y="42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660066"/>
                </a:solidFill>
                <a:latin typeface="Tahoma"/>
              </a:rPr>
              <a:t>Etapa de transferencia</a:t>
            </a: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11280" y="1628280"/>
            <a:ext cx="8137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2880" indent="-542880">
              <a:lnSpc>
                <a:spcPct val="90000"/>
              </a:lnSpc>
              <a:spcBef>
                <a:spcPts val="799"/>
              </a:spcBef>
              <a:spcAft>
                <a:spcPts val="2001"/>
              </a:spcAft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Hay que establecer un punto de quiebre, en el cual la nueva solución se transforma en definitiva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42880" indent="-542880">
              <a:lnSpc>
                <a:spcPct val="90000"/>
              </a:lnSpc>
              <a:spcBef>
                <a:spcPts val="799"/>
              </a:spcBef>
              <a:spcAft>
                <a:spcPts val="2001"/>
              </a:spcAft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Arial"/>
              </a:rPr>
              <a:t>Podría cambiar la historia dentro de una organización (típicamente asociada a sistemas antiguos)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42880" indent="-542880">
              <a:lnSpc>
                <a:spcPct val="90000"/>
              </a:lnSpc>
              <a:spcBef>
                <a:spcPts val="799"/>
              </a:spcBef>
              <a:spcAft>
                <a:spcPts val="2001"/>
              </a:spcAft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Arial"/>
              </a:rPr>
              <a:t>Podría haber mucha resistencia por parte de los usuarios, si no se maneja bien la implantación y la difusión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tapa de transferenc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55280" y="1744200"/>
            <a:ext cx="80773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Como contraparte, el cliente debe firmar el documento de aceptación del product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Con eso se da por finalizada la relación contractual con el client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... pero no el proyect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Luego de la etapa de transferencia, se debe APRENDER de proceso realizad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21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ctividades de la Transferenc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208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Migración de dato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lanificar el trabajo (tiempos, recursos, etapas e hitos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 debe salir mal, pues las consecuencias podrían ser catastrófic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¿El modelo de datos nuevo se corresponde con el legado?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¿Cuáles son los procedimientos de migración de datos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¿En qué orden se ejecutan estos procedimientos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¿Cómo se valida la consistencia de datos en cada etapa de la migración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¿Quién está a cargo de cada actividad o proceso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¿cómo volvemos atrás si, después de una semana, nos damos cuenta de que la cosa no funciona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21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ctividades de la Transferenc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208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Capacitación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Presencial, a Distancia o Mix (ver tiempos, recursos, etapas e hitos)?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(… de nuevo…) No debe salir mal, pues las consecuencias podrían ser catastróficas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0458c"/>
                </a:solidFill>
                <a:latin typeface="Tahoma"/>
              </a:rPr>
              <a:t>Presencial</a:t>
            </a: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0458c"/>
                </a:solidFill>
                <a:latin typeface="Tahoma"/>
              </a:rPr>
              <a:t>Cuando los usuarios están co-localizados o son trasladables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0458c"/>
                </a:solidFill>
                <a:latin typeface="Tahoma"/>
              </a:rPr>
              <a:t>Cuando no son muchos usuarios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0458c"/>
                </a:solidFill>
                <a:latin typeface="Tahoma"/>
              </a:rPr>
              <a:t>Cuando tengo y puedo co-localizar los recursos necesarios (salas, máquinas, instructores, asistentes).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0458c"/>
                </a:solidFill>
                <a:latin typeface="Tahoma"/>
              </a:rPr>
              <a:t>Cuando es crítico que los usuarios sepan desde el primer día manejar bien el sistema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A distancia (</a:t>
            </a:r>
            <a:r>
              <a:rPr b="1" lang="es-ES" sz="1800" spc="-1" strike="noStrike">
                <a:solidFill>
                  <a:srgbClr val="40458c"/>
                </a:solidFill>
                <a:latin typeface="Tahoma"/>
              </a:rPr>
              <a:t>e-learning</a:t>
            </a: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)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0458c"/>
                </a:solidFill>
                <a:latin typeface="Tahoma"/>
              </a:rPr>
              <a:t>Cuando los usuarios son muchos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0458c"/>
                </a:solidFill>
                <a:latin typeface="Tahoma"/>
              </a:rPr>
              <a:t>Cuando los usuarios tienen margen de tiempo para aprender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0458c"/>
                </a:solidFill>
                <a:latin typeface="Tahoma"/>
              </a:rPr>
              <a:t>Cuando los usuarios están distribuidos y no son trasladables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0458c"/>
                </a:solidFill>
                <a:latin typeface="Tahoma"/>
              </a:rPr>
              <a:t>Cuando el Quantum de tiempo diario destinado a capacitación es pequeño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… </a:t>
            </a: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y un </a:t>
            </a:r>
            <a:r>
              <a:rPr b="1" lang="es-ES" sz="1800" spc="-1" strike="noStrike">
                <a:solidFill>
                  <a:srgbClr val="40458c"/>
                </a:solidFill>
                <a:latin typeface="Tahoma"/>
              </a:rPr>
              <a:t>Mix</a:t>
            </a:r>
            <a:r>
              <a:rPr b="0" lang="es-ES" sz="1800" spc="-1" strike="noStrike">
                <a:solidFill>
                  <a:srgbClr val="40458c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21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ctividades de la Transferenc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353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Capacitación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spcAft>
                <a:spcPts val="37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Tutoriales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 basados en courseware o </a:t>
            </a: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Talleres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 usando el sistema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spcAft>
                <a:spcPts val="37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¿Cómo se puede garantizar que los usuarios son capaces de usar bien el sistema (garantizar que la capacitación fue efectiva)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spcAft>
                <a:spcPts val="37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¿Cuánto tiempo antes deben entregarse las interfaces de usuario para poder generar el material instruccional?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spcAft>
                <a:spcPts val="37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¿Cómo se va a distribuir el material didáctico?... Courseware, DVD, papel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spcAft>
                <a:spcPts val="37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…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se requiere un trabajo y un compromiso grande de los usuarios… ¿Está planificado? ¿Querrán cooperar? ¿qué pasa con mi maravilloso sistema si ellos no cooperan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spcAft>
                <a:spcPts val="37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¿Se entrena en base a comunidades de aprendizaje? ¿Quiénes supervisan y apoyan a estas comunidades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spcAft>
                <a:spcPts val="37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stas son sólo algunas de las preguntas que hay que responder…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9T15:53:33Z</dcterms:created>
  <dc:creator>Mercedario</dc:creator>
  <dc:description/>
  <dc:language>en-US</dc:language>
  <cp:lastModifiedBy>Sergio F. Ochoa</cp:lastModifiedBy>
  <dcterms:modified xsi:type="dcterms:W3CDTF">2006-10-10T12:31:18Z</dcterms:modified>
  <cp:revision>86</cp:revision>
  <dc:subject/>
  <dc:title>CC51A – Ingeniería de Software</dc:title>
</cp:coreProperties>
</file>