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4F7-5E84-4A79-AE29-C4D84575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ED6-1A0C-45B6-B5D6-00C2B712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A0B-1F62-4DCB-BEE9-9F12F805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1D4-CB8A-4224-B08A-706EFB9F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4B7C-5120-4FF3-A164-740A09AC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025A-9854-43D9-BCF2-B1CCAC98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639F-CF94-4562-96E8-B14A19E3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C812-F6FB-4E94-8227-6EC50209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DC7F-0D25-4FC7-83B6-E967E28A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50C9-A225-459F-A69B-D9AB437D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35DA-1CB2-4A8E-A460-5E97F6B9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A16-6951-4253-8727-F43C2194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EC1F-737F-4472-A8F9-D400A4E4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C250-B749-4BA0-8938-CCE0CF58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8789-D180-4847-8838-1A5B337C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C160-06C8-4FBF-84FA-CA83AF93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2319-31BB-47C3-8380-3F78A078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4AF-C24A-4A2B-A797-E53A1986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352-2AF3-4951-A2D8-1A493DA2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87F-C8C1-49B0-9FB8-6B16EF97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DD2-F8AC-4603-835D-F8E2CAD2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D788-3352-43F1-BEED-79BE5820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903-1D02-4F2D-83A7-DEAFFC30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CB0-1EB9-4D78-AEA0-25E52D36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CFC1-6BD0-443F-8D94-D2E9FDFBD20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A357-4553-4AA2-B3B8-34454EA7E6A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Puesta a Punto y Entrega del Producto (Transferenci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uesta en march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aralelo o reemplazo (ver tiempos, recursos, etapas e hitos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Paralel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hago convivir los legados con los nuevos sistem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verifico la correspondencia de datos entre ambos escenario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puedo garantizar que el código implementado (sólo) para el paralelo, está bueno y no me está metiendo errores en las BD legad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Reemplaz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va a haber incendios… Cómo los pienso apagar? En cuánto tiempo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Qué pasa si el reemplazo no funciona?. Por ejemplo, la BD colapsa durante un peak, por falta de índic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costo de volver atrás es </a:t>
            </a:r>
            <a:r>
              <a:rPr b="1" i="1" lang="es-ES" sz="2000" spc="-1" strike="noStrike">
                <a:solidFill>
                  <a:srgbClr val="40458c"/>
                </a:solidFill>
                <a:latin typeface="Tahoma"/>
              </a:rPr>
              <a:t>altísimo…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 etapa de transferencia no puede salir mal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uego de la etapa de codificación se deben entregar 2 documen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TD (Software Transfer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HD (Project History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n el STD se debería describir todo el proceso de transferenci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ara nuestros proyectos sólo consideraremos una versión simplificada del PHD (se presenta más adela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a etapa culmina con: la puesta en producción del producto, y entrega del PH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e documento se le entregará al CLIENTE, en papel, y en formato digit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ructura del documento es la sigu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1. Identificación del Proyect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la carátula del informe, compuesta p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pecificación del tipo de informe (Documento Histórico del Proyect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mbre del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Fecha de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Índice General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be mostrar el contenido del resto del documento. Los documentos incluidos en éste, como el URD, SRD, y DD, no deben llevar índices prop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1523520"/>
            <a:ext cx="8304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3. Grupo de Trabaj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ómina de todos los miembros del grupo, el rol que desempeñó cada uno, y su dirección de e-mai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4. Documentos de Análi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1. URD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2. SR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5. Documento de Diseño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 el DD con el formato establec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6. Documento de Pruebas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n las pruebas diseñadas para verificar el cumplimiento de los requisitos de software y de usuario. Este documento incluye un resumen del estado de cumplimiento d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Listado: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Id reg., tipo req., relevancia, nivel de cumplimient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7. Código Fuent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 Debe colocarse el código fuente del product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código debe estar “comentariado” como para que pueda ser manteni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ada página HTML debe tener al principio, un comentario que indique cuál es la función de ést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8. Indicaciones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Acá debe especificarse toda aquella información que sea necesaria para el normal funcionamiento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.1. Proceso de instalación d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.2. Proceso de operación de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ntrega Final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ía de la ENTREGA FINAL, cada grupo deberá entreg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Profes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odos los archivos del sistema desarrollado en formato digi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Clie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papel y 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sistema desarrollado, instalado y funcionando en una máquina indicada por el CLI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ódulos cargadores/actualizadores para alimentar la base de datos del sistema, en caso de ser neces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ítems para la reflexión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ieron los cos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y los tiemp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alidad del produ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satisfacción del client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ipo de información guardé a cerca de mi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me sirve esa información para futuros desarroll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anto depende mi empresa, del equipo de trabaj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errores más dañinos para e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 fue su orige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problemas externos que más afectaron a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voy a manejar estos problemas o debilidades durante el próximo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funcionaron los miembros del equipo de desarrollo?... Específicamente el administrador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omunicación al interior del grup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se puede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de comportó la tecnología emplead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necesito nuevas herramienta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estuvo la fase de transferenci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en que se puede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sacarle más provecho al desarrollo realizad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se puede empaquetar el produ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necesi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¿qué tanto puede mejorar mi empresa a partir de lo aprendido en este proye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7960" y="1557000"/>
            <a:ext cx="817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Etapa de Transfere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Qué Dice el Estándar de la 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ocumento Histórico del Proyecto (PH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trega Fi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rendizaje Post-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erre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volu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cto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formal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y operativo en que el esfuerzo en el proyecto concluye, y se asume un nuevo estado de las personas, recursos, organización, negocio,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ben estar claras las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condiciones de cierr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ceptación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Tipos de cierre (normal, formal, negociado, político, ...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y evaluación de la situación de término y resultados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fusión del cierre y del futuro (</a:t>
            </a: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¿cuál será nuestro rol en el proyecto implantado?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requiere la formalización correspondiente</a:t>
            </a:r>
            <a:br>
              <a:rPr sz="2800"/>
            </a:b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(actas, contratos, pag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aspectos pendientes, importancia y prior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uele haber negociación y realización de ajus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fectos futuros del proyecto (mantenimiento y/o evoluc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Nuevos proyectos surgidos a partir de éste?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0000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l término del proyecto todo ha cambi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 particular hay nuevas expectativ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l proyecto se evalúa injustam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ya no estamos en el “estado del arte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n cambiado las prior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alternativas para 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cr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fortal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os proyec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lement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formas de evaluar, formular y administrar proyectos en la organ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interno a la organización, todos estos cambios deben ayudar a fortalecer el proceso de desarrol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externo, se requiere que el desarrollador debe ser un tanto visio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tener todo esto en cuenta, desde la planificación del proyecto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Así nos va a doler menos cuando esto ocur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…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. la parte buena es que si lo hemos hecho bien, las probabilidades de quedarnos con el cliente, son altas (debido principalmente a estos cambi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Fase de Transferencia puede verse desde el punto de vista del cliente o de la empresa desarrollad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l cl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la fase más importante de todo el proyecto, ya que el cliente “espera” cosechar todo lo que ha sembrado (tiempo, dinero, compromiso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trato (soporte) que reciba el cliente durante esta fase, influye directamente sobre su nivel de satisfa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hubo problemas antes, pero está fase se hace bien, el cliente olvidará los problema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no hubo problemas antes, pero está fase se hace mal, el cliente olvidará los éxito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6080" y="1523880"/>
            <a:ext cx="8143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 la empresa desarrolladora, es la posibilidad 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el “cheque más jugoso”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Quedarme con el cl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resultados tangibles que me ayuden a mejora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gistrar Los resultados del proceso de desarrollo deben medirse y guardarse “por escrito”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iembros de cada rol deben presentar un documento que indique fortalezas y debilidades detectadas con respecto a su trabajo, y al funcionamiento colectiv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unque al finalizar el proyecto todos evitan este trabajo, la autocrítica objetiva es fundamental para la supervivencia de mi empres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 no la documento, el único perjudicado soy y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ase de transferencia lleva una nota importante en este curso…. Háganla bie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o es importante para ustedes y para el futuro d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8960" y="1599840"/>
            <a:ext cx="8375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sta fase hay varias actividades que deben ser planificadas, coordinadas, controladas y evaluad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igración de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pacitación de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uesta en marcha del nuevo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ruebas de Usuar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olección y Reparación de Err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lternativas de Implan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ertificación (marcha blanca, paralelos, etc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ierre de la situación anterior (apagar equipo, botar sistema, ..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que determinar la necesidad (y posibilidad) de vuelta atrás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78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81374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la hora de la ver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también la ocasión más clara para identificar el fracas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os mied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ifus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sistencia a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a transi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Mecanismos de “vuelta atrás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onsistencia de los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Traspasos entre siste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uplicidad en el trabaj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724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establecer un punto de quiebre, en el cual la nueva solución se transforma en definitiv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cambiar la historia dentro de una organización (típicamente asociada a sistemas antigu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haber mucha resistencia por parte de los usuarios, si no se maneja bien la implantación y la difus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280" y="1744200"/>
            <a:ext cx="8077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mo contraparte, el cliente debe firmar el documento de aceptación del produ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n eso se da por finalizada la relación contractual con el cl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... pero no 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uego de la etapa de transferencia, se debe APRENDER de proceso realiz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igración de da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anificar el trabajo (tiempos, recursos, etapas e hit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 salir mal, pues las consecuencias podrían ser catastrófic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l modelo de datos nuevo se corresponde con el legado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uáles son los procedimientos de migración de da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n qué orden se ejecutan estos procedimien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se valida la consistencia de datos en cada etapa de la migració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Quién está a cargo de cada actividad o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volvemos atrás si, después de una semana, nos damos cuenta de que la cosa no funcion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resencial, a Distancia o Mix (ver tiempos, recursos, etapas e hitos)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Presencial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co-localizados 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no son muchos usuari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tengo y puedo co-localizar los recursos necesarios (salas, máquinas, instructores, asistentes)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s crítico que los usuarios sepan desde el primer día manejar bien el sistem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 distancia (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-learning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son much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tienen margen de tiempo para aprender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distribuidos y n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l Quantum de tiempo diario destinado a capacitación es pequeño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y un 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ix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utorial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basados en courseware o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aller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usando el sistema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puede garantizar que los usuarios son capaces de usar bien el sistema (garantizar que la capacitación fue efectiva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uánto tiempo antes deben entregarse las interfaces de usuario para poder generar el material instruccional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va a distribuir el material didáctico?... Courseware, DVD, papel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e requiere un trabajo y un compromiso grande de los usuarios… ¿Está planificado? ¿Querrán cooperar? ¿qué pasa con mi maravilloso sistema si ellos no cooperan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Se entrena en base a comunidades de aprendizaje? ¿Quiénes supervisan y apoyan a estas comunidade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as son sólo algunas de las preguntas que hay que responder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6-10-10T12:31:18Z</dcterms:modified>
  <cp:revision>86</cp:revision>
  <dc:subject/>
  <dc:title>CC51A – Ingeniería de Software</dc:title>
</cp:coreProperties>
</file>