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755-05A2-4768-8710-A647F8CB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E8D-9CAB-4319-8F4B-87B9CA7D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020-DFC1-45F9-A583-EDA3881D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F84-31AE-43BE-8309-7115FC21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3546-4821-40B8-AFE0-8A659F5C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772F-08FC-40B5-8C11-E41133D5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5ED0-7408-4132-BA0F-5333DC85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79C7-E3AE-42E5-984C-A40D0363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0907-5F06-4FD3-8241-D3C571F1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2983-DAE3-4BA3-A825-7D5A6CE1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0C16-3181-4DC1-B34B-19E35536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923-A40C-4F1C-A968-D5036DF6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0F86-0374-4B6A-89C2-D088C302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471D-292E-401B-8A09-050A199A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7AF9-EA6A-4084-B1A6-9A7F79B1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A44D-05F1-4EAE-9335-A6826C68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A1CD-BEA8-42D6-B147-FAB3E293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CF3-5937-4CA3-944A-181BA98A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56F-B474-49F4-95E6-66DF1E6A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961-E5FB-4937-8F47-25F8C35D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3E0-35A0-4E17-BAEE-7F4DC35E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1C2-89A2-439E-B2CB-B68C935A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D9A-40A6-4EE3-88CF-EAECA86F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458-F4D2-4272-8218-0E18E37E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6912-9154-48A4-8576-312D638F1A4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0B6B-32E9-4FC9-A894-4AEA453D15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Por qué es importante saber entrevist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información debe capturar el entrevistador en la primera entrevi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Por qué debería grabar las entrevista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debería expresar el UR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debería expresar el SR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Tiene sentido construir 2 Documentos de Requisi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ree que las Revisiones de Software son realmente necesarias? Por qué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caso afirmativo, ¿Qué tipo de Revisión utilizaría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Ochoachoa</cp:lastModifiedBy>
  <dcterms:modified xsi:type="dcterms:W3CDTF">2001-09-24T15:27:31Z</dcterms:modified>
  <cp:revision>13</cp:revision>
  <dc:subject/>
  <dc:title>CC51A – Ingeniería de Software</dc:title>
</cp:coreProperties>
</file>