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3A8-8308-419F-8AED-6C3CD462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E23-71DA-443E-B493-E716E47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928-549A-4E63-BFEE-7B1A2D87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947-3D02-4E2F-B5EE-DBB0183D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23DB-E96E-4C5A-AA16-3AC5FFD9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706-A8E3-4DA7-BF42-7C598ACA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64E8-6AA4-492D-8E3E-475614A4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69BB-592D-476F-8222-8E3ECFF4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C14B-0F15-461D-8759-1F2BE186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BB6E-B19B-44A3-BCB6-C4ABFC23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883-8185-46D3-9016-4609E649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DA5-6EE6-4BE4-8CCA-AF9095CC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03BE-AD65-4339-8BED-CFAA476B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FCBB-7E4D-4501-976E-7B26A9C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B656-0135-46F5-97A9-60B21CDD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8E56-AF17-473E-A89A-5DF4F523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4689-FE19-4251-9BA0-6873F1DE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F4D-D370-4FD5-8967-D5BEB4F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6AE-8441-4BE0-80ED-3327A8A6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FF7-92B4-4227-89F5-BCBCA78A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0B9-0496-410C-912A-C9F62C0E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A24-EEE5-476C-B9AA-12CA1E4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3A2-D5D0-4B0F-9D64-799D3E19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C07-75A0-4D3D-92E3-A9E3E08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1056-5B80-4C8F-BFC9-DE357B12AC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5BB-3CF2-4D53-B57A-68F0E1A0A6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es importante saber entrevist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información debe capturar el entrevistador en la primera entrevi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debería grabar las entrevista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U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S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Tiene sentido construir 2 Documentos de Requisi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ree que las Revisiones de Software son realmente necesarias? 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caso afirmativo, ¿Qué tipo de Revisión utilizarí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Ochoachoa</cp:lastModifiedBy>
  <dcterms:modified xsi:type="dcterms:W3CDTF">2001-09-24T15:27:31Z</dcterms:modified>
  <cp:revision>13</cp:revision>
  <dc:subject/>
  <dc:title>CC51A – Ingeniería de Software</dc:title>
</cp:coreProperties>
</file>