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7C8C-64B8-42DF-8290-3837FE15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E488-96C5-466F-9015-940D82E3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49D-BB0E-4CBC-81E8-4D3A429D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413-FB69-4197-8936-84275BB7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DCC3-8787-45BD-82D7-EE5D1D46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12A7-A165-4A4A-9236-CCAC45C1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8D47-0496-45E5-B495-8915949D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BAAB-F0C1-47F4-958B-99E4AB64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A943-3BC5-4D93-9F11-1F8DA623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8BB9-145C-4367-AF9D-DCFC7268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5B9F-C0E3-4A9E-AE81-C3BA901F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6D1-33B1-4654-ADF2-602012AE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CCD3-7AA4-4C6E-800D-F8DA3EDA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9A9B-38E9-4B40-8BF9-6D1CDB00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C1DE-95DC-4C08-A764-D5CF0A47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FF10-314F-40DB-88A5-9403B03B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EF45-61DB-4C65-ACDB-3D8A2470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895-1A4D-4633-AF89-0EC9584E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A77E-3BBA-465E-9BBD-6331DC17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1A0-C26B-422C-8D59-867BFC73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DD2-8627-4AE2-B5A6-E35F45F7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59DC-C6F9-4AB0-B8EF-1402D1A4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8429-125F-4AD2-B26D-E4C0375F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4912-96B8-4874-B00C-0C4D305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DB65-98E2-4AF5-B78A-D7FE1785F01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F68C-BA56-43C3-944F-EBD6E548575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es importante saber entrevist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información debe capturar el entrevistador en la primera entrevi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Por qué debería grabar las entrevista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U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debería expresar el SRD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Tiene sentido construir 2 Documentos de Requisi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ree que las Revisiones de Software son realmente necesarias? Por qué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caso afirmativo, ¿Qué tipo de Revisión utilizaría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Ochoachoa</cp:lastModifiedBy>
  <dcterms:modified xsi:type="dcterms:W3CDTF">2001-09-24T15:27:31Z</dcterms:modified>
  <cp:revision>13</cp:revision>
  <dc:subject/>
  <dc:title>CC51A – Ingeniería de Software</dc:title>
</cp:coreProperties>
</file>